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3.gif" ContentType="image/gif"/>
  <Override PartName="/ppt/media/image36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BB4A-1A57-479B-9663-6034EBBDF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F37E-3647-446C-93CC-770B48E7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03CC-13C0-49F9-893D-D8A339186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6BDA-58AC-42C8-9040-E27BAFEAF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852B-62B6-42D8-A559-356A0A833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23B5-4DE3-4EE4-9847-804D82AB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7A1C-1659-4000-A72E-E0F9D719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C4F8-1B25-408C-BA2E-F76D9ADE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77D1-8445-4AEE-91DC-C07DA706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5810-28C9-4AFA-ADA7-BDD1D19E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533B-41E2-426E-A8DF-C6AC9F3A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43C3-8CFE-4814-969F-34BAE5ED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28B4-DB72-41D6-9D77-1838B86F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F8A5-5436-493F-91F4-6D6F4210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B438-0951-46EB-80FC-D8732C17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0112-1074-476A-8B16-B28175BC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7A11-0331-4F96-B379-E67EE4123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EF725-31FF-41C3-B5FE-989357848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13D55-6BB3-4E11-9D89-64291036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35A28-B361-4191-82D2-E6A08272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7DC70-1FC7-46C7-B367-2596D59D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B83C9-589B-43A4-9B69-B702230C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9990-78A1-4CA1-B848-66265E69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88CA0-4761-442C-88CE-44324B34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BC366-0311-4931-ADC6-E3EB9BEF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0B29F-C5A3-4EF5-ACEE-25E16D19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AB77E-8947-42CD-B0F1-5286B240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5772D-EAA8-4B2A-BE1D-5F1D41F4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49BC5-5D13-44E2-BF82-B32834424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65CAE-4DB7-4E23-8331-067D3E739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BEFBE-74E8-4FC1-8377-11090B56B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7D91D-AE71-477B-B04F-31F74E79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08497-944D-4852-B02A-87DE3467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5BA6-D569-4474-8698-157B6F6A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05C36-E394-4967-BE79-CEA4B006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00084-A2E5-4D9A-8FF5-C47116C4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CC87B-859B-4CD7-8AA6-FD6B9F40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04F7E-9CE7-4BCD-974C-49D5356A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16D3E-5200-40FD-A93B-8499CB77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B72A4-A9BA-4798-9FAB-D9F5B30F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CE519-23C6-4D22-BFC9-3D455F20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575F4-9D8C-474D-B9C2-63150438D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E10B4-8502-4B6B-B248-3786EC015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3E565-2A23-49DF-BFAF-B78D4624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8D53-AA85-4B20-A9FC-2542B18A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D1E7E-A698-4C90-AF18-1E66D9D9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84949-CBE5-4F08-93A5-1AB492EA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1ED93-BA7A-4866-8DA2-03ED20A9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8390E-7D84-442E-9E34-070BA4B9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4F0F7-A38C-4FAD-B086-1FDF21E3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1E236-F25F-4C4A-A319-0B5CCE3D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7E189-9448-4C64-BC80-EA26F6AD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300F0-7472-4942-BB8F-A7968F90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99354-1BDB-463A-9D8C-2E3FE8E1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83477-C5CF-4A28-8382-9FB91F742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BCBB-569E-425A-846D-D5038CC6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A25A1-AE41-462C-B99D-3E365A287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2D238-F61D-47F0-A059-E7848ED95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70C19-FE7F-4958-BF76-47B4D717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3C6EB-079B-4E18-925B-96B80745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A8A6E-85F7-46C9-8B8B-64729A3F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FF014-3A33-4269-B370-A8C71DA9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EC9C5-E29D-49CA-BB32-1E09C380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997D5-6163-4003-B19F-B6E32B0B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80B27-3FA5-426B-8467-81A002C1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1407E-8673-447E-A47B-C72AEB06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F2F4-7EC2-4920-AAF9-F6063490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AE514-E4E5-49C1-967E-78CD5882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270E0-C55E-4748-8FE2-AFA2C9002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D5644-22AD-4781-BCED-C618202C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0803E-3AFB-4072-BBBC-6BDFFB7DF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5D515-D5EA-4A44-8F3C-E2EA3ACD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980F1-FFEE-4FCF-A6F7-D78436DE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56028-3BCD-4924-807B-21B46ADB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EC60A-E2C1-4E30-9FE6-037EB24D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31E19-EC8E-443D-A10C-E058B29F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00DFE-AF7D-401D-A277-26B23D75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B1FC-6076-4EB1-A359-1FDF2E82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281E2-F357-41CA-B0F7-72A95C9B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3C30C-128C-472A-A221-04D83577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1A892-4664-4D00-B715-D7DCBC2A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07E2C-1A56-44E1-ADCC-DE30FE3B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38516-27ED-4D52-9475-9ECA2878E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269BE7-7FC6-4D1A-95E7-A05FA980A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C11DD5-A31D-4DD3-BD93-49ED48EA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9F31EA-9140-45D6-AFCD-F75D0ADD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D5CC59-F7F8-47CB-BA75-7077CF73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FB68FF-403F-47E5-828B-C1CD355A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1B11-45A5-4654-8031-A06F3EDC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22C83F-19D9-4DC5-876B-60C053DB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CC1E0D-7D51-4667-B9EE-6D909910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BBF439-1B23-40CB-8B92-D9157C42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E58DAA-A54D-469D-9640-07B5BB26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D7F449-E6F5-4798-A4D2-BAC8C422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0A0C52-AD8A-4046-8424-85DEA8319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ADFCC4-3AE0-465A-BD02-19ACE4C5B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94BB-8BA1-4CF8-8921-F223DE56A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E840-E8F0-4C20-B1EA-DA2866F32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79B6-E5D7-49F8-B025-C1C5C9C71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0195-A725-42C2-BAD6-22D6B1EE1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3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4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5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0EB3-6DC6-4FB2-B797-5C6792C69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0D6C-CE46-40BC-93D3-724303FF3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4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48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50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5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C7A6-E5F2-4D5E-A9B4-D591188EFE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05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09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11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18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13D9-6F5E-4928-9D82-0557DB75DE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" Target="slide1.xml"/><Relationship Id="rId5" Type="http://schemas.openxmlformats.org/officeDocument/2006/relationships/image" Target="../media/image33.gif"/><Relationship Id="rId6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3.gif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 rot="6076800">
            <a:off x="5051160" y="2589120"/>
            <a:ext cx="441972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紫藤萝瀑布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65" name=""/>
          <p:cNvSpPr txBox="1"/>
          <p:nvPr/>
        </p:nvSpPr>
        <p:spPr>
          <a:xfrm rot="6346800">
            <a:off x="7266240" y="4918680"/>
            <a:ext cx="1341360" cy="641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宗璞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M000000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M000000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M000000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M000000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M00000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M000002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M000001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M000001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M000001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967280" y="380880"/>
            <a:ext cx="4176720" cy="5761080"/>
          </a:xfrm>
          <a:prstGeom prst="rect">
            <a:avLst/>
          </a:prstGeom>
          <a:ln w="0">
            <a:noFill/>
          </a:ln>
        </p:spPr>
      </p:pic>
      <p:pic>
        <p:nvPicPr>
          <p:cNvPr id="394" name="作家宗璞" descr=""/>
          <p:cNvPicPr/>
          <p:nvPr/>
        </p:nvPicPr>
        <p:blipFill>
          <a:blip r:embed="rId3"/>
          <a:stretch/>
        </p:blipFill>
        <p:spPr>
          <a:xfrm>
            <a:off x="0" y="1295280"/>
            <a:ext cx="5905440" cy="50421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228600" y="685800"/>
            <a:ext cx="2362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作者介绍：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96" name=""/>
          <p:cNvSpPr/>
          <p:nvPr/>
        </p:nvSpPr>
        <p:spPr>
          <a:xfrm>
            <a:off x="762120" y="182880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  <a:ea typeface="隶书"/>
              </a:rPr>
              <a:t>宗璞，原名冯钟璞，出生于</a:t>
            </a:r>
            <a:r>
              <a:rPr b="1" lang="en-US" sz="4000" spc="-1" strike="noStrike">
                <a:solidFill>
                  <a:srgbClr val="800080"/>
                </a:solidFill>
                <a:latin typeface="Times New Roman"/>
                <a:ea typeface="隶书"/>
              </a:rPr>
              <a:t>1928</a:t>
            </a:r>
            <a:r>
              <a:rPr b="1" lang="en-US" sz="4000" spc="-1" strike="noStrike">
                <a:solidFill>
                  <a:srgbClr val="800080"/>
                </a:solidFill>
                <a:latin typeface="Times New Roman"/>
                <a:ea typeface="隶书"/>
              </a:rPr>
              <a:t>年，祖籍河南南阳。是一代宗师冯友兰之女。她的第一篇小说是《红豆》。后来又有短篇小说《弦上的梦》中篇小说《三生石》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7" name="4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229600" y="5600880"/>
            <a:ext cx="91440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shiliu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3529080" cy="38876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851280" y="2297880"/>
            <a:ext cx="504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牡丹花大而艳丽，一向被人们视为富贵昌盛的象征。传说我国第一们女皇武则天洒后醉言，下令百花于隆冬时节同时盛开，诸花不敢违抗，唯独牡丹抗旨未放，显示出坚贞的气节，武则天一怒之下，将牡丹贬谪洛阳。牡丹却因此赢得更多人的喜爱与赞赏。至今，洛阳的牡丹仍极富盛名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牡丹花色丰富，喻意不尽相同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红色的牡丹花：我将珍惜你的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粉色的牡丹花：相信我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白色的牡丹花；珍重你自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48706" descr=""/>
          <p:cNvPicPr/>
          <p:nvPr/>
        </p:nvPicPr>
        <p:blipFill>
          <a:blip r:embed="rId2"/>
          <a:stretch/>
        </p:blipFill>
        <p:spPr>
          <a:xfrm>
            <a:off x="1547640" y="836640"/>
            <a:ext cx="5977080" cy="410508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3205440" y="594900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宗璞在病榻前伺候老父冯友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311640" y="6922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华文行楷"/>
              </a:rPr>
              <a:t>探究文意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8600" y="1600200"/>
            <a:ext cx="8532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初探感情：面对紫藤萝花的盛开与凋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                  </a:t>
            </a:r>
            <a:r>
              <a:rPr b="0" lang="en-US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两种不同的情景，他的感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                  </a:t>
            </a:r>
            <a:r>
              <a:rPr b="0" lang="en-US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相同吗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4920" y="3745080"/>
            <a:ext cx="8064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盛开</a:t>
            </a:r>
            <a:r>
              <a:rPr b="0" lang="en-US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----</a:t>
            </a:r>
            <a:r>
              <a:rPr b="0" lang="en-US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欢笑、热闹、喜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(</a:t>
            </a:r>
            <a:r>
              <a:rPr b="0" lang="en-US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感情</a:t>
            </a:r>
            <a:r>
              <a:rPr b="0" lang="en-US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----</a:t>
            </a:r>
            <a:r>
              <a:rPr b="0" lang="en-US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惊喜</a:t>
            </a:r>
            <a:r>
              <a:rPr b="0" lang="en-US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凋零</a:t>
            </a:r>
            <a:r>
              <a:rPr b="0" lang="en-US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----</a:t>
            </a:r>
            <a:r>
              <a:rPr b="0" lang="en-US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稀落、伶仃、遗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(</a:t>
            </a:r>
            <a:r>
              <a:rPr b="0" lang="en-US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感情</a:t>
            </a:r>
            <a:r>
              <a:rPr b="0" lang="en-US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----</a:t>
            </a:r>
            <a:r>
              <a:rPr b="0" lang="en-US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遗憾、失落</a:t>
            </a:r>
            <a:r>
              <a:rPr b="0" lang="en-US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684360" y="1628640"/>
            <a:ext cx="7920000" cy="33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66"/>
                </a:solidFill>
                <a:latin typeface="Arial"/>
                <a:ea typeface="楷体_GB2312"/>
              </a:rPr>
              <a:t>朗读方法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盛开时：语调轻快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凋零时：语调低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90000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321017" fill="hold"/>
                                        <p:tgtEl>
                                          <p:spTgt spid="4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187280" y="549360"/>
            <a:ext cx="7274160" cy="27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发现问题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  <a:ea typeface="华文新魏"/>
              </a:rPr>
              <a:t>紫藤萝花的盛开、凋零后面，是否隐藏着作者的一些人生经历？花的由衰到盛表现作者什么意图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  <a:ea typeface="华文新魏"/>
              </a:rPr>
              <a:t>文中对花的描写特别精彩，为什么会有这样的效果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  <a:ea typeface="华文新魏"/>
              </a:rPr>
              <a:t>课文的结尾“我不觉加快了脚步”去干什么？这句话好象还有什么作用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4" descr=""/>
          <p:cNvPicPr/>
          <p:nvPr/>
        </p:nvPicPr>
        <p:blipFill>
          <a:blip r:embed="rId1"/>
          <a:stretch/>
        </p:blipFill>
        <p:spPr>
          <a:xfrm>
            <a:off x="8229600" y="5600880"/>
            <a:ext cx="914400" cy="12571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3851280" y="1700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cc"/>
                </a:solidFill>
                <a:latin typeface="Times New Roman"/>
                <a:ea typeface="隶书"/>
              </a:rPr>
              <a:t>看花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55640" y="21337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停住脚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12000" y="21337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加快了脚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24360" y="2708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cc"/>
                </a:solidFill>
                <a:latin typeface="Times New Roman"/>
                <a:ea typeface="隶书"/>
              </a:rPr>
              <a:t>忆花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24360" y="378936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cc"/>
                </a:solidFill>
                <a:latin typeface="Times New Roman"/>
                <a:ea typeface="隶书"/>
              </a:rPr>
              <a:t>思花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1692360" y="3284640"/>
            <a:ext cx="5867280" cy="1295280"/>
            <a:chOff x="1692360" y="3284640"/>
            <a:chExt cx="5867280" cy="1295280"/>
          </a:xfrm>
        </p:grpSpPr>
        <p:grpSp>
          <p:nvGrpSpPr>
            <p:cNvPr id="413" name=""/>
            <p:cNvGrpSpPr/>
            <p:nvPr/>
          </p:nvGrpSpPr>
          <p:grpSpPr>
            <a:xfrm>
              <a:off x="1692360" y="3284640"/>
              <a:ext cx="5867280" cy="1295280"/>
              <a:chOff x="1692360" y="3284640"/>
              <a:chExt cx="5867280" cy="1295280"/>
            </a:xfrm>
          </p:grpSpPr>
          <p:sp>
            <p:nvSpPr>
              <p:cNvPr id="414" name=""/>
              <p:cNvSpPr/>
              <p:nvPr/>
            </p:nvSpPr>
            <p:spPr>
              <a:xfrm>
                <a:off x="1692360" y="3284640"/>
                <a:ext cx="0" cy="1295280"/>
              </a:xfrm>
              <a:prstGeom prst="line">
                <a:avLst/>
              </a:prstGeom>
              <a:ln w="63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692360" y="4579920"/>
                <a:ext cx="5867280" cy="0"/>
              </a:xfrm>
              <a:prstGeom prst="line">
                <a:avLst/>
              </a:prstGeom>
              <a:ln w="63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 flipV="1">
              <a:off x="7559640" y="3360240"/>
              <a:ext cx="0" cy="121932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3708360" y="242100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492360" y="5229360"/>
            <a:ext cx="187668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前后呼应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19" name=""/>
          <p:cNvSpPr txBox="1"/>
          <p:nvPr/>
        </p:nvSpPr>
        <p:spPr>
          <a:xfrm rot="5400000">
            <a:off x="2476080" y="3003480"/>
            <a:ext cx="1643040" cy="477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00ffcc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层层深入</a:t>
            </a:r>
            <a:endParaRPr b="1" lang="en-US" sz="2400" spc="1" strike="noStrike">
              <a:ln w="9360">
                <a:solidFill>
                  <a:srgbClr val="993366"/>
                </a:solidFill>
                <a:miter/>
              </a:ln>
              <a:solidFill>
                <a:srgbClr val="00ffcc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20" name=""/>
          <p:cNvSpPr/>
          <p:nvPr/>
        </p:nvSpPr>
        <p:spPr>
          <a:xfrm>
            <a:off x="539640" y="404640"/>
            <a:ext cx="36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华文彩云"/>
              </a:rPr>
              <a:t>文章结构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4" descr=""/>
          <p:cNvPicPr/>
          <p:nvPr/>
        </p:nvPicPr>
        <p:blipFill>
          <a:blip r:embed="rId2"/>
          <a:stretch/>
        </p:blipFill>
        <p:spPr>
          <a:xfrm>
            <a:off x="8229600" y="5600880"/>
            <a:ext cx="914400" cy="12571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1066680" y="1447920"/>
            <a:ext cx="7696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57200" y="45720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主题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4" name="button13" descr=""/>
          <p:cNvPicPr/>
          <p:nvPr/>
        </p:nvPicPr>
        <p:blipFill>
          <a:blip r:embed="rId3"/>
          <a:stretch/>
        </p:blipFill>
        <p:spPr>
          <a:xfrm>
            <a:off x="468360" y="19890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900000" y="1916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本文通过紫藤萝瀑布的描绘及一株紫藤萝的遭遇的记叙，抒发了自己对生命的顽强和美好的赞扬之情，表达了自己焦虑的精神宁静的心情及对生命永恒的领悟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拓展阅读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24000" y="2565360"/>
            <a:ext cx="854064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在你的生活中，有没有可以印证“花和人都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遇到各种各样的不幸，但是，生命的长河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无止境的”这句话的经历或见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533520" y="457200"/>
            <a:ext cx="152388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词语：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429" name=""/>
          <p:cNvSpPr/>
          <p:nvPr/>
        </p:nvSpPr>
        <p:spPr>
          <a:xfrm>
            <a:off x="609480" y="16765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迸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692440" y="16765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繁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775040" y="16765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稀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0" y="16765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伶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33520" y="31240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发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19520" y="3048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挑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逗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00600" y="29718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绽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781680" y="30481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伫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44956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忍俊不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44956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仙露琼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91320" y="449568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盘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虬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卧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0" name="4" descr=""/>
          <p:cNvPicPr/>
          <p:nvPr/>
        </p:nvPicPr>
        <p:blipFill>
          <a:blip r:embed="rId1"/>
          <a:stretch/>
        </p:blipFill>
        <p:spPr>
          <a:xfrm>
            <a:off x="8229600" y="5600880"/>
            <a:ext cx="914400" cy="125712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685800" y="228600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èn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23623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īn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666880" y="3657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iǎ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800600" y="365760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zh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4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705720" y="3657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zh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828800" y="5105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jī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95880" y="51814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i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h13_jpg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3611520"/>
          </a:xfrm>
          <a:prstGeom prst="rect">
            <a:avLst/>
          </a:prstGeom>
          <a:ln w="0">
            <a:noFill/>
          </a:ln>
        </p:spPr>
      </p:pic>
      <p:pic>
        <p:nvPicPr>
          <p:cNvPr id="369" name="h02_jpg" descr="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3557520"/>
          </a:xfrm>
          <a:prstGeom prst="rect">
            <a:avLst/>
          </a:prstGeom>
          <a:ln w="0">
            <a:noFill/>
          </a:ln>
        </p:spPr>
      </p:pic>
      <p:pic>
        <p:nvPicPr>
          <p:cNvPr id="370" name="h04_jpg" descr=""/>
          <p:cNvPicPr/>
          <p:nvPr/>
        </p:nvPicPr>
        <p:blipFill>
          <a:blip r:embed="rId4"/>
          <a:stretch/>
        </p:blipFill>
        <p:spPr>
          <a:xfrm>
            <a:off x="4427640" y="3573360"/>
            <a:ext cx="4716360" cy="3284640"/>
          </a:xfrm>
          <a:prstGeom prst="rect">
            <a:avLst/>
          </a:prstGeom>
          <a:ln w="0">
            <a:noFill/>
          </a:ln>
        </p:spPr>
      </p:pic>
      <p:pic>
        <p:nvPicPr>
          <p:cNvPr id="371" name="h10_jpg" descr=""/>
          <p:cNvPicPr/>
          <p:nvPr/>
        </p:nvPicPr>
        <p:blipFill>
          <a:blip r:embed="rId5"/>
          <a:stretch/>
        </p:blipFill>
        <p:spPr>
          <a:xfrm>
            <a:off x="0" y="3573360"/>
            <a:ext cx="450072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gl041t01" descr=""/>
          <p:cNvPicPr/>
          <p:nvPr/>
        </p:nvPicPr>
        <p:blipFill>
          <a:blip r:embed="rId2"/>
          <a:stretch/>
        </p:blipFill>
        <p:spPr>
          <a:xfrm>
            <a:off x="4154400" y="0"/>
            <a:ext cx="5024520" cy="5805360"/>
          </a:xfrm>
          <a:prstGeom prst="rect">
            <a:avLst/>
          </a:prstGeom>
          <a:ln w="0">
            <a:noFill/>
          </a:ln>
        </p:spPr>
      </p:pic>
      <p:pic>
        <p:nvPicPr>
          <p:cNvPr id="373" name="1010979831_ly3" descr=""/>
          <p:cNvPicPr/>
          <p:nvPr/>
        </p:nvPicPr>
        <p:blipFill>
          <a:blip r:embed="rId3"/>
          <a:stretch/>
        </p:blipFill>
        <p:spPr>
          <a:xfrm>
            <a:off x="-36360" y="0"/>
            <a:ext cx="41814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5148360" y="5907240"/>
            <a:ext cx="33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腊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105" descr=""/>
          <p:cNvPicPr/>
          <p:nvPr/>
        </p:nvPicPr>
        <p:blipFill>
          <a:blip r:embed="rId2"/>
          <a:stretch/>
        </p:blipFill>
        <p:spPr>
          <a:xfrm>
            <a:off x="-109440" y="-171360"/>
            <a:ext cx="5618160" cy="4095720"/>
          </a:xfrm>
          <a:prstGeom prst="rect">
            <a:avLst/>
          </a:prstGeom>
          <a:ln w="0">
            <a:noFill/>
          </a:ln>
        </p:spPr>
      </p:pic>
      <p:pic>
        <p:nvPicPr>
          <p:cNvPr id="376" name="72" descr=""/>
          <p:cNvPicPr/>
          <p:nvPr/>
        </p:nvPicPr>
        <p:blipFill>
          <a:blip r:embed="rId3"/>
          <a:stretch/>
        </p:blipFill>
        <p:spPr>
          <a:xfrm>
            <a:off x="5278320" y="0"/>
            <a:ext cx="3895920" cy="6858000"/>
          </a:xfrm>
          <a:prstGeom prst="rect">
            <a:avLst/>
          </a:prstGeom>
          <a:ln w="0">
            <a:noFill/>
          </a:ln>
        </p:spPr>
      </p:pic>
      <p:pic>
        <p:nvPicPr>
          <p:cNvPr id="377" name="35" descr=""/>
          <p:cNvPicPr/>
          <p:nvPr/>
        </p:nvPicPr>
        <p:blipFill>
          <a:blip r:embed="rId4"/>
          <a:stretch/>
        </p:blipFill>
        <p:spPr>
          <a:xfrm>
            <a:off x="1440" y="3716280"/>
            <a:ext cx="5291280" cy="314172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6300720" y="5950080"/>
            <a:ext cx="23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丁香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2yue%20new" descr=""/>
          <p:cNvPicPr/>
          <p:nvPr/>
        </p:nvPicPr>
        <p:blipFill>
          <a:blip r:embed="rId2"/>
          <a:stretch/>
        </p:blipFill>
        <p:spPr>
          <a:xfrm>
            <a:off x="0" y="108576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jcyj2" descr=""/>
          <p:cNvPicPr/>
          <p:nvPr/>
        </p:nvPicPr>
        <p:blipFill>
          <a:blip r:embed="rId2"/>
          <a:stretch/>
        </p:blipFill>
        <p:spPr>
          <a:xfrm>
            <a:off x="0" y="0"/>
            <a:ext cx="7389720" cy="68580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7740720" y="189000"/>
            <a:ext cx="93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紫藤萝花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M00000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M00000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14:12:18Z</dcterms:created>
  <dc:creator>wutao</dc:creator>
  <dc:description/>
  <dc:language>en-US</dc:language>
  <cp:lastModifiedBy>周璟</cp:lastModifiedBy>
  <dcterms:modified xsi:type="dcterms:W3CDTF">2004-09-30T03:35:40Z</dcterms:modified>
  <cp:revision>100</cp:revision>
  <dc:subject/>
  <dc:title>PowerPoint 演示文稿</dc:title>
</cp:coreProperties>
</file>