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B3C-DDD3-4A1D-AC8B-3DE392BF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4D4-F055-4BCD-A422-D3855FB6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CB3-0952-489E-9224-D86E6D0B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572-55F9-4AA7-B110-9BB7A785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DE12-CCC8-4518-BA82-D4956931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0E45-2F7B-4A96-ABE2-A8902C52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F10A-03DC-426D-9670-39E35B43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3899-D6ED-4BEA-AFDE-DD1FC437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6FC4-951B-4CB3-8F11-7E021220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2F27-AB68-454C-B8A9-5AA9D01B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B075-804C-4475-9E33-BBA259F8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DC1-78B5-4B1A-BC6F-C9F692C1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A2F1-E331-47CB-B4CF-843F3BBF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85A2-0911-411B-ABEE-86B29FCD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D06C-23A1-46E9-AC7C-178C05A5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D58D-0F4F-47E6-B820-2768BCF2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50D7-B809-416F-9A8B-C2D8A320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461-949B-4245-B6C0-2D65F056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F88-F26D-468A-AFC3-FA22635D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989F-7EA0-4DBD-858F-15EF30A1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59C-900F-4EC7-85AD-F69D212B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879-22D7-402C-93A5-A29E0CDB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168-04EA-412E-9005-672B2283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E1C-5F6C-456C-8529-0AC8E1B0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6D38-0220-4753-9BF0-2AFD0AFD6FB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D418-126D-41EE-AA8F-781A3B4DBDF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057400" y="2971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   “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我在开花”它们在笑。“我在开花”它们嚷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09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ahoma"/>
              </a:rPr>
              <a:t>运用拟人手法，生动地表现出花的童稚和欢乐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香气也是浅紫色的，梦幻一般轻轻地笼罩着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54100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ahoma"/>
              </a:rPr>
              <a:t>这用通感的修辞，使无形的香味化成有形的颜色，具体地表现花香带给作者那种飘渺轻柔的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6094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花朵儿一串挨着一串，一朵接着一朵，彼此推着挤着，好不活泼热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1752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ahoma"/>
              </a:rPr>
              <a:t>运用拟人手法，生动地表现出花的勃勃生机和烂漫情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09680" y="19051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四  理解课文，揣摩作者的思想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3048120"/>
            <a:ext cx="678204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者借紫藤萝瀑布，表达情意，你能找出一两个句子来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你能用自己的话概括全文的主旨来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90920" y="0"/>
            <a:ext cx="38862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接受挑战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3041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32767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紫藤萝瀑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长春蔓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长春蔓" descr=""/>
          <p:cNvPicPr/>
          <p:nvPr/>
        </p:nvPicPr>
        <p:blipFill>
          <a:blip r:embed="rId2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828800" y="838080"/>
            <a:ext cx="6629400" cy="346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latin typeface="宋体"/>
              </a:rPr>
              <a:t>紫藤萝瀑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4346640" y="3657600"/>
            <a:ext cx="850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f01"/>
                </a:solidFill>
                <a:latin typeface="Times New Roman"/>
                <a:ea typeface="华文行楷"/>
              </a:rPr>
              <a:t>宗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云中峭壁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685800"/>
            <a:ext cx="167652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81080"/>
            <a:ext cx="167652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习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76720"/>
            <a:ext cx="167652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167652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堂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248520"/>
            <a:ext cx="175248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标检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长春蔓" descr=""/>
          <p:cNvPicPr/>
          <p:nvPr/>
        </p:nvPicPr>
        <p:blipFill>
          <a:blip r:embed="rId2"/>
          <a:stretch/>
        </p:blipFill>
        <p:spPr>
          <a:xfrm>
            <a:off x="3733920" y="0"/>
            <a:ext cx="3120840" cy="3200400"/>
          </a:xfrm>
          <a:prstGeom prst="rect">
            <a:avLst/>
          </a:prstGeom>
          <a:ln w="0">
            <a:noFill/>
          </a:ln>
        </p:spPr>
      </p:pic>
      <p:pic>
        <p:nvPicPr>
          <p:cNvPr id="110" name="长春蔓" descr=""/>
          <p:cNvPicPr/>
          <p:nvPr/>
        </p:nvPicPr>
        <p:blipFill>
          <a:blip r:embed="rId3"/>
          <a:stretch/>
        </p:blipFill>
        <p:spPr>
          <a:xfrm>
            <a:off x="6553080" y="0"/>
            <a:ext cx="25909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长春蔓" descr=""/>
          <p:cNvPicPr/>
          <p:nvPr/>
        </p:nvPicPr>
        <p:blipFill>
          <a:blip r:embed="rId4"/>
          <a:stretch/>
        </p:blipFill>
        <p:spPr>
          <a:xfrm>
            <a:off x="1752480" y="0"/>
            <a:ext cx="31212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长春蔓" descr=""/>
          <p:cNvPicPr/>
          <p:nvPr/>
        </p:nvPicPr>
        <p:blipFill>
          <a:blip r:embed="rId5"/>
          <a:stretch/>
        </p:blipFill>
        <p:spPr>
          <a:xfrm>
            <a:off x="4800600" y="3200400"/>
            <a:ext cx="1828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bayarea-01idx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520" y="2514600"/>
            <a:ext cx="861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写作背景简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宗璞一家，在“文化大革命”中深受迫害，“焦虑和悲痛”“一直压在”作者的心头。这篇文章写于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1982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年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月，当时作者的小弟身患绝症，作者非常悲痛（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1982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年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月小弟病逝），徘徊于庭院中，见一树盛开的紫藤萝花，睹物释怀，由花儿自衰到盛，感悟到生的美好和生命的永恒，于是写成此文</a:t>
            </a: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宗璞     女作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6960" y="1752480"/>
            <a:ext cx="7898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2057400"/>
            <a:ext cx="5867640" cy="9471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朗读课文，思考课文从哪几个方面     描写盛开的紫藤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685800"/>
            <a:ext cx="5562720" cy="459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工具书，掌握新词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41911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3886200"/>
            <a:ext cx="5638680" cy="4597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理解课文，揣摩作者的思想感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5334120"/>
            <a:ext cx="571500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品味文中优美的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5280" y="10666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华文行楷"/>
              </a:rPr>
              <a:t>检查预习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680" y="243036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981080"/>
            <a:ext cx="8610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33cc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</a:rPr>
              <a:t>给下面加点的字注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    ）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落（     ）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仃（    ） 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仙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浆（     ）   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卧龙（    ）  忍俊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ji</a:t>
            </a:r>
            <a:r>
              <a:rPr b="0" lang="en-US" sz="2400" spc="-1" strike="noStrike">
                <a:solidFill>
                  <a:srgbClr val="ff0000"/>
                </a:solidFill>
                <a:latin typeface="zypyyb"/>
                <a:ea typeface="zypyyb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x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lí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7240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ì</a:t>
            </a:r>
            <a:r>
              <a:rPr b="0" lang="en-US" sz="2400" spc="-1" strike="noStrike">
                <a:solidFill>
                  <a:srgbClr val="ff0000"/>
                </a:solidFill>
                <a:latin typeface="zypyyb"/>
                <a:ea typeface="zypyyb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3124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qió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1240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qi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3124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jī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886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</a:rPr>
              <a:t>2  </a:t>
            </a:r>
            <a:r>
              <a:rPr b="0" lang="zh-CN" sz="2400" spc="-1" strike="noStrike">
                <a:solidFill>
                  <a:srgbClr val="ff33cc"/>
                </a:solidFill>
                <a:latin typeface="Tahoma"/>
              </a:rPr>
              <a:t>找出文中的一个比喻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6483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只见一片辉煌的淡紫色，像一条瀑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每一朵盛开的花像是一个张满了的小小的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9144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99"/>
                </a:solidFill>
                <a:latin typeface="Tahoma"/>
                <a:ea typeface="华文行楷"/>
              </a:rPr>
              <a:t>教学过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209680"/>
            <a:ext cx="78487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朗读课文，思考问题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   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作者是从哪几个方面描写盛开的紫藤萝花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2   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课文用了哪几种修辞方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12193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二    讨论下面的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3623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  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作者是从哪几个方面描写盛开的紫藤萝花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28954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看花   忆花   思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ahoma"/>
              </a:rPr>
              <a:t>花瀑        花穗         花朵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35053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</a:rPr>
              <a:t>我喜悦     花受难      又生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962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</a:rPr>
              <a:t>感悟到生命的美好和永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5720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课文用了哪几种修辞方法？举例说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029200"/>
            <a:ext cx="58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比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拟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比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38280" y="7621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三   揣摩下列各句，体会写景的妙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19051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从未见过开得这样盛的藤萝，只见一片辉煌的淡紫色，像一条瀑布，从空中垂下，不见其发端，也不见其终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3352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ahoma"/>
              </a:rPr>
              <a:t>将花喻为“瀑”形象地表现了花之繁茂，隐含了生命的绵延长远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419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只是深深浅浅的紫，仿佛在流动，在欢笑，在不停地生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ahoma"/>
              </a:rPr>
              <a:t>用“流动”“欢笑”“生长”等动词，使静态的花色跃动起来。表现出花的生趣盎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58672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6:12:26Z</dcterms:created>
  <dc:creator>wutao</dc:creator>
  <dc:description/>
  <dc:language>en-US</dc:language>
  <cp:lastModifiedBy>周璟</cp:lastModifiedBy>
  <dcterms:modified xsi:type="dcterms:W3CDTF">2004-09-30T03:40:00Z</dcterms:modified>
  <cp:revision>100</cp:revision>
  <dc:subject/>
  <dc:title>PowerPoint 演示文稿</dc:title>
</cp:coreProperties>
</file>