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8.gif" ContentType="image/gif"/>
  <Override PartName="/ppt/media/image4.jpeg" ContentType="image/jpeg"/>
  <Override PartName="/ppt/media/image2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CDA-113E-4792-89B7-E804FB3B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73C4-171B-4A83-B852-06CA9BC3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2A8-6E74-438A-B7CE-1E4031C9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933-B431-4D60-9384-50713E74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EF3-C7C5-4917-BA08-D6F95B61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D08-3FD6-4964-8F3F-7EB88100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057-83E9-4301-824A-23EA179C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30D-9138-4DD3-B075-D2107A94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0B9-CC46-4539-AD15-C7333B80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D97-CC47-47F0-95AC-4FCD4495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23E-36EE-4F1F-8BCA-7316EF0E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282-922A-4EDD-874C-A656AAEC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0873-F3DC-4916-825B-67ADEAC5E1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82480" y="914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秀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36640" y="7826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98108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题目为什么要加上“瀑布”？   （说明花开得怎样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zite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f8f7"/>
                </a:solidFill>
                <a:latin typeface="Times New Roman"/>
                <a:ea typeface="_x000b__x000c_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宗璞一家，在文化大革命中深受迫害，“焦虑和悲痛”“一直压在”作者的心上。这篇文章写于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98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月，当时作者的小弟身患绝症，作者非常悲痛，徘徊于庭院中，见一树盛开的紫藤萝花，睹物释怀，由花儿自衰到盛，感悟到生的美好和生命的永恒，于是写成此文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5240" y="393840"/>
            <a:ext cx="5280120" cy="1218960"/>
          </a:xfrm>
          <a:prstGeom prst="horizontalScrol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宗璞《哭小弟》片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9320" y="2514600"/>
            <a:ext cx="7007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是他去了，过早地去了。这一年多，真像是个梦，是个永远不能令人相信的梦。我总觉得他还会回来，从我们那冬夏一律显得十分荒凉的后院走到我窗下，叫一声“小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------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6008f"/>
            </a:gs>
            <a:gs pos="100000">
              <a:srgbClr val="0b00e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       “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这些时一直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压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在我心上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焦虑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悲痛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哭小弟，哭他那在剧痛中还拿着那本航空资料“想再看看”……我也哭蒋筑英抱病奔波，客殇成都；我也哭罗健夫不肯一个人坐一辆汽车！我还要哭那些没有见诸报章的过早离去的我的同辈人。他们几经雪欺霜冻，好不容易奋斗着张开几片花瓣，尚未盛开，就骤然凋谢。我哭我们这迟开而早谢的一代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95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4495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结构脉络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3657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（一）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看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（二）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忆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（三）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悟花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233360"/>
            <a:ext cx="8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113364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隶书"/>
              </a:rPr>
              <a:t>花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7920" y="16542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隶书"/>
              </a:rPr>
              <a:t>花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7920" y="217656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隶书"/>
              </a:rPr>
              <a:t>花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244680"/>
            <a:ext cx="8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0481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赏花的感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3733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忆花的劫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419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颂花的生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57150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隶书"/>
              </a:rPr>
              <a:t>生命长河无止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6858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我不由得停住了脚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362320"/>
            <a:ext cx="8458200" cy="1008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从侧面烘托出紫藤花引人止步，眩人眼目的美丽，也引出下文，照应结尾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57400" y="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从哪几个方面描写盛开的紫藤萝树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700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240" y="14479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240" y="32767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5600" y="5562720"/>
            <a:ext cx="12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1203480"/>
            <a:ext cx="746748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一片辉煌淡紫色、深深浅浅的紫、紫色的大条幅上，泛着点点银光，就像迸溅的水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124080"/>
            <a:ext cx="75438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一条瀑布，从空中垂下，不见其发端，也不见其终极。一树闪光的、盛开的藤萝。花朵儿一串挨着一串，一朵接着一朵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952880"/>
            <a:ext cx="73911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仿佛在流动，在欢笑，在不停地生长。在和阳光互相挑逗，彼此推着挤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FR_040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90920" y="1676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143000"/>
            <a:ext cx="61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作者为什么把花香说成 “ 似乎也是淡紫色的，梦幻一般轻轻地笼罩着我 ” 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867040"/>
            <a:ext cx="55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7432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香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97180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27432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梦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743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（嗅觉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743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（幻觉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581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通感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6360" y="3657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即人的感觉相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3720" y="4572000"/>
            <a:ext cx="75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作用：使语言更加清新、活泼、灵动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95480" y="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9933"/>
                </a:solidFill>
                <a:latin typeface="Times New Roman"/>
                <a:ea typeface="华文琥珀"/>
              </a:rPr>
              <a:t>悟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79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人生如花，劫难总要被幸福战胜，时代的洪流总会冲走不快，只要加快脚步，鼓足生命的勇气前进，你便会是那灿烂瀑布中的一朵浪花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中插入一段写十多年前家门外的一大株紫藤萝起什么作用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372600" cy="4043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用十多年前紫藤萝花的稀落与现在花开的繁盛形成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对比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，突出了现在花的生气盎然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用十多年前花的不幸遭遇，与人的不幸遭遇形成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类比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，说明花和人都会遇到各种各样的不幸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23880" y="457200"/>
            <a:ext cx="9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三丹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42240" y="6094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三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R_051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257800" y="22093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Times New Roman"/>
              </a:rPr>
              <a:t>            </a:t>
            </a:r>
            <a:r>
              <a:rPr b="1" lang="zh-CN" sz="2600" spc="-1" strike="noStrike">
                <a:solidFill>
                  <a:srgbClr val="ff00ff"/>
                </a:solidFill>
                <a:latin typeface="Times New Roman"/>
              </a:rPr>
              <a:t>花和人都会遇到各种各样的不幸。但是只要生活的态度积极，那就会迎来美好的明天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752480"/>
            <a:ext cx="685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1828800"/>
            <a:ext cx="32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十多年前花的稀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2514600"/>
            <a:ext cx="350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现在花开的繁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9810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505320"/>
            <a:ext cx="685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6576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2000" y="35053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花的不幸遭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2000" y="41148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人的不幸遭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276720"/>
            <a:ext cx="990720" cy="304560"/>
          </a:xfrm>
          <a:custGeom>
            <a:avLst/>
            <a:gdLst>
              <a:gd name="textAreaLeft" fmla="*/ 12384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FR_049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220968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作者把花写得这么美，看完花后，对她焦虑和悲痛的心情有改变吗？（从原文找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41148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心情改变的原因是什么呢？  （ 联系写作背景）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花4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4178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5880" y="11430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这淡紫色的芳香中，“我”为什么不觉加快了脚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43290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说明作者从花中得到感悟，心中的失弟悲痛焦虑化为精神的宁静和前进的动力，感悟到生命的永恒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FR_049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5120" y="23623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22096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作者由花的勃勃生机感悟到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生命的长河是无止境的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。说说你对这个问题的理解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48006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生命的长河是无止境的，我们应该以一种乐观的态度去面对生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3049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十多年前花稀落，遭遇不幸，过了这么多年，花却开得这样盛，这样生机勃勃，表现自然界生命的顽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25146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生命虽然短暂，也会有各种不幸，如：小弟身患绝症而死，但人类的生命长河并不因某个人的逝去而停止流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9200" y="114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紫藤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8960" y="3276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FR_0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657600" y="3962520"/>
            <a:ext cx="3962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沉舟侧畔千帆过  病树前头万木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17524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生活就像一面镜子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你对她笑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他就对你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宗璞《西湖漫笔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西湖胜景很多，各处有不同的好处，即使一个绿字，也各有不同。黄龙洞绿得幽，屏风山绿得野，九曲十八涧绿得闲。不能一一去说。……在花港观鱼，又看到一种绿。那是满地的新荷，圆圆的绿叶，或亭亭立于水上，或宛转靠在水面，只觉得一种蓬勃的生机跳跃满池。绿色，本来是生命力的颜色。我最爱初春的杨柳嫩枝，那样鲜，那样亮，柳枝儿一摆，似乎蹬着脚告诉你，春天来了。荷叶，则要持重一些，初夏，则更成熟一些，但那透过活泼的绿色表现出来的茁壮生命力，是一样的。再加上叶面上的水球儿滴滴溜溜滚着，简直好像满池荷叶都要裙袂飞扬，翩然起舞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055600" y="838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铁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91960" y="1219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三角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69800" y="1143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扶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FR_055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2057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自然景物是丰富多彩、婀娜多姿的，尤其是美丽的花朵，它会令人心旷神怡，会令人浮想联篇，甚至会让你由此而感悟到人生的真谛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ziteng" descr=""/>
          <p:cNvPicPr/>
          <p:nvPr/>
        </p:nvPicPr>
        <p:blipFill>
          <a:blip r:embed="rId1"/>
          <a:stretch/>
        </p:blipFill>
        <p:spPr>
          <a:xfrm>
            <a:off x="0" y="0"/>
            <a:ext cx="497664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紫藤萝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181480" y="0"/>
            <a:ext cx="2117880" cy="6324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紫藤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紫藤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紫藤萝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紫藤3" descr=""/>
          <p:cNvPicPr/>
          <p:nvPr/>
        </p:nvPicPr>
        <p:blipFill>
          <a:blip r:embed="rId4"/>
          <a:stretch/>
        </p:blipFill>
        <p:spPr>
          <a:xfrm>
            <a:off x="0" y="-762120"/>
            <a:ext cx="5676840" cy="7620120"/>
          </a:xfrm>
          <a:prstGeom prst="rect">
            <a:avLst/>
          </a:prstGeom>
          <a:ln w="0">
            <a:noFill/>
          </a:ln>
        </p:spPr>
      </p:pic>
      <p:pic>
        <p:nvPicPr>
          <p:cNvPr id="60" name="紫藤花%20" descr=""/>
          <p:cNvPicPr/>
          <p:nvPr/>
        </p:nvPicPr>
        <p:blipFill>
          <a:blip r:embed="rId5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紫藤花%20" descr=""/>
          <p:cNvPicPr/>
          <p:nvPr/>
        </p:nvPicPr>
        <p:blipFill>
          <a:blip r:embed="rId6"/>
          <a:stretch/>
        </p:blipFill>
        <p:spPr>
          <a:xfrm>
            <a:off x="4800600" y="0"/>
            <a:ext cx="54100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ziteng" descr=""/>
          <p:cNvPicPr/>
          <p:nvPr/>
        </p:nvPicPr>
        <p:blipFill>
          <a:blip r:embed="rId7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ziteng" descr=""/>
          <p:cNvPicPr/>
          <p:nvPr/>
        </p:nvPicPr>
        <p:blipFill>
          <a:blip r:embed="rId8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iteng" descr=""/>
          <p:cNvPicPr/>
          <p:nvPr/>
        </p:nvPicPr>
        <p:blipFill>
          <a:blip r:embed="rId1"/>
          <a:stretch/>
        </p:blipFill>
        <p:spPr>
          <a:xfrm>
            <a:off x="-380880" y="0"/>
            <a:ext cx="51051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343400" y="179280"/>
            <a:ext cx="480060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紫藤萝亦称“紫藤”、“藤萝”，豆科，羽状复叶，春季开花，蝶形花冠，青紫色，总状花序，产于我国中部，供观赏，花、种、子供食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a</cp:lastModifiedBy>
  <dcterms:modified xsi:type="dcterms:W3CDTF">2004-12-16T01:33:46Z</dcterms:modified>
  <cp:revision>100</cp:revision>
  <dc:subject/>
  <dc:title>PowerPoint Presentation</dc:title>
</cp:coreProperties>
</file>