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93C-814F-420E-803E-4486E023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3B0-0A65-4EB1-A611-4F6EB8C7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2E0-2219-4F7F-BB03-924DF022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BFB-C893-4458-95B3-4A2E9936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309-9B73-497E-80A3-75382ED9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73E-C457-4FB9-9FBC-608B1CB9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DF97-CA88-4BB0-AB26-AB93CEE9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0AB-36A1-460C-8294-DD23E744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12A-5A4D-48C4-9B91-4CA9DFC4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4E9-A972-49AD-BA55-56E08378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712-6B4F-4F51-8E95-682C681A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57D-224D-45DF-B787-A55C5F9F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F095-93D5-412A-9871-990FF9F80C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3124080" cy="1905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拓展延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6" name="菊花1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191120" cy="4648320"/>
          </a:xfrm>
          <a:prstGeom prst="rect">
            <a:avLst/>
          </a:prstGeom>
          <a:ln w="0">
            <a:noFill/>
          </a:ln>
        </p:spPr>
      </p:pic>
      <p:pic>
        <p:nvPicPr>
          <p:cNvPr id="57" name="梅花1" descr=""/>
          <p:cNvPicPr/>
          <p:nvPr/>
        </p:nvPicPr>
        <p:blipFill>
          <a:blip r:embed="rId2"/>
          <a:stretch/>
        </p:blipFill>
        <p:spPr>
          <a:xfrm>
            <a:off x="4800600" y="762120"/>
            <a:ext cx="4343400" cy="5400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松树1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59" name="花3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60" name="荷花1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048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80880" y="0"/>
            <a:ext cx="3124440" cy="1905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拓展延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38080" y="533520"/>
            <a:ext cx="335304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2209680"/>
            <a:ext cx="7543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们往往赋予一些花木以某种象征意义，请收集一些有关花木的文章，与同学交流，并提出自己新的联想和见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观察花草树木，观察生活，写一则观察日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2514600"/>
            <a:ext cx="822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生命的长河是无止境的…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51460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ff"/>
                </a:solidFill>
                <a:latin typeface="Times New Roman"/>
              </a:rPr>
              <a:t>紫藤萝瀑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464832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</a:rPr>
              <a:t>宗  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4fe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1840" y="2209680"/>
            <a:ext cx="8506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宗　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746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　　女，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928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年出生，原名冯钟璞。著名哲学家冯友兰之女，自幼生长于清华园，吸取了中国传统文化与西方文化之精粹，学养深厚，气韵独特。“文革”前作品主要有短篇小说《红豆》、《桃园女儿嫁窝谷》、《不沉的湖》、《后门》、《知音》等，《红豆》曾受到不应有的批判。“文革”后，有小说《弦上的梦》、《三生石》。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981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年出版了《宗璞小说散文选》。她的小说刻意求新，语言明丽而含蓄，流畅而有余韵。她的散文情深意长，隽永如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19320" y="1752480"/>
            <a:ext cx="73152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．理解内容，感悟中心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．揣摩词语和句子，理解作者感情变化的线索。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．体会作者对人生的独特感受，体味人生，感悟生命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04920"/>
            <a:ext cx="3276720" cy="1676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学习目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049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感知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371600"/>
            <a:ext cx="48769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作者的思想感情有什么变化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作者感悟到什么哲理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思路上大体是怎么展开的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紫藤萝4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505320" cy="4724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e9"/>
            </a:gs>
            <a:gs pos="50000">
              <a:srgbClr val="ffffcc"/>
            </a:gs>
            <a:gs pos="100000">
              <a:srgbClr val="fefe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22860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研读赏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29528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习用自己的话概括本文内容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紫藤萝有过怎样的变迁？作者为什么会对紫藤萝产生这样浓厚的感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联系背景材料，说说紫藤萝的命运有什么象征意义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赏析语段中好句子的用法，体会作者由紫藤萝瀑布而对生命产生了怎样的感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紫藤萝1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487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200400" y="4191120"/>
            <a:ext cx="5943600" cy="228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体验反思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53352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用自己的经历、见闻或名人小故事印证“花和人都会遇到各种各样的不幸，但是生命的长河是无止境的”这句话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5:06:17Z</dcterms:created>
  <dc:creator>wutao</dc:creator>
  <dc:description/>
  <dc:language>en-US</dc:language>
  <cp:lastModifiedBy>qqww</cp:lastModifiedBy>
  <dcterms:modified xsi:type="dcterms:W3CDTF">2003-09-17T13:37:27Z</dcterms:modified>
  <cp:revision>100</cp:revision>
  <dc:subject/>
  <dc:title>PowerPoint 演示文稿</dc:title>
</cp:coreProperties>
</file>