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F1C-FF6C-48A2-8097-7A9B4F8D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062A-DED5-4F61-BA17-0CFB5607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938-5F3E-47BA-A59F-EFAA4101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E27-B248-49F7-A057-8EB258AD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5C04-BCA8-4538-89A3-1E0CF237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276B-CBB5-4AF3-9CB9-FFDFF9BA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0980-2F63-43A5-841D-91C6E12F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44BE-338E-4312-90FA-29C3EB68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F87C-B9CA-435C-9B57-A731623C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283A-8E4B-49BF-A307-A4B42C36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79C0-88E8-4CB1-840B-F0D6AA2A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403-8A3A-4E2E-B9B0-9EAD1498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F3FC-4EA0-44EA-B395-C64E2AC1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7DCC-65D7-4F57-9943-529A1DD3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DD0A-FB46-4EA7-853E-8303DCBB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A258-79C4-4BE2-A6F3-C4E6D3AF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68ED-C4C2-4D85-995B-2B84F492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6A3-4FF4-4E42-965E-32A177C7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1BB-D097-4DA2-8265-C32D2F70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DBD-CF72-4FF9-BB1F-26B81C26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CB6-B3B0-45B6-9D3E-82A06E9D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72A-2330-4F41-9F64-A699A406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06D-F39D-47AC-BB37-FD7EE100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4D5-5899-4A73-959A-CA977A4C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40B3-A9FC-4B22-981D-AD996283C5B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07D8-F108-44C0-843C-D974C51C208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ziteng" descr=""/>
          <p:cNvPicPr/>
          <p:nvPr/>
        </p:nvPicPr>
        <p:blipFill>
          <a:blip r:embed="rId1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紫藤萝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629400" y="0"/>
            <a:ext cx="2117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47920" y="5562720"/>
            <a:ext cx="7391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仿佛在流动，在欢笑，在不停地生长。在和阳光互相挑逗，彼此推着挤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从哪几个方面描写盛开的紫藤萝花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268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思 考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2840" y="14479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⑴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色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3124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2)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5410080"/>
            <a:ext cx="15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⑶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态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1371600"/>
            <a:ext cx="6351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片辉煌淡紫色、深深浅浅的紫、紫色的大条幅上，泛着点点银光，就像迸溅的水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200400"/>
            <a:ext cx="6777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一条瀑布，从空中垂下，不见其发端，也不见其终极。一树闪光的、盛开的藤萝。花朵儿一串挨着一串，一朵接着一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7160" y="609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总体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74400" y="0"/>
            <a:ext cx="49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是怎样具体描写单体紫藤萝花的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295280"/>
            <a:ext cx="38862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先写花穗的色彩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然后写花的形状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最后写花的香味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67760" y="9144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先写每一穗花，再写每一朵花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198108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每一穗花都是上面的盛开、下面的待放。颜色便上浅下深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3429000"/>
            <a:ext cx="8686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像张满了的小小的帆，帆下带着尖底的舱，船舱鼓鼓的，又像一个忍俊不禁的笑容，就要绽开似的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579132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淡淡的芳香，香气似乎也是浅紫色的，梦幻一般轻轻地笼罩着我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685800"/>
            <a:ext cx="8763120" cy="764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面对一树盛开的紫藤萝花，作者的情绪体验起了什么变化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62960" y="223848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焦虑、悲痛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08440" y="307008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72600" y="22860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宁静、喜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251460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3276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是什么使作者“宁静、喜悦”了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4495680"/>
            <a:ext cx="77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找最能感受这种情绪的写花的句子， 并观察其写作顺序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799080" y="533520"/>
            <a:ext cx="155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面对这样美丽的一树花，作者除了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宁静、喜悦的情绪体验之外，还想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了些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06560" y="251460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、十几年藤萝花的盛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、人生的感悟：花和人都会遇到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种各样的不幸，但是生命的长河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无此境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914400"/>
            <a:ext cx="71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人的生命是短暂的，有时会遇到各种各样的不幸。为什么又说“生命的长河是无止境的”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4:10:35Z</dcterms:created>
  <dc:creator>wutao</dc:creator>
  <dc:description/>
  <dc:language>en-US</dc:language>
  <cp:lastModifiedBy>a</cp:lastModifiedBy>
  <dcterms:modified xsi:type="dcterms:W3CDTF">2002-12-22T15:43:17Z</dcterms:modified>
  <cp:revision>100</cp:revision>
  <dc:subject/>
  <dc:title>PowerPoint 演示文稿</dc:title>
</cp:coreProperties>
</file>