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FD4-48B5-4B84-B0D5-BC380EC5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152-5226-4803-9B79-B08C949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67B-DC16-4993-8041-0D736852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EA4-9D51-44B5-B42D-38369CD4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4D35-639F-4294-9893-6389FBA6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97C5-A450-4120-9C2A-18CBB572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8DBC-1EDD-4FC9-9100-EDA758A7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8D51-37B2-43D8-887A-71E9337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C85-F734-417D-B8C9-9ADAF107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3DF-5DD4-4EE8-BF36-AD1621B0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269-9D6E-4B9C-9B30-612ABD8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860-EE9F-44AB-9A27-E7E80DC4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D1DF-8D56-414C-BCED-E442093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B6E-A61F-43ED-A370-6222E2F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0BFF-AABA-4B27-9212-08F6A96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0A3-2B82-4D26-8B48-DD723FF2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9C93-EE12-4404-A0E4-519B336C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760-825A-40EB-9310-124BA052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7D8-538E-4D68-AD9E-891AA358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C63-7F84-4A32-BC3D-892AA5D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A82-A9F3-4712-8E2A-66A2D95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2B9-8EFD-494C-B974-407746D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222-387D-4964-988A-771E179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6AB-6819-4438-85F2-F08EABC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3A74-55D2-45CD-9AC0-087DBFD16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EDB6-CB43-4537-889E-FC8D4EA0B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紫藤萝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48320" y="-852120"/>
            <a:ext cx="1643400" cy="84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700ae"/>
                </a:solidFill>
                <a:latin typeface="Times New Roman"/>
                <a:ea typeface="华文新魏"/>
              </a:rPr>
              <a:t>紫藤萝瀑布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5040" y="609480"/>
            <a:ext cx="8778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这里运用了通感。即人的感觉相通，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如花香是嗅觉感受，作者把它说成“浅紫色的”，这是视觉感受，“梦幻一般轻轻地笼罩着我”是幻觉感受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运用通感使语言更加清新、活泼、灵动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6858000" y="5334120"/>
            <a:ext cx="12952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838080"/>
            <a:ext cx="701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十多年前紫藤萝花的稀落与现在花开的繁盛形成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对比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，突出了现在花的生气盎然。用十多年前花的不幸遭遇，与人的不幸遭遇形成类比，说明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方正姚体"/>
                <a:ea typeface="方正姚体"/>
              </a:rPr>
              <a:t>花和人都会遇到各种各样的不幸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629400" y="5867280"/>
            <a:ext cx="1219320" cy="381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23623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本文的最后一段有什么深刻含义？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114800"/>
            <a:ext cx="838080" cy="7621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066680"/>
            <a:ext cx="816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作者从花中得到感悟，心中的失弟悲痛焦虑化为精神的宁静和前进的动力，感悟到生命的永恒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5105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一、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--6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节：   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二、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节：  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三、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：  花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8680" y="714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48680" y="3200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8680" y="501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04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6668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5334120"/>
            <a:ext cx="8380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7880" y="196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07880" y="88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07880" y="161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98240" y="2406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的繁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98240" y="32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的稀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14080" y="3962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花的繁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4724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心中的悲痛焦虑化为精神的宁静和前进的动力，感悟到生命的永恒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99360" y="1295280"/>
            <a:ext cx="146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比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拟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通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121932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52388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本文写作者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睹物释怀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心中的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化为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感悟到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赞美了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06560" y="1447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偶见一树盛开的紫藤萝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5680" y="274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悲痛焦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05320" y="2743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精神的宁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4040" y="342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生命的永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3600" y="4114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生命的顽强和美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04920"/>
            <a:ext cx="592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本文主旨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943600" y="64296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紫藤萝”亦称“紫藤”、“朱藤”、“藤萝”，豆科，羽状复叶，春季开花，蝶形花冠，青紫色，总状花序，产于我国中部，供观赏，花、种、子供食用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小兰花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952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百合" descr=""/>
          <p:cNvPicPr/>
          <p:nvPr/>
        </p:nvPicPr>
        <p:blipFill>
          <a:blip r:embed="rId1"/>
          <a:stretch/>
        </p:blipFill>
        <p:spPr>
          <a:xfrm>
            <a:off x="228600" y="0"/>
            <a:ext cx="487692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4240" y="1108080"/>
            <a:ext cx="336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美学观念：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“美文不在辞藻，如美人不在衣饰，而在天真烂漫舒卷自然之中，匠心存矣。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880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教学目的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感悟生命的永恒。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理解本文写景抒情的特点。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揣摩文中写景的妙处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89240" y="14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查工具书，解释下面的生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7320" y="942840"/>
            <a:ext cx="2812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迸溅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繁密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稀落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伶仃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酒酿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挑逗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忍俊不禁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仙露琼浆：</a:t>
            </a:r>
            <a:br>
              <a:rPr sz="4000"/>
            </a:b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ffff13"/>
                </a:solidFill>
                <a:latin typeface="Times New Roman"/>
              </a:rPr>
              <a:t>）盘虬卧龙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7520" y="852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向外溅出或喷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9360" y="14954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多而密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15120" y="210492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稀稀疏疏，出现得少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7432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孤独，没有依靠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05320" y="33368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江米酒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4080" y="39466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逗引，招惹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000" y="457200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忍不住笑。忍俊：含笑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3240" y="51656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形容鲜美的酒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21080" y="5775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方正姚体"/>
              </a:rPr>
              <a:t>回旋地绕像卧着的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5040" y="228600"/>
            <a:ext cx="81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请给课文分段，看看各段写什么内容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5960" y="919080"/>
            <a:ext cx="22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第一段：从开头到“想摘一朵”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440" y="18288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写作者偶见一树茂盛的紫藤萝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760" y="2595600"/>
            <a:ext cx="89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第二段：从“但是”到“流向人的心底”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33684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      </a:t>
            </a: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写作者睹物释怀，心上的焦虑和悲痛化为精神的宁静和生的喜悦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73440" y="4784760"/>
            <a:ext cx="30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第三段：从“花和人”到完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1320" y="547056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写作者由此感悟到生命的永恒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3200" y="1066680"/>
            <a:ext cx="6400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、作者从哪几个方面描写盛开的紫藤萝树？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0080" y="120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阅读第一部分，思考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D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48256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467480" y="1981080"/>
            <a:ext cx="533520" cy="5065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3581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、作者描写紫藤萝的树和花运用了哪些修辞手法，这样写有什么好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543800" y="5105520"/>
            <a:ext cx="533520" cy="5061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895480"/>
            <a:ext cx="62485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6019920"/>
            <a:ext cx="62481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838080"/>
            <a:ext cx="50292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304920"/>
            <a:ext cx="8397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）颜色：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）形状：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）情态：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480" y="853920"/>
            <a:ext cx="908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一片辉煌淡紫色、深深浅浅的紫、紫色的大条幅上，泛着点点银光，就像进溅的水花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269892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像一条瀑布，从空中垂下，不见其发端，也不见其终极。一树闪光的、盛开的藤萝。花朵儿一串挨着一串，一朵接着一朵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080" y="5197320"/>
            <a:ext cx="8702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仿佛在流动，在欢笑，在不停地生长。在和阳光互相挑逗，彼此推着挤着。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620120" y="6172200"/>
            <a:ext cx="10666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768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1271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、作者为什么把花香说成“似乎也是淡紫色的，梦幻一般轻轻地笼罩着我”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3505320"/>
            <a:ext cx="69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、文中插入一段写十多年前家门外的一大株紫藤萝起什么作用？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0400" y="-36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研读第二段，思考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6324480" y="2438280"/>
            <a:ext cx="533520" cy="5065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400800" y="4876920"/>
            <a:ext cx="533520" cy="5061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867280"/>
            <a:ext cx="71629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838080"/>
            <a:ext cx="44956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3:38:43Z</dcterms:created>
  <dc:creator>wutao</dc:creator>
  <dc:description/>
  <dc:language>en-US</dc:language>
  <cp:lastModifiedBy>周璟</cp:lastModifiedBy>
  <dcterms:modified xsi:type="dcterms:W3CDTF">2004-09-30T04:55:27Z</dcterms:modified>
  <cp:revision>100</cp:revision>
  <dc:subject/>
  <dc:title>PowerPoint 演示文稿</dc:title>
</cp:coreProperties>
</file>