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F1B-1B99-4EA0-B7EB-0EA0BD09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A93-4A2A-4605-8FF1-3A300A37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FAA-F8C6-412D-A656-0B11EA23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C20-5B9A-4D7B-9465-C38F96EA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2080-0C11-425C-A13F-7E1BCF29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93F5-8FC2-4EB1-AD69-DE8291CA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905B-16D4-4C04-BD6D-03E8836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0260-66CF-4DD5-966F-CCC97F95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CE24-9C8C-4F67-B6DF-5913B5BE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52D5-DEAD-4E60-BE4A-E5FBDD18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DECC-C0D1-4FD0-AE13-B140E467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EB1-97DF-4157-A579-D4FE430E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BAB3-2178-4BA8-81CF-D8E7A57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8940-8A61-4ED1-8A3B-597BFC09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B0A1-AD22-49A4-A0E7-2C970545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5BFA-9D93-4E6A-8FEB-DA7F4380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39F3-4490-471B-9A67-4407960A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3DE-2391-4E17-9C0E-2A1BB94C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7D0-4749-4CAB-A402-43B47094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F6B-2C27-4F38-B5BF-71B4E5E5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340-A3B0-487B-9E94-A83ED1DF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121-2E74-4B46-965D-60E0CFA5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BD2-3439-4240-A822-2B1AE758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A31-534A-448E-8B27-74DB1CEE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4ABF-FDCD-4D67-A3DA-66B91113F7D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54DD-D2A1-46DC-9CD8-B4E83DFA0E8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&#32043;&#34276;&#33821;2.wav" TargetMode="External"/><Relationship Id="rId4" Type="http://schemas.microsoft.com/office/2007/relationships/media" Target="file:///tmp/home/.config/libreoffice/4/user/gallery/&#32043;&#34276;&#33821;2.wav" TargetMode="Externa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10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497664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紫藤萝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0"/>
            <a:ext cx="2117880" cy="6324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72388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8229600" y="685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8" action="ppaction://hlinksldjump"/>
          </p:cNvPr>
          <p:cNvSpPr/>
          <p:nvPr/>
        </p:nvSpPr>
        <p:spPr>
          <a:xfrm>
            <a:off x="746748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9" action="ppaction://hlinksldjump"/>
          </p:cNvPr>
          <p:cNvSpPr/>
          <p:nvPr/>
        </p:nvSpPr>
        <p:spPr>
          <a:xfrm>
            <a:off x="7467480" y="2590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描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0" action="ppaction://hlinksldjump"/>
          </p:cNvPr>
          <p:cNvSpPr/>
          <p:nvPr/>
        </p:nvSpPr>
        <p:spPr>
          <a:xfrm>
            <a:off x="7467480" y="3505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修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11" action="ppaction://hlinksldjump"/>
          </p:cNvPr>
          <p:cNvSpPr/>
          <p:nvPr/>
        </p:nvSpPr>
        <p:spPr>
          <a:xfrm>
            <a:off x="7467480" y="4419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理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12" action="ppaction://hlinksldjump"/>
          </p:cNvPr>
          <p:cNvSpPr/>
          <p:nvPr/>
        </p:nvSpPr>
        <p:spPr>
          <a:xfrm>
            <a:off x="7652160" y="510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13" action="ppaction://hlinksldjump"/>
          </p:cNvPr>
          <p:cNvSpPr/>
          <p:nvPr/>
        </p:nvSpPr>
        <p:spPr>
          <a:xfrm>
            <a:off x="7652160" y="579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228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中插入一段写十多年前家门外的一大株紫藤萝起什么作用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981080"/>
            <a:ext cx="914400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用十多年前紫藤萝花的稀落与现在花开的繁盛形成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对比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，突出了现在花的生气盎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用十多年前花的不幸遭遇，与人的不幸遭遇形成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类比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，说明花和人都会遇到各种各样的不幸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作者由花的勃勃生机感悟到“生命的长河是无止境的”。说说你对这个问题的理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371600"/>
            <a:ext cx="85341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十多年前紫藤萝花稀落，遭遇不幸，过了这么多年，又开花，而且开得这样盛，这样密，这样生机勃勃，想到自然界生命的顽强和美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而人类也是如此，小弟虽然身患绝症而死，但人类的生命长河并不因某个人的逝去而停止流动。“沉舟侧畔千帆过，病树前头万木春。”人类社会照样向前发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因此说，生命的长河是无止境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353040" y="200160"/>
            <a:ext cx="10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本文的最后一段有什么深刻含义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676520"/>
            <a:ext cx="76197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说明作者从花中得到感悟，心中的失弟悲痛焦虑化为精神的宁静和前进的动力，感悟到生命的永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1295280"/>
            <a:ext cx="853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文写作者偶见一树盛开的紫藤萝花，睹物释怀，心中的悲痛焦虑化为精神的宁静，感悟到生命的永恒，赞美了生命的顽强和美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1880" y="228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434340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章写景抒情多处运用比喻、拟人、对比等修辞手法，突出花的勃勃生机，赞美了生命的顽强和美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89240" y="304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1143000"/>
            <a:ext cx="64548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㈠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正下列词语中的错别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察颜观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忍峻不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仙露琼桨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盘扎卧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523880" y="2057400"/>
            <a:ext cx="2834280" cy="642600"/>
            <a:chOff x="1523880" y="2057400"/>
            <a:chExt cx="2834280" cy="642600"/>
          </a:xfrm>
        </p:grpSpPr>
        <p:sp>
          <p:nvSpPr>
            <p:cNvPr id="288" name=""/>
            <p:cNvSpPr/>
            <p:nvPr/>
          </p:nvSpPr>
          <p:spPr>
            <a:xfrm>
              <a:off x="3903120" y="2057400"/>
              <a:ext cx="455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言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3880" y="266688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523880" y="2819520"/>
            <a:ext cx="2834280" cy="642600"/>
            <a:chOff x="1523880" y="2819520"/>
            <a:chExt cx="2834280" cy="642600"/>
          </a:xfrm>
        </p:grpSpPr>
        <p:sp>
          <p:nvSpPr>
            <p:cNvPr id="291" name=""/>
            <p:cNvSpPr/>
            <p:nvPr/>
          </p:nvSpPr>
          <p:spPr>
            <a:xfrm>
              <a:off x="3903120" y="2819520"/>
              <a:ext cx="455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俊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3880" y="34286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438280" y="3581280"/>
            <a:ext cx="1919880" cy="642600"/>
            <a:chOff x="2438280" y="3581280"/>
            <a:chExt cx="1919880" cy="642600"/>
          </a:xfrm>
        </p:grpSpPr>
        <p:sp>
          <p:nvSpPr>
            <p:cNvPr id="294" name=""/>
            <p:cNvSpPr/>
            <p:nvPr/>
          </p:nvSpPr>
          <p:spPr>
            <a:xfrm>
              <a:off x="3903120" y="3581280"/>
              <a:ext cx="455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浆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8280" y="41911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447920" y="4267080"/>
            <a:ext cx="2833560" cy="642600"/>
            <a:chOff x="1447920" y="4267080"/>
            <a:chExt cx="2833560" cy="642600"/>
          </a:xfrm>
        </p:grpSpPr>
        <p:sp>
          <p:nvSpPr>
            <p:cNvPr id="297" name=""/>
            <p:cNvSpPr/>
            <p:nvPr/>
          </p:nvSpPr>
          <p:spPr>
            <a:xfrm>
              <a:off x="3826440" y="4267080"/>
              <a:ext cx="455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虬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47920" y="4876560"/>
              <a:ext cx="456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㈡阅读下面的语段，回答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但是我没有摘。我没有摘花的习惯。我只是伫立凝望，觉得这一条紫藤萝瀑布不只是在我眼前，也在我心上缓缓流过。流着流着，它带走了这些时一直压在我心上的焦虑和悲痛，那是关于生死谜、手足情的。我浸在这繁密的花朵的光辉中，别的一切暂时都不存在，有的只是精神的宁静和生的喜悦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花和人都会遇到各种各样的不幸，但是生命的长河是无止境的。我抚摸了一下那小小的紫色的花舱，那里满装生命的酒酿，它张满了帆，在这闪光的花的河流上航行。它是万花中的一朵，也正是由每一个一朵，组成了万花灿烂的流动的瀑布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这浅紫色的光辉和浅紫色的芳香中，我不觉加快了脚步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0"/>
            <a:ext cx="83818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“觉得这一条紫藤萝瀑布不只是在我眼前，也在我心上缓缓流过。”这句话言下之意是什么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“我心上的焦虑和悲痛”是指什么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什么又感到“精神的宁静和生的喜悦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447920"/>
            <a:ext cx="8077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作者睹物释怀，他看到蓬勃盛开的紫藤萝花，感悟到生命的顽强与美好，从而心中的悲痛焦虑化为精神的宁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4329000"/>
            <a:ext cx="8763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我心上的焦虑和悲痛”是指失去小弟的悲伤。因为他看到紫藤萝花虽然在十多年前也遭到不幸的遭遇，也曾零落过，但它现在依然开得蓬蓬勃勃。他感悟到生命的永恒，所以感到精神的宁静和生的喜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3808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人的生命是短暂的，有时会遇到各种各样的不幸。为什么又说“生命的长河是无止境的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上文第二段运用哪些修辞手法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样写有什么深刻含义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1523880"/>
            <a:ext cx="845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因为人类的生命长河并不因某个人的不幸或逝去而停止流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114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运用比喻、比拟、对比等修辞手法，这些花正如人，人类社会也正如花一样由每一个一朵组成，虽然某些花或某个人会遇到各种各样的不幸，但人类社会照样向前发展，生命的长河是无止境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上文最后一段有什么深刻含义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057400"/>
            <a:ext cx="784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明作者从花中得到感悟，心中失弟的悲痛焦虑化为精神的宁静和前进的动力，感悟到生命的永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8080" y="1600200"/>
            <a:ext cx="49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迸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溅（        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忍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俊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禁（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仙露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琼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浆（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盘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虬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卧龙（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28840" y="609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读准下面黄色的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67600" y="1828800"/>
            <a:ext cx="128412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è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04160" y="2590920"/>
            <a:ext cx="69732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ī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91400" y="3429000"/>
            <a:ext cx="142128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ó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06320" y="4343400"/>
            <a:ext cx="86184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533520"/>
            <a:ext cx="3048120" cy="64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迸溅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⑵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繁密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稀落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⑷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伶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⑸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酒酿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⑹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挑逗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⑺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忍俊不禁：⑻仙露琼浆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⑼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盘虬卧龙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19360" y="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释下面的词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81320" y="685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向外溅出或喷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66920" y="1295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多而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62560" y="1981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稀稀疏疏，出现得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8132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孤独，没有依靠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6692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江米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24120" y="38862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逗引，招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79440" y="4572000"/>
            <a:ext cx="319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忍不住笑。忍俊：含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38520" y="5257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形容鲜美的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5867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旋地绕像卧着的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676520" y="5544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给课文分段，看看各段写什么内容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914400"/>
            <a:ext cx="129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一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09760" y="990720"/>
            <a:ext cx="16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Arial"/>
                <a:ea typeface="楷体_GB2312"/>
              </a:rPr>
              <a:t>从开头到“想摘一朵”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93400" y="1752480"/>
            <a:ext cx="108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写作者偶见一树茂盛的紫藤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1320" y="2666880"/>
            <a:ext cx="44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Arial"/>
                <a:ea typeface="楷体_GB2312"/>
              </a:rPr>
              <a:t>从“但是我没有摘”到“流向人的心底”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3526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写作者睹物释怀，心上的焦虑和悲痛化为精神的宁静和生的喜悦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02640" y="480060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Arial"/>
                <a:ea typeface="楷体_GB2312"/>
              </a:rPr>
              <a:t>从“花和人都会遇到各种各样的不幸”到完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45680" y="5638680"/>
            <a:ext cx="6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写作者由此感悟到生命的永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47920" y="5562720"/>
            <a:ext cx="739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仿佛在流动，在欢笑，在不停地生长。在和阳光互相挑逗，彼此推着挤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从哪几个方面描写盛开的紫藤萝树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700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4240" y="14479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色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240" y="32767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⑵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5600" y="5562720"/>
            <a:ext cx="12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态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371600"/>
            <a:ext cx="6351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片辉煌淡紫色、深深浅浅的紫、紫色的大条幅上，泛着点点银光，就像迸溅的水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200400"/>
            <a:ext cx="6777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一条瀑布，从空中垂下，不见其发端，也不见其终极。一树闪光的、盛开的藤萝。花朵儿一串挨着一串，一朵接着一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859400" y="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是怎样描写紫藤萝花的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95280"/>
            <a:ext cx="3886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先写花穗的色彩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然后写花的形状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最后写花的香味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67760" y="9144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先写每一穗花，再写每一朵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98108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每一穗花都是上面的盛开、下面的待放。颜色便上浅下深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3429000"/>
            <a:ext cx="8686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像张满了的小小的帆，帆下带着尖底的舱，船舱鼓鼓的，又像一个忍俊不禁的笑容，就要绽开似的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579132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淡淡的芳香，香气似乎也是浅紫色的，梦幻一般轻轻地笼罩着我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为什么把花香说成“似乎也是浅紫色的，梦幻一般轻轻地笼罩着我”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743200"/>
            <a:ext cx="8305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花香是嗅觉感受，作者把它说成“浅紫色的”，这是视觉感受，“梦幻一般轻轻地笼罩着我”是幻觉感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33960" y="15238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运用了通感，即人的感觉相通。（比喻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77440" y="5257800"/>
            <a:ext cx="820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运用通感使语言更加清新、活泼、灵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描写紫藤萝的树和花运用了哪些修辞手法，这样写有什么好处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98108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见一片辉煌淡紫色，像一条瀑布，从空中垂下，不见其发端，也不见其终极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紫色的大条幅上，泛着点点银光，就像进溅的水花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每一朵盛开的花像是一个张满了的小小的帆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74360" y="2971800"/>
            <a:ext cx="680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象、生动、具体地写出紫藤萝生长的繁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800" y="4343400"/>
            <a:ext cx="517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象、生动地写出紫藤萝色彩上的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72840" y="5715000"/>
            <a:ext cx="680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象、生动、具体地写出盛开的紫藤萝花的形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9760" y="1371600"/>
            <a:ext cx="1497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⑴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比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838080"/>
            <a:ext cx="861048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是深深浅浅的紫，仿佛在流动，在欢笑，在不停地生长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知那是每一条紫花中的最浅淡的部分，在和阳光互相挑逗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花朵儿一串挨着一串，一朵接着一朵，彼此推着挤着，好不活泼热闹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“‘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在开花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!’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它们在笑。‘我在开花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!’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它们嚷嚷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4840" y="228600"/>
            <a:ext cx="1497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⑵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拟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1600200"/>
            <a:ext cx="8686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花的颜色写成人的动作行为，生动形象地写出花的神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52680"/>
            <a:ext cx="8763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花的颜色写成人的动作行为，生动形象地写出花色的耀眼与生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08840" y="5105520"/>
            <a:ext cx="354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动态写花的静态，生动地写出花开的繁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78720" y="6359400"/>
            <a:ext cx="354600" cy="49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动地写出花开之闹，突出花的勃勃生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10:35Z</dcterms:created>
  <dc:creator>wutao</dc:creator>
  <dc:description/>
  <dc:language>en-US</dc:language>
  <cp:lastModifiedBy>孟平凡</cp:lastModifiedBy>
  <dcterms:modified xsi:type="dcterms:W3CDTF">2002-02-27T04:10:31Z</dcterms:modified>
  <cp:revision>100</cp:revision>
  <dc:subject/>
  <dc:title>PowerPoint 演示文稿</dc:title>
</cp:coreProperties>
</file>