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chimes.wav" ContentType="audio/x-wav"/>
  <Override PartName="/ppt/media/image6.jpeg" ContentType="image/jpeg"/>
  <Override PartName="/ppt/media/projctor.wav" ContentType="audio/x-wav"/>
  <Override PartName="/ppt/media/type.wav" ContentType="audio/x-wav"/>
  <Override PartName="/ppt/media/applause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  <p:custShowLst>
    <p:custShow name="自定义放映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84A-E7A5-41FB-85C9-8B6B37B0E2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方法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自读点拨法：以学生自读为主，教师加以点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诵读法：文意让学生在诵读中领悟，不必讲析过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做卡片，摘抄优美语句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187-8613-4D06-B22E-9A01D534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7FE-8FC9-4821-AFB0-3C94153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D99-965C-48C5-8D7A-00BB05FE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F90-A846-4E2C-9A00-241ABDFB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8B2-9BAB-4B84-849F-AEBC4411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E135-506C-479E-B5E4-F06C804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20F5-3742-4AE5-842F-AAA032D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06F-FC11-4CA8-A5EB-B7D7C86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F12-4252-4ADC-A14F-CAD85496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2DF-C529-4BB1-A814-D2DCDE68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3C2-6473-4C7F-AC6D-38D91E7B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431-BED6-4A4E-AA5C-6203F99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CDF0-C421-411A-9727-7427D56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1DA4-661A-458B-BA78-1AB8ECA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846-9F1E-4527-A036-A1981DF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05B-1765-4B30-A287-90425142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CE36-7F8D-48A7-AA7E-34A065FB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6EE-B553-49E8-90F1-DCD883B3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13A-463E-4BA7-AC78-7B6440E7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104-8DB7-4CB6-BB6B-661AB92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B19-CE04-47E2-B879-8E72668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5AF-8AB3-4451-A31B-70DB1D4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A09-37D3-4184-B01D-1FB794D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660-77FB-4D5B-8065-F79098F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983-7A2E-4105-BA47-3AE2CACC9F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CE6E-4BC3-4B83-85D4-8717FE0EE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紫藤萝瀑布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者：宗璞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21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教学目的</a:t>
            </a:r>
            <a:r>
              <a:rPr b="0" lang="zh-CN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1337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诵读品味，体会写景的精妙和作者的情感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学习借景抒情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01062_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63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学习要求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不准的字查字典，弄清字音、字形、字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把你认为写得最美最精彩的的句子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文中从欣赏紫藤萝写到回忆紫藤萝，再思索到人生。读后分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提出自己阅读中不能解决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7080" y="3276720"/>
            <a:ext cx="1349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è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i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ió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276720"/>
            <a:ext cx="1009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迸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95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结构脉络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一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看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二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忆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三）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悟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9051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057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819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花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2004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352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赏花的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忆花的劫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颂花的生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029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长河无止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写法分析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本文重在对紫藤萝花作精细、真切的描写，展现紫藤萝积极的内在精神：充满蓬勃的生命力和奔放而又耐得住寂寞的纯朴本性。作者不用直接的渲染抒发，不作直接的说教，而是客观的叙写自己所体味到的，使读者自己去领略紫藤萝花的精神与意义。作者通过驻足惜花写出了自己与如瀑的花沟通，在宁静与喜悦中把美丽的感触升华为对生命的感触。而把回想和展望交织，内在精神和外在情态并举，读者才更加体会到今日花的丰茂的来之不易，在倍加珍惜的心情下，鼓舞起生活的热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从未见过开得这样盛的藤萝，只见一片辉煌的淡紫色，像一条瀑布，从空中垂下，不见其发端，也不见其终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将花喻为“瀑”，形象地表现了花之繁茂，隐含了生命的绵延长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只是深深浅浅的紫，仿佛在流动，在欢笑，在不停地生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用“流动”“欢笑”“生长”等动词，使静态的花色跃动起来，表现出花的生趣盎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语句揣摩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二）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花朵儿一串挨着一串，一朵接着一朵，彼此推着挤着，好不活泼热闹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运用拟人的手法，生动地表现出花的勃勃生机和浪漫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香气似乎也是浅紫色的，梦幻一般轻轻地笼罩着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方正舒体"/>
              </a:rPr>
              <a:t>体会：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方正姚体"/>
              </a:rPr>
              <a:t>使无形的香味化成有形的颜色，具体地表现花香带给作者的那种飘渺轻柔的感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课后作业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743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本文还能给你什么联想和启示？课后写一篇一课一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9051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：两题任选其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114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以《绿色的海洋》为题，抓住森林的特点，运用恰当的修辞手法，借景抒情，写一段落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0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字左右的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01:31:59Z</dcterms:created>
  <dc:creator>wutao</dc:creator>
  <dc:description/>
  <dc:language>en-US</dc:language>
  <cp:lastModifiedBy>周璟</cp:lastModifiedBy>
  <dcterms:modified xsi:type="dcterms:W3CDTF">2004-09-30T06:00:30Z</dcterms:modified>
  <cp:revision>100</cp:revision>
  <dc:subject/>
  <dc:title>教学方案设计 紫藤萝瀑布 (宗璞)</dc:title>
</cp:coreProperties>
</file>