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956-DC00-483B-87AD-3FBCA009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2B5-6A04-41DB-92C1-336F63AE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BA5-8286-40F7-BF8D-974F5D9D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B3A-BA62-4F42-898E-D63B1548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F670-4D86-40D7-AACA-267C3065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3950-B50C-416A-8E47-2A539951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BC2D-32D6-4D21-A3DF-26F16782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CCDB-9C75-4F0B-9787-FC2CF122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170C-E555-4D85-B6A6-FB292D99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1578-FFAE-4162-A9E6-56365F84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409D-2620-459C-AD7D-CFB3F1F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776-E741-4F68-B436-F80378B7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53FD-7797-436B-9D67-E44B367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2725-E4D9-42A4-82E4-68C00ADD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FE0A-75AD-4F4A-84E8-A0F9F071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270D-F278-4CCD-AC22-37FBEC3A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6E3A-3564-4002-ADB8-3D6BB76A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A15-CE88-4C56-8FDD-8789A530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123-39A5-4204-B07F-00EAA52C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DAC-9FC3-4EF5-BA25-A701AEE4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CDF-DBA8-4294-A594-0836E0AF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2E3-02D9-4324-9BB0-C6813430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02D-80A0-48AA-BBD5-3C90115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259-DE67-4C6D-8402-A3E37B4A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4710-811A-4A41-A848-5A2032BBC3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ED34-2F70-416B-998B-DB203C3E5F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紫藤萝瀑布" descr=""/>
          <p:cNvPicPr/>
          <p:nvPr/>
        </p:nvPicPr>
        <p:blipFill>
          <a:blip r:embed="rId1"/>
          <a:stretch/>
        </p:blipFill>
        <p:spPr>
          <a:xfrm>
            <a:off x="483876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680" y="1695600"/>
            <a:ext cx="4228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紫藤萝瀑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H0288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440" y="5187960"/>
            <a:ext cx="296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郁金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H0120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8760" y="755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玫  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01720" y="746280"/>
            <a:ext cx="223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芦 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H01242J" descr=""/>
          <p:cNvPicPr/>
          <p:nvPr/>
        </p:nvPicPr>
        <p:blipFill>
          <a:blip r:embed="rId1"/>
          <a:srcRect l="0" t="0" r="0" b="144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260840" y="47545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杏 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j0145415" descr=""/>
          <p:cNvPicPr/>
          <p:nvPr/>
        </p:nvPicPr>
        <p:blipFill>
          <a:blip r:embed="rId1"/>
          <a:srcRect l="0" t="197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09720" y="285840"/>
            <a:ext cx="228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樱 花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H02971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8760" y="4533840"/>
            <a:ext cx="30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野菊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54120" y="1517760"/>
            <a:ext cx="57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最感兴趣的是哪一种？抓住它的特点进行描绘，再谈谈你的感受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23840" y="603360"/>
            <a:ext cx="481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作业与练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7320" y="1533600"/>
            <a:ext cx="623592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拓展阅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宗璞《红豆》《西湖漫笔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www.oklink.n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王蒙《谈宗璞的两本书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www.jizj.co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2200" y="38952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楷体_GB2312"/>
              </a:rPr>
              <a:t>附：宗璞《西湖漫笔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133640"/>
            <a:ext cx="782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西湖胜景很多，各处有不同的好处，即使一个绿字，也各有不同。黄龙洞绿得幽，屏风山绿得野，九曲十八涧绿得闲。不能一一去说。……在花港观鱼，又看到一种绿。那是满地的新荷，圆圆的绿叶，或亭亭立于水上，或宛转靠在水面，只觉得一种蓬勃的生机跳跃满池。绿色，本来是生命力的颜色。我最爱初春的杨柳嫩枝，那样鲜，那样亮，柳枝儿一摆，似乎蹬着脚告诉你，春天来了。荷叶，则要持重一些，初夏，则更成熟一些，但那透过活泼的绿色表现出来的茁壮生命力，是一样的。再加上叶面上的水球儿滴滴溜溜滚着，简直好像满池荷叶都要裙袂飞扬，翩然起舞了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066920" y="958680"/>
            <a:ext cx="4570200" cy="54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宗璞，当代女作家，原名冯钟璞。主要作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中短篇小说《知音》、《弦上的梦》、《红豆》 ，散文集《丁香结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ZONGPU" descr=""/>
          <p:cNvPicPr/>
          <p:nvPr/>
        </p:nvPicPr>
        <p:blipFill>
          <a:blip r:embed="rId1"/>
          <a:srcRect l="0" t="0" r="0" b="14283"/>
          <a:stretch/>
        </p:blipFill>
        <p:spPr>
          <a:xfrm>
            <a:off x="0" y="1209600"/>
            <a:ext cx="4241880" cy="453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32040" y="184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质疑与交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9720" y="944640"/>
            <a:ext cx="77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作者是从哪几个方面，按什么顺序对盛开的紫藤萝进行描绘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2960" y="1996920"/>
            <a:ext cx="76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怎样理解文中所说的“生死谜”、“手足情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000240"/>
            <a:ext cx="77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怎样理解“花和生活腐化有什么必然联系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0120" y="3870360"/>
            <a:ext cx="7651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怎样理解“花和人都会遇到各种各样的不幸，但是生命的长河是无止境的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3240" y="4878360"/>
            <a:ext cx="785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开头用“我不由得停住了脚步”，结尾用“我不觉加快了脚步”各有什么含义？其作用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63760" y="62064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、从未见过开得这样盛的藤萝，只见一片辉煌的淡紫色，像一条瀑布，从空中垂下，不见其发端，也不见其终极。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38200" y="2417760"/>
            <a:ext cx="708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、紫色的大条幅上，泛着点点银光，就像迸溅的水花。仔细看时，才知那是每一朵紫花中的最浅淡的部分，在和阳光互相挑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93920" y="4357800"/>
            <a:ext cx="72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、每一朵盛开的花像是一个张满了的小小的帆，帆下带着尖底的舱，船舱鼓鼓的；又像一个忍俊不禁的笑容，就要绽开似的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248760" y="590400"/>
            <a:ext cx="164268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析与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60440" y="547560"/>
            <a:ext cx="5780160" cy="1590840"/>
          </a:xfrm>
          <a:prstGeom prst="horizontalScrol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040" y="60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宗璞《哭小弟》片段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是他去了，过早地去了。这一年多，真像是个梦，是个永远不能令人相信的梦。我总觉得他还会回来，从我们那冬夏一律显得十分荒凉的后院走到我窗下，叫一声“小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79851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哭小弟，哭他那在剧痛中还拿着那本航空资料“想再看看”……我也哭蒋筑英抱病奔波，客殇成都；我也哭罗健夫不肯一个人坐一辆汽车！我还要哭那些没有见诸报章的过早离去的我的同辈人。他们几经雪欺霜冻，好不容易奋斗着张开几片花瓣，尚未盛开，就骤然凋谢。我哭我们这迟开而早谢的一代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1200" y="2340000"/>
            <a:ext cx="710568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花和人都会遇到各种各样的不幸</a:t>
            </a:r>
            <a:r>
              <a:rPr b="1" lang="zh-CN" sz="6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但是生命的长河是无止境的。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633240"/>
            <a:ext cx="554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析与探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3840" y="380880"/>
            <a:ext cx="461304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人和花一样都将遇到坎坷和不幸，但美好的事物是扼杀不了的，生活的河流必将冲破各种障碍，年复一年，日复一日向前流动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紫藤萝瀑布" descr=""/>
          <p:cNvPicPr/>
          <p:nvPr/>
        </p:nvPicPr>
        <p:blipFill>
          <a:blip r:embed="rId1"/>
          <a:stretch/>
        </p:blipFill>
        <p:spPr>
          <a:xfrm>
            <a:off x="4883040" y="0"/>
            <a:ext cx="42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83556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Black"/>
                <a:ea typeface="楷体_GB2312"/>
              </a:rPr>
              <a:t>体验与练习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86516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课文中哪些句子最能引起你的共鸣，谈谈体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6920" y="3127320"/>
            <a:ext cx="645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你认为哪些景物描写的最好，试着仿写几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96920" y="4334040"/>
            <a:ext cx="65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欣赏一组花，抓住花的特点进行描绘，再谈谈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1:17:17Z</dcterms:created>
  <dc:creator>wutao</dc:creator>
  <dc:description/>
  <dc:language>en-US</dc:language>
  <cp:lastModifiedBy>周璟</cp:lastModifiedBy>
  <dcterms:modified xsi:type="dcterms:W3CDTF">2004-09-30T06:07:25Z</dcterms:modified>
  <cp:revision>100</cp:revision>
  <dc:subject/>
  <dc:title>宗璞«哭小 弟»</dc:title>
</cp:coreProperties>
</file>