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D03-4AE9-4074-9BC0-E2770984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73E-762A-4A86-BC30-6B50879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7C6-B0E7-45C7-AF01-890AE026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973-13FB-4459-B6FA-FB108698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34C-8E80-4544-916F-9D50156D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82F-D77B-46C3-96E7-ECD7C89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33D-4D13-4D0C-8FCC-379E471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174-7726-4554-BF4B-5CA352DA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F07-E09D-4884-A781-59FF33BD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EE8-EC5B-4A1D-BF84-3F6DF2B0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DB2-F805-424C-A8EB-3E41211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0ED-5517-407D-B521-EE8FE9F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CDE-6D0D-43D0-A17C-ECF260F08E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瀑布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R_054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7600" y="228600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文中插入一段写十多年前家门外的一大株紫藤萝起什么作用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4040" y="228600"/>
            <a:ext cx="88599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用十多年前紫藤萝花的稀落与现在花开得繁盛形成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对比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，突出了现在花的生机盎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用十多年前花的不幸遭遇，与人的不幸遭遇形成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类比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，说明花和人都会遇到各种各样的不幸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R_04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23623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作者由花的勃勃生机感悟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生命的长河是无止境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说说你对这个问题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4800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的长河是无止境的，我们应该以一种乐观的态度去面对生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04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十多年前花稀落，遭遇不幸，过了这么多年，花却开得这样盛，这样生机勃勃，表现自然界生命的顽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命虽然短暂，也会有各种不幸，如：小弟身患绝症，但人类的生命长河并不因某个人的逝去而停止流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9200" y="114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紫藤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508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5880" y="9907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在这淡紫色的芳香中，“我”为什么不觉加快了脚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495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说明作者从花中得到感悟，心中的悲痛焦虑化为精神的宁静和前进的动力，感悟到生命的永恒，同时受到花的感染而激励自己奋发进取，有所作为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紫藤萝瀑布6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990720"/>
            <a:ext cx="396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沉舟侧畔千帆过  病树前头万木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124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生活就像一面镜子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你对她笑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她就对你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作文训练：写一种对自己有启示性的植物。题目自拟，字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0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字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紫藤萝瀑布7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紫藤萝瀑布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4" name="紫藤萝瀑布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紫藤萝瀑布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19810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黑体"/>
              </a:rPr>
              <a:t>题目为什么要加上“瀑布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048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（说明花开得怎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2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2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d3333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宗璞，当代女作家，原名冯钟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主要作品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中短篇小说《知音》、《弦上的梦》、《红豆》 ，散文集《丁香结》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宗璞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7996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219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f8f7"/>
                </a:solidFill>
                <a:latin typeface="Times New Roman"/>
                <a:ea typeface="_x000b__x000c_"/>
              </a:rPr>
              <a:t>——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宗璞一家，在文化大革命中深受迫害，“</a:t>
            </a:r>
            <a:r>
              <a:rPr b="1" lang="zh-CN" sz="4200" spc="-1" strike="noStrike">
                <a:solidFill>
                  <a:srgbClr val="3333cc"/>
                </a:solidFill>
                <a:latin typeface="宋体"/>
              </a:rPr>
              <a:t>焦虑和悲痛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”“一直压在”作者的心上。这篇文章写于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1982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月，当时作者的小弟身患绝症，作者非常悲痛，徘徊于庭院中，见一树盛开的紫藤萝花，睹物释怀，由花儿自衰到盛，感悟到生的美好和生命的永恒，于是写成此文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黑体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ziteng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33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听录音，梳理课文思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198108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66ff"/>
                </a:solidFill>
                <a:latin typeface="Times New Roman"/>
                <a:ea typeface="隶书"/>
              </a:rPr>
              <a:t>赏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98108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66ff"/>
                </a:solidFill>
                <a:latin typeface="Times New Roman"/>
                <a:ea typeface="隶书"/>
              </a:rPr>
              <a:t>忆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198108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66ff"/>
                </a:solidFill>
                <a:latin typeface="Times New Roman"/>
                <a:ea typeface="隶书"/>
              </a:rPr>
              <a:t>悟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90920"/>
            <a:ext cx="1218960" cy="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2590920"/>
            <a:ext cx="1219320" cy="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276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1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－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7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3526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3526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9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－</a:t>
            </a:r>
            <a:r>
              <a:rPr b="0" lang="zh-CN" sz="5400" spc="-1" strike="noStrike">
                <a:solidFill>
                  <a:srgbClr val="cc66ff"/>
                </a:solidFill>
                <a:latin typeface="Times New Roman"/>
                <a:ea typeface="隶书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阅读课文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1-8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小节思考以下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作者从哪几个方面描写盛开的紫藤萝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描绘出了紫藤萝的哪些特点？                                    字里行间流露了作者什么样的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运用了哪些修辞手法 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作者是怎样把景物描绘得生动、传神，令人如临其境、如见其景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82296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0"/>
            <a:ext cx="7848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有淡淡的花香，香气似乎也是浅紫色的，梦幻一般轻轻地笼罩着我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8088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04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一片辉煌的淡紫色。深深浅浅的紫。         紫色的大条幅上，泛着点点银光，就像迸溅的水花。                                                          颜色便上浅下深，好像那紫色沉淀下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3623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像一条瀑布，不见其发端，也不见其终极。每一朵盛开的花像一个张满了的小小的帆，帆下带着尖底的舱。船舱鼓鼓的，又像一个忍俊不禁的笑容，就要绽开似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4680" y="83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468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形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4680" y="4648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香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1:51:53Z</dcterms:created>
  <dc:creator>wutao</dc:creator>
  <dc:description/>
  <dc:language>en-US</dc:language>
  <cp:lastModifiedBy>周璟</cp:lastModifiedBy>
  <dcterms:modified xsi:type="dcterms:W3CDTF">2004-09-30T06:11:57Z</dcterms:modified>
  <cp:revision>100</cp:revision>
  <dc:subject/>
  <dc:title>PowerPoint 演示文稿</dc:title>
</cp:coreProperties>
</file>