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type.wav" ContentType="audio/x-wav"/>
  <Override PartName="/ppt/media/image9.jpeg" ContentType="image/jpeg"/>
  <Override PartName="/ppt/media/image11.jpeg" ContentType="image/jpeg"/>
  <Override PartName="/ppt/media/voltage.wav" ContentType="audio/x-wav"/>
  <Override PartName="/ppt/media/image7.jpeg" ContentType="image/jpeg"/>
  <Override PartName="/ppt/media/image8.jpeg" ContentType="image/jpeg"/>
  <Override PartName="/ppt/media/image10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coin.wav" ContentType="audio/x-wav"/>
  <Override PartName="/ppt/media/image13.jpeg" ContentType="image/jpeg"/>
  <Override PartName="/ppt/media/image12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6E6-BCAF-4F99-8F3A-80A53084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E03-3EAD-4568-9B2E-EA48F1FC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0B1-7C1E-486D-A949-9E24F4A5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53F-449F-42B8-A23F-ECD45311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41E6-AAA6-4958-A84B-C97F9B96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709-55A1-4354-92F1-4247B8E6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F8F5-8171-48C7-BE2A-64679565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3174-6C98-45E4-B884-9876A0CD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5264-C580-426D-96D4-3454D423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DC5C-9731-4136-A7BF-30845EFD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B6CD-89C5-48B4-9732-FCCD8013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DC7-8F58-4815-AAA9-BB6BCE34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5A39-98E1-4F1E-917F-E7D11EFF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4B84-923B-4FDC-A921-429607AA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94BA-36D0-4D30-83DF-2586C266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5EF4-018B-4EA4-9E04-49345F02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814B-FFD9-4090-B667-A2B80A64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CAD4-9873-4844-A0B4-F2A2A6A6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BD41-60D4-4AB2-BBE0-8B81E109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126B-25B7-4B73-A94B-698B05DB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2D8E-29B2-47AD-B64A-24F6B4D2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4206-D612-40D9-8FA9-5484EF95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F09-2B06-432B-8C26-DA8B431E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C7C6-4E53-452C-8A76-F9AF2AC3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F4CC8-73CB-4755-8C89-DC0587E0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EADC-6B8A-4B29-8E43-F2E93825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062D-F9A4-47FB-B094-1ABED69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F4DC-804B-4372-9A3D-2AE04B5E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5D7D-7C9F-409E-93D5-C6B24E7D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40BB-4259-4A6D-A3CC-4BD36A61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64C3-4C4C-47A4-8E42-8E273848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4EEB-3B52-4A97-B1E1-3B77A210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8ABE1-3404-41B3-8962-551D1CA2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A20-21AE-437F-B414-700CCF9B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026B0-65FF-4AFE-AE6C-8A1C3774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3E72F-1CE9-49CB-B9D5-12FD3A37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7CC91-996D-4630-8DC9-AD5CEC34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1BBE-D6DA-4AFD-A3FB-DA886B28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A3B6B-686A-428B-B9AE-1A8B4AB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AEC1C-F6C0-4AD8-BAE3-D65E400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47004-A2D0-4612-9CE8-E3141269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D50E0-3BC4-476B-802A-E0793FB3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F6EA9-23EC-4230-8A9F-18FE506E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B33DF-45D0-4110-BF93-0563C8DF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059-D184-4034-B772-079C9751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6899C-0135-49F7-BB21-9B6FBFC9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57B94-D89D-46B1-B81F-EED71739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F1321-77FF-4A0A-8457-B3E1B25C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9EEF4-D4AE-40C1-99EA-A7C07E5E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CB19B-81C0-440A-B8F1-3033C19B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E3C0-A640-4135-8617-A964D3C9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B38C-96E8-4540-B93F-ADC4B50E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51D57-7126-4654-B163-032F6C6F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DBB8-AC01-4853-A35D-5A9DF453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AFE9-A7E2-4D90-ADAD-605BC3A5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3CF-5F3D-4125-888B-D0300B64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D949-FC2A-4BD6-AC23-9D222F78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4ED4-9432-426D-8D8B-C45044C9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1F9E0-73F5-4C8E-895A-458D2CBE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5AC3A-EB8F-4E7A-9F02-88599318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7C764-6A17-4872-BCAD-410DFAD6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D58A6-5653-49BC-87E3-0AE7940D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C23D-6A74-44CE-9955-71EEB0E9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31DB8-5064-47E5-BB7B-221809A7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4E51B-6C79-43B8-902A-44919BF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D0094-73E6-443F-B311-28BD8A0F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C2A-83E5-4FBF-9EC5-AC2D899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C73D-C388-4928-A5F1-E439D412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FC16B-D830-4167-A808-01874FAD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24F71-7F62-4658-8E64-F714E981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339A-4245-405D-A732-FE863C3A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70C8B-0166-4960-8EA5-2847E0D9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BE556-1834-40B9-8E84-CCAFC0D3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90792-6D9B-4096-A10E-5A1BA9AA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AC80D-FEBD-4629-B710-761C3161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BA950-AD07-41B3-A6D6-20712240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6427B-AD1C-4CC9-ABC6-D2BD330B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791-E2C1-4BB2-A584-4B101703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A9A1A-2248-4C30-B5A3-4520C15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86C7-6293-4DC9-A443-E17F3CFE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7B5D1-7249-4770-B1F1-D672F328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BBDA2-B63D-4808-A685-24F6D8E9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4234C-CEB5-4DE6-AFBF-C638F8D1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F4128-BA96-4505-835F-1892A45D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95450-15D1-488F-A383-D12926DB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8F1C8-B9DD-43CD-AB49-0DEECB8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95689-E3CF-4274-9092-552A6B48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A39E1-C58E-4FA8-B2D3-1903157D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49C-DEF8-42B7-BD57-1DDFF36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C9297-9526-44B0-B070-9E504F7C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AD7B9-0761-4AEB-B98A-2A49DFE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4FCB1-C767-4884-8263-DF9D0E9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9F854-9456-4150-90E9-B35A830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93FF-FBD2-441E-A761-738648D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EA2C0-1865-4260-BBD3-A403ECF3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70694-1F85-4ECC-9859-68FD1C22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0032-49BB-4DF1-8280-149D15E7D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95D4-5895-4737-AB30-1B5819BB7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135D-E4B8-4FBF-BC59-0462746A5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E45E-3F23-4C61-9973-1FC42A40A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60A0-6300-4688-B0EC-A5AF0C8B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7A09-75D8-48A9-841F-3CE592562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77CD-A045-4414-8710-0150E9B8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486F-EC8C-4E89-B970-83979FFC6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zyk.chy-bjedu.com.cn/internet/pep/zhongyu/0330.htm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undavid.net/mulu.htm" TargetMode="External"/><Relationship Id="rId2" Type="http://schemas.openxmlformats.org/officeDocument/2006/relationships/image" Target="../media/image15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law.cdbnet.com.cn/article/pic/rsrh/hua/hua.s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houhui.com/show.php?type=chuyi&amp;id=1063117292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1.people.com.cn/GB/kejiao/41/20030414/971008.html" TargetMode="External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ziteng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Arial"/>
                <a:ea typeface="隶书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Arial"/>
                <a:ea typeface="隶书"/>
              </a:rPr>
              <a:t>紫藤萝瀑布   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Arial"/>
                <a:ea typeface="隶书"/>
              </a:rPr>
              <a:t>宗璞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c-0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2520"/>
            <a:ext cx="9144000" cy="72230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826920" y="0"/>
            <a:ext cx="70567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探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作者感到焦虑、悲伤时看到了紫藤萝花，紫藤萝又有什么样的遭遇变迁？作者为什么会对它产生深厚的感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怎样理解“花和人都会遇到各种各样的不幸，但生命的长河是无止境的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隶书"/>
              </a:rPr>
              <a:t>赏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隶书"/>
              </a:rPr>
              <a:t>　　我们读过美文、赏过藤萝之后，是不是该一起品一品佳句啦？请同学们再次有感情的朗读课文，然后用笔划出你喜欢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050920" y="907920"/>
            <a:ext cx="60501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幼圆"/>
              </a:rPr>
              <a:t>写法指导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１、通过学习本文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觉得应该如何写好一篇写景、状物散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２、你觉的怎样写景状物才能更加细致、生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2916360" y="981000"/>
            <a:ext cx="561636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迁移训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-方正超大字符集"/>
              </a:rPr>
              <a:t>１、生活中那些景、那些物化解过你你心中的“结”，试者讲一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-方正超大字符集"/>
              </a:rPr>
              <a:t>２、下面有几种植物，现在大家可以根据自己的喜好，任选一种进行描述，注意运用本文学过的写作方法，看谁描写的最生动、逼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1360"/>
            <a:ext cx="939636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22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2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664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10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721800" cy="811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571680" y="228600"/>
            <a:ext cx="80010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预习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词语：                             发端               终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多音字：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ǎ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别嚷了）（妈妈又嚷我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嚷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ā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嚷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听写：嚷  穗  舱  绽  凑  酿  发端  终极  迸溅  挑逗  繁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伫立    凝望    笼罩    伶仃  稀零 忍俊不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仙露琼浆      蜂围蝶阵       盘虬卧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14600" y="16765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cyj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514600"/>
            <a:ext cx="9416880" cy="129538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380880" y="609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28600"/>
            <a:ext cx="601992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幼圆"/>
              </a:rPr>
              <a:t>整体感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1—6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看花     繁花似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7—9 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忆花     思绪万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10—11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思花    振奋精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58000" y="27115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}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91520" y="2895480"/>
            <a:ext cx="1752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生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永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28600" y="533520"/>
            <a:ext cx="69343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探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作者的心情是怎样变化    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为什么会有“ 一直压在我心上的焦虑和悲痛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af187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7083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4572000" y="2286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作者简介</a:t>
            </a:r>
            <a:r>
              <a:rPr b="1" lang="en-US" sz="2000" spc="-1" strike="noStrike">
                <a:solidFill>
                  <a:srgbClr val="ff0066"/>
                </a:solidFill>
                <a:latin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  宗璞，原名冯钟璞。著名哲学家冯友兰之女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928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月生于北京。自幼生长于清华园吸收了中国传统文化与西方文化之精华，学养深厚，气韵独特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946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年考入天津南开大学外文系，后转人清华大学外文系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951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年毕业。曾任《文艺报》、《世界文学》等刊物编辑。 文革前主要作品有《红豆》、《桃园女儿嫁窝谷》 、《不沉的潮》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933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6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加入中国作家协会。文革后主要作品有：《弦上的梦》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78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月《人民文学》），《三生石》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8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百花文艺出版社出版）。《宗璞小说散文选》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8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北京出版社出版），《丁香结》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86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百花文艺出版社出版）等。其中《三生石》获第一届全国优秀中篇小说奖，《弦上的梦》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78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全国优秀短篇小说奖。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出版的《宗璞散文选集》（百花文艺出版社）是她最具代表性的一部散文集。她的散文情深意长，隽永如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NewsMedia_25603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3419640" y="4762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cc"/>
                </a:solidFill>
                <a:latin typeface="Arial"/>
                <a:ea typeface="隶书"/>
              </a:rPr>
              <a:t>历史背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9368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66702" descr="802.jpg (40947 字节)"/>
          <p:cNvPicPr/>
          <p:nvPr/>
        </p:nvPicPr>
        <p:blipFill>
          <a:blip r:embed="rId1"/>
          <a:stretch/>
        </p:blipFill>
        <p:spPr>
          <a:xfrm>
            <a:off x="-457200" y="49320"/>
            <a:ext cx="96012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440" y="14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920960" y="1494000"/>
            <a:ext cx="5303880" cy="3870000"/>
            <a:chOff x="1920960" y="1494000"/>
            <a:chExt cx="5303880" cy="3870000"/>
          </a:xfrm>
        </p:grpSpPr>
        <p:sp>
          <p:nvSpPr>
            <p:cNvPr id="764" name=""/>
            <p:cNvSpPr/>
            <p:nvPr/>
          </p:nvSpPr>
          <p:spPr>
            <a:xfrm>
              <a:off x="1920960" y="14940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20960" y="1494000"/>
              <a:ext cx="5303880" cy="38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3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1440" y="17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0" y="0"/>
            <a:ext cx="7224480" cy="5128920"/>
            <a:chOff x="0" y="0"/>
            <a:chExt cx="7224480" cy="5128920"/>
          </a:xfrm>
        </p:grpSpPr>
        <p:sp>
          <p:nvSpPr>
            <p:cNvPr id="768" name=""/>
            <p:cNvSpPr/>
            <p:nvPr/>
          </p:nvSpPr>
          <p:spPr>
            <a:xfrm>
              <a:off x="0" y="0"/>
              <a:ext cx="7224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0" y="0"/>
              <a:ext cx="722448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U21P112T3D68449F48DT20040519153503" descr=""/>
          <p:cNvPicPr/>
          <p:nvPr/>
        </p:nvPicPr>
        <p:blipFill>
          <a:blip r:embed="rId1"/>
          <a:stretch/>
        </p:blipFill>
        <p:spPr>
          <a:xfrm>
            <a:off x="-457200" y="3240"/>
            <a:ext cx="9601200" cy="6960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44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920960" y="1905120"/>
            <a:ext cx="5303880" cy="3047760"/>
            <a:chOff x="1920960" y="1905120"/>
            <a:chExt cx="5303880" cy="3047760"/>
          </a:xfrm>
        </p:grpSpPr>
        <p:sp>
          <p:nvSpPr>
            <p:cNvPr id="773" name=""/>
            <p:cNvSpPr/>
            <p:nvPr/>
          </p:nvSpPr>
          <p:spPr>
            <a:xfrm>
              <a:off x="1920960" y="190512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20960" y="1905120"/>
              <a:ext cx="530388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5" name="U21P112T3D68452F48DT20040519153503" descr=""/>
          <p:cNvPicPr/>
          <p:nvPr/>
        </p:nvPicPr>
        <p:blipFill>
          <a:blip r:embed="rId1"/>
          <a:stretch/>
        </p:blipFill>
        <p:spPr>
          <a:xfrm>
            <a:off x="-914400" y="38160"/>
            <a:ext cx="10515600" cy="678492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2290680" y="2833560"/>
            <a:ext cx="456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6:44:58Z</dcterms:created>
  <dc:creator>wutao</dc:creator>
  <dc:description/>
  <dc:language>en-US</dc:language>
  <cp:lastModifiedBy>周璟</cp:lastModifiedBy>
  <dcterms:modified xsi:type="dcterms:W3CDTF">2004-09-30T07:26:28Z</dcterms:modified>
  <cp:revision>100</cp:revision>
  <dc:subject/>
  <dc:title>    紫藤萝瀑布     宗璞</dc:title>
</cp:coreProperties>
</file>