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laser.wav" ContentType="audio/x-wav"/>
  <Override PartName="/ppt/media/image5.gif" ContentType="image/gif"/>
  <Override PartName="/ppt/media/bomb.wav" ContentType="audio/x-wav"/>
  <Override PartName="/ppt/media/type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627-663B-4F6F-9E40-F3B24A79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B59-939D-497C-9F69-BF77AA1C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C0C73-CDFC-4949-B456-8996E198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4B840-B9AF-4B9E-83DC-5C1D91E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93319-3FAD-4AAD-B984-176C016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FB9FD-01E7-45F9-B19B-61CFD82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B4DAA-E60E-4215-910F-867FBFE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08719-D65D-4557-AB25-C435F3CB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BE069-A8AE-4640-8E86-EE93CFF9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F4DAC-1C2C-4825-9A3D-54339F30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61122-14A7-4C8C-8FC1-2894B1D4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8867-70F0-4EEA-96F1-AE25E9BC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5E9-D7ED-4099-BAAB-622D889D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65A1F-51EE-4CEC-8CD4-791489C8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EF49D-A3C3-4272-9C44-4607928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3D9E9-9EB6-4535-8FDC-0EB08EB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C4640-D055-49B8-8698-36317F51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A197A-6A20-43E2-ABE4-B1EA1216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981B5-9171-4B47-BEF3-EB3FA03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D5447-34FB-420A-8F2C-FB57047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BE155-28D4-4CDA-A406-2137FC7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7FC78-FAAB-4116-AF94-3E4AC50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773F6-6DDD-4CAA-8C53-9F032E07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011-DFDC-4B3A-96C0-63B0DB2B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E1738-2538-488F-AE92-30C97A5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EC98B-740E-4408-AAA5-00BDDA44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2D33A-3566-4860-A821-EF318B6F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7EA07-0B82-4EBF-9A42-EC2B6513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E954F-D2E5-43EA-912E-7E6A5550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E6CA-8DFE-4B83-AEBE-7E985217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A8005-85DE-4433-8F80-EA26032D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983C9-FE0C-4E10-8D54-C7733167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61FB1-6026-4856-851E-C3B93779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85E0E-1AF1-4BFA-979A-36885DE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6C9DC-593B-41A6-BFC3-53E5642A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BDD0E-CDAB-47E0-BAD5-5855DC4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76900-9BA6-47F9-8C05-635890A0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9C3A1-A29E-44F4-B36A-6111582D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55199-B49E-4777-8AE9-352F6CCA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FD80B-48C4-402A-AB40-F3C2ED43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5FEAB-8F61-4835-A635-B7B8A6A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B40F8-4852-4098-B8EF-CC176DF9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DF910-8845-43D3-BBE2-D2E59478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93885-238C-46A7-AAAC-4602A195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DDA72-A25D-43F1-8F79-5B5821C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754F4-8025-4025-83FC-66B6C165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91A0A-74C5-4855-A38E-651B359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EF804-2A1A-4D8D-A1EA-33FC8DBA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7623F-8485-470C-99AA-6224F61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A41F2-71E9-420A-BC21-0EA86600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0FB8D-2C40-4FB8-95FF-BB686C82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61E8C-9763-409A-A40F-CDBF453F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C95BC-6FD8-43D3-93A8-1B1F397D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05F49-800C-4114-8F11-25418B28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C06B3-598C-42AB-B877-E5BB7747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FFAE4-A46A-4B5D-B147-A85071C9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2F3-F97F-4B5A-9DCA-BC84DD3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D0EA-DA7D-41B9-B579-CA9AD56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02F6C-6324-4360-9150-2D07543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E7E02-5C37-4755-A980-77A65473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3B3B9-58FD-43FA-89A8-971E418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DFD19-0914-46B4-ABA7-E68B9C5C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CF99-594C-437C-B515-39E2784B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E85A-ED03-4786-8ED9-8F1BC0F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C1AB-55B7-4F36-953B-2CF3868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C54D-9E2C-4684-9338-3C91D732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4A02-9AFA-4B85-AA1F-269C301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208-7D73-4546-9723-12406F68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FC4C-95E4-4D4C-8C61-7CDC5261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2409-7260-4288-85AB-DAD2F80E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299F-048D-4F4A-9474-BEC3085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4CFD-13C2-4383-9BA9-9437899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A46C-EE03-45FE-A11F-2A7C27B8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C20E-E791-4D57-B98A-798700C9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468A-4AE3-4CF7-AE52-ABEAF85A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8EB5-CABF-44A0-B011-82B05F53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1F4C-2D84-49F5-B5D7-BAE8B8FE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E7E1-B325-428C-9BB4-0241B69E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06B-77C0-4A90-9274-A0D76235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968F-BA6D-4C52-A1A8-B77DAB5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242B6-424B-446F-B054-49D086BE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E404-5E11-4183-A205-E67AE7A6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E077-90F4-4A91-B962-CFB05B0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8031-BE64-49BE-AB4E-37C9908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2961-6EC5-452F-AB8D-87C22FF2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1D80-8F66-455B-9A0E-67D559D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6067-A6CF-42C2-8098-260BCF2D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2A6D-4B38-4D78-AD37-1AAA59E7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4FFE-C7B3-48CE-8A3B-7EA0FEF3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87D-53E4-4D7E-9025-62101E8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EC93-7F07-4C08-9F02-E6FBDDFD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59AE-7019-4484-8AD9-DB3C953A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E6D4F-9443-43DD-B14F-B49F02D3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59A1E-E675-480E-8B39-B9BE483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1460-DBBA-4C03-AA75-E7BBF669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29CA9-3311-435A-A453-ADF4881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08336-943E-4F18-92C7-E80D4E4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996A-FBA7-41B1-A317-3850F9F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CCD36-2D96-44D0-B9AE-BC3ED90D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7268A-2779-450B-8F98-97611C29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549-AF4B-4140-97E5-E6E937CF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651F5-8BAE-48FC-B617-F9A72E18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16C76-61B6-4158-8F70-5D422032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FA91-0208-4143-AE9F-08FDA9E5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10A3-E397-43B5-91B0-317E15EF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DF040-B067-4180-AF8A-69FE502A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FF234-94B6-4DD9-8CBB-E7F511A8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C0FA2-F296-4048-9C1A-39A77C77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BD963-B2FC-4868-92CE-F8F73867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B3D6-CDD3-4842-B334-96506EC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3B0E-A2A7-4C56-A0A2-7F515C3A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70A-F4ED-4FB2-AC1B-52CD0D3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A868-8B85-4313-BDBF-7F93460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4EE9-02B7-4116-AE2D-EF03C759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E4BD-951A-427D-B90D-4E84F237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C638-4CB2-4127-9F69-CD39A670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88DD-E9CC-452B-9176-8AB265C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00F42-86ED-44B3-B155-A96E1A14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D2557-52E5-4883-8304-75DEBC74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2BF8-CA13-47F7-A225-74D9CF8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3D64-5FD0-49EC-B2C9-7E2296E2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3453-F31A-408F-8C5E-08F4CCC6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326-9A6A-497F-97B3-63C89B1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0323D-7BBC-407C-B030-4BC5F8B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2030B-7729-4686-BCB6-050A8D2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FD22-0C54-4C26-B327-D278AC5D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6F51-1F6E-4A6D-A2C0-7AC4AD9D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6FB2-156A-4508-92DE-D6B5DBAD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524A0-EF08-485D-A9C1-53447B17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FB38-3825-44CC-BFA6-120A24FE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5159D-9CB7-474F-A7F8-44AFE012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5835A-75CF-4045-B393-47CC80F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8CB3-D1D1-490D-A764-089F0975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5EC-9144-4AEF-95A4-584A183B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A698-21F9-43CE-A1A9-74C8610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69D9A-54FC-4E4E-8292-4850ACF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19A4-6B79-4B67-BE94-9152B99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6AC02-2F9E-4377-A4FC-D0B1084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000ED-9CA3-468D-AA53-C42FAB6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6D30B-F073-4087-91DA-510F96E6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FA35C-334C-4950-AE10-DEED3DE7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A3F06-5FA7-49DC-B581-90AAD02D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342F3-9C2B-4FCB-A36A-DD43B8F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F1D59-A788-4766-A2D0-67306CCA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16A1-7157-4AA6-841B-7321634E10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A15A-4909-4503-845F-305BF9CFD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2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102-FBB3-4257-AFBB-52BCAB4C390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0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E8E0-5CCF-4790-8D0D-0A80DD36D33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454D-5E86-4C61-BA6B-33EBF1291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FE7A-5A4E-4CC8-8ED9-86111FFCB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8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8A4-5003-48FD-AF4E-DE3A1CCF6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CCAD-5636-442E-A584-3437DE20E28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FBCC-363E-4C6B-A227-9E78B94A729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6C60-4D39-4DFA-AC36-4A187C7E0034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3BA9-CB62-44B0-AA8B-D65DC6F0A14B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03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26F3-4E23-486F-A23C-A7EEDB72E1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1.xml"/><Relationship Id="rId16" Type="http://schemas.openxmlformats.org/officeDocument/2006/relationships/slide" Target="slide1.xml"/><Relationship Id="rId17" Type="http://schemas.openxmlformats.org/officeDocument/2006/relationships/slide" Target="slide1.xml"/><Relationship Id="rId18" Type="http://schemas.openxmlformats.org/officeDocument/2006/relationships/slide" Target="slide1.xml"/><Relationship Id="rId19" Type="http://schemas.openxmlformats.org/officeDocument/2006/relationships/slide" Target="slide1.xml"/><Relationship Id="rId20" Type="http://schemas.openxmlformats.org/officeDocument/2006/relationships/slide" Target="slide1.xml"/><Relationship Id="rId21" Type="http://schemas.openxmlformats.org/officeDocument/2006/relationships/slide" Target="slide1.xml"/><Relationship Id="rId22" Type="http://schemas.openxmlformats.org/officeDocument/2006/relationships/slide" Target="slide1.xml"/><Relationship Id="rId23" Type="http://schemas.openxmlformats.org/officeDocument/2006/relationships/slide" Target="slide1.xml"/><Relationship Id="rId2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" Target="slide10.xml"/><Relationship Id="rId5" Type="http://schemas.openxmlformats.org/officeDocument/2006/relationships/audio" Target="../media/laser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3" name=""/>
          <p:cNvGrpSpPr/>
          <p:nvPr/>
        </p:nvGrpSpPr>
        <p:grpSpPr>
          <a:xfrm>
            <a:off x="250920" y="0"/>
            <a:ext cx="4213080" cy="2260800"/>
            <a:chOff x="250920" y="0"/>
            <a:chExt cx="4213080" cy="2260800"/>
          </a:xfrm>
        </p:grpSpPr>
        <p:sp>
          <p:nvSpPr>
            <p:cNvPr id="774" name=""/>
            <p:cNvSpPr/>
            <p:nvPr/>
          </p:nvSpPr>
          <p:spPr>
            <a:xfrm>
              <a:off x="250920" y="0"/>
              <a:ext cx="421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理  想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14560" y="155736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流沙河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066160" cy="6352560"/>
            <a:chOff x="228600" y="228600"/>
            <a:chExt cx="8066160" cy="635256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637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72960" y="660240"/>
              <a:ext cx="5761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人需要有理想，但是需要人的符合自然的理想，而不是超自然的理想。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                              ——</a:t>
              </a: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列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7320" y="2963880"/>
              <a:ext cx="763272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理想是需要的，是我们前进的方向，现实有了理想的指导才有前途；反过来，也必须从现实的努力中才能实现理想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                                                ——</a:t>
              </a: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周恩来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6040" y="5411880"/>
              <a:ext cx="7848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世上最快乐的事，莫过于为理想而奋斗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                                                ——</a:t>
              </a:r>
              <a:r>
                <a:rPr b="0" lang="zh-CN" sz="2800" spc="-1" strike="noStrike">
                  <a:solidFill>
                    <a:srgbClr val="ffcc00"/>
                  </a:solidFill>
                  <a:latin typeface="Tahoma"/>
                </a:rPr>
                <a:t>苏格拉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99cc00"/>
                </a:solidFill>
                <a:uFillTx/>
                <a:latin typeface="Arial Black"/>
                <a:ea typeface="黑体"/>
                <a:hlinkClick r:id="rId1" action="ppaction://hlinksldjump"/>
              </a:rPr>
              <a:t>作者简介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流沙河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31-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，原名余勋坦，四川成都人。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48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年高中时期开始发表作品。五十年代初任编辑开始写诗。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56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年出版第一部诗集《农村夜曲》。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57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月参与创办诗刊《星星》，并发表散文诗《草木篇》，由此为诗界、文学界瞩目。但后者不久即遭到公开批判，被认为是“站在已被消灭的阶级立场”上，“向人民发出的一纸挑战书”，由此被打为右派，遣送回原籍劳动。七十年代末回归文坛，仍然以诗作为主，记叙自己以往的生活遭遇和心理体验，后结集为《流沙河诗集》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82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、《故园别》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、《游踪》（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336666"/>
                </a:solidFill>
                <a:latin typeface="Arial"/>
              </a:rPr>
              <a:t>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826920" y="2752560"/>
            <a:ext cx="705816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" action="ppaction://hlinksldjump"/>
              </a:rPr>
              <a:t>诗人流沙河，原名余勋坦。他立志做一粒流沙追随时代潮流，就取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3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4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5" action="ppaction://hlinksldjump"/>
              </a:rPr>
              <a:t>作为笔名。后因发现也有人以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6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7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8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9" action="ppaction://hlinksldjump"/>
              </a:rPr>
              <a:t>作为笔名，便在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0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1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2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3" action="ppaction://hlinksldjump"/>
              </a:rPr>
              <a:t>后添一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4" action="ppaction://hlinksldjump"/>
              </a:rPr>
              <a:t>"河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5" action="ppaction://hlinksldjump"/>
              </a:rPr>
              <a:t>字，成为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6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7" action="ppaction://hlinksldjump"/>
              </a:rPr>
              <a:t>流沙河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8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19" action="ppaction://hlinksldjump"/>
              </a:rPr>
              <a:t>。据知戏曲史专家刘景彦，也用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0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1" action="ppaction://hlinksldjump"/>
              </a:rPr>
              <a:t>流沙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2" action="ppaction://hlinksldjump"/>
              </a:rPr>
              <a:t>"</a:t>
            </a:r>
            <a:r>
              <a:rPr b="0" lang="zh-CN" sz="3200" spc="-1" strike="noStrike" u="sng">
                <a:solidFill>
                  <a:srgbClr val="99cc00"/>
                </a:solidFill>
                <a:uFillTx/>
                <a:latin typeface="Tahoma"/>
                <a:hlinkClick r:id="rId23" action="ppaction://hlinksldjump"/>
              </a:rPr>
              <a:t>作笔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正音，正字，解释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蜕  饥寒  离乱  缀连  远行  倔强  洗濯  玷污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怨恨  扒窃  诅咒  浓阴  海天相吻  浪子回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碌碌终生  绝处逢生  可望不可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寂寥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2411280" y="260280"/>
            <a:ext cx="403236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读一读 想一想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782" name=""/>
          <p:cNvSpPr/>
          <p:nvPr/>
        </p:nvSpPr>
        <p:spPr>
          <a:xfrm>
            <a:off x="755640" y="177336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，这首诗歌的主旨是什么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．诗歌是从哪些方面表现主旨的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．试着分析诗歌的结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419640" y="-387360"/>
            <a:ext cx="2519280" cy="2104920"/>
            <a:chOff x="3419640" y="-387360"/>
            <a:chExt cx="2519280" cy="2104920"/>
          </a:xfrm>
        </p:grpSpPr>
        <p:sp>
          <p:nvSpPr>
            <p:cNvPr id="784" name=""/>
            <p:cNvSpPr/>
            <p:nvPr/>
          </p:nvSpPr>
          <p:spPr>
            <a:xfrm>
              <a:off x="3419640" y="-387360"/>
              <a:ext cx="208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理  想</a:t>
              </a:r>
              <a:r>
                <a:rPr b="1" lang="zh-CN" sz="9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27640" y="11970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流沙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250920" y="306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4360" y="213372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理想是方向  （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11280" y="3284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问题：第一节四个比喻，喻意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8360" y="4005360"/>
            <a:ext cx="691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前两个比喻为第三个作铺垫，诗意主要在后两个比喻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“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黑体"/>
              </a:rPr>
              <a:t>黎明”指理想境界，这一节主要是说，理想是前进的方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>
            <a:hlinkClick r:id="rId2" action="ppaction://hlinksldjump"/>
          </p:cNvPr>
          <p:cNvSpPr/>
          <p:nvPr/>
        </p:nvSpPr>
        <p:spPr>
          <a:xfrm>
            <a:off x="7164360" y="2276640"/>
            <a:ext cx="1657440" cy="2665080"/>
          </a:xfrm>
          <a:prstGeom prst="rightArrow">
            <a:avLst>
              <a:gd name="adj1" fmla="val 48426"/>
              <a:gd name="adj2" fmla="val 4512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260280"/>
            <a:ext cx="1042920" cy="6337440"/>
          </a:xfrm>
          <a:custGeom>
            <a:avLst/>
            <a:gdLst>
              <a:gd name="textAreaLeft" fmla="*/ 666360 w 1042920"/>
              <a:gd name="textAreaRight" fmla="*/ 1043280 w 1042920"/>
              <a:gd name="textAreaTop" fmla="*/ 165240 h 6337440"/>
              <a:gd name="textAreaBottom" fmla="*/ 6172200 h 633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42920" y="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历史意义（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00000" y="692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问题：第二节说，不同时代有不同理想，理想有时代性，对吗？除此之外，还包含什么含义？第三节意思怎样理解，跟第二节有什么联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4360" y="3213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人格意义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00000" y="6021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人生意义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>
            <a:hlinkClick r:id="rId2" action="ppaction://hlinksldjump"/>
          </p:cNvPr>
          <p:cNvSpPr/>
          <p:nvPr/>
        </p:nvSpPr>
        <p:spPr>
          <a:xfrm>
            <a:off x="8244000" y="1916280"/>
            <a:ext cx="900000" cy="24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42920" y="3933720"/>
            <a:ext cx="489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问题：……　　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……　　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42920" y="5445000"/>
            <a:ext cx="35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042920" y="53737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问题：……　　……　　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916360" y="2276640"/>
            <a:ext cx="482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树立理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为之奋斗（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12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>
            <a:hlinkClick r:id="rId2" action="ppaction://hlinksldjump"/>
          </p:cNvPr>
          <p:cNvSpPr/>
          <p:nvPr/>
        </p:nvSpPr>
        <p:spPr>
          <a:xfrm>
            <a:off x="250920" y="2133720"/>
            <a:ext cx="2484360" cy="2376360"/>
          </a:xfrm>
          <a:custGeom>
            <a:avLst/>
            <a:gdLst>
              <a:gd name="textAreaLeft" fmla="*/ 310320 w 2484360"/>
              <a:gd name="textAreaRight" fmla="*/ 2174040 w 2484360"/>
              <a:gd name="textAreaTop" fmla="*/ 594000 h 2376360"/>
              <a:gd name="textAreaBottom" fmla="*/ 17823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3419640" y="-387360"/>
            <a:ext cx="2519280" cy="2104920"/>
            <a:chOff x="3419640" y="-387360"/>
            <a:chExt cx="2519280" cy="2104920"/>
          </a:xfrm>
        </p:grpSpPr>
        <p:sp>
          <p:nvSpPr>
            <p:cNvPr id="803" name=""/>
            <p:cNvSpPr/>
            <p:nvPr/>
          </p:nvSpPr>
          <p:spPr>
            <a:xfrm>
              <a:off x="3419640" y="-387360"/>
              <a:ext cx="208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理  想</a:t>
              </a:r>
              <a:r>
                <a:rPr b="1" lang="zh-CN" sz="9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27640" y="11970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流沙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0" y="4672080"/>
            <a:ext cx="9144000" cy="2185920"/>
            <a:chOff x="0" y="4672080"/>
            <a:chExt cx="9144000" cy="2185920"/>
          </a:xfrm>
        </p:grpSpPr>
        <p:pic>
          <p:nvPicPr>
            <p:cNvPr id="806" name="" descr=""/>
            <p:cNvPicPr/>
            <p:nvPr/>
          </p:nvPicPr>
          <p:blipFill>
            <a:blip r:embed="rId3"/>
            <a:stretch/>
          </p:blipFill>
          <p:spPr>
            <a:xfrm>
              <a:off x="0" y="4672080"/>
              <a:ext cx="91440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>
              <a:hlinkClick r:id="rId4" action="ppaction://hlinksldjump"/>
            </p:cNvPr>
            <p:cNvSpPr/>
            <p:nvPr/>
          </p:nvSpPr>
          <p:spPr>
            <a:xfrm>
              <a:off x="8459640" y="4724280"/>
              <a:ext cx="627120" cy="21337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37040" y="4797360"/>
              <a:ext cx="60696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重温经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395280" y="260280"/>
            <a:ext cx="8497800" cy="6571080"/>
            <a:chOff x="395280" y="260280"/>
            <a:chExt cx="8497800" cy="6571080"/>
          </a:xfrm>
        </p:grpSpPr>
        <p:sp>
          <p:nvSpPr>
            <p:cNvPr id="810" name=""/>
            <p:cNvSpPr/>
            <p:nvPr/>
          </p:nvSpPr>
          <p:spPr>
            <a:xfrm>
              <a:off x="468360" y="260280"/>
              <a:ext cx="56163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理想并不能够被现实征服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希望的火花在黑暗的天空闪耀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巴金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5280" y="2276640"/>
              <a:ext cx="6697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1280" y="2060640"/>
              <a:ext cx="5976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一种理想，就是一种力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罗曼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罗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1280" y="3429000"/>
              <a:ext cx="8137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生活中没有理想的人，是可怜的人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屠格涅夫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4360" y="5013360"/>
              <a:ext cx="82087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我们如果没有理想，我们的头脑将陷入昏沉；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我们如果不从事劳动，我们的理想又怎样实现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Tahoma"/>
                </a:rPr>
                <a:t>陈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1:24:26Z</dcterms:created>
  <dc:creator>wutao</dc:creator>
  <dc:description/>
  <dc:language>en-US</dc:language>
  <cp:lastModifiedBy>a</cp:lastModifiedBy>
  <dcterms:modified xsi:type="dcterms:W3CDTF">2004-12-16T01:57:02Z</dcterms:modified>
  <cp:revision>100</cp:revision>
  <dc:subject/>
  <dc:title>幻灯片 1</dc:title>
</cp:coreProperties>
</file>