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BC2-3A5A-4A3E-91A2-F3324FDE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AA8-30ED-4897-9128-FC52AAA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387-F954-469B-95B4-BDEB8B49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B53-34F9-471A-B8F2-1308360A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C939-1689-4359-A6D3-865AD547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4DEE-9E49-4AF3-A5C7-F7FC2B72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02BF-FA67-4E22-AEF6-035F8AA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08AB-8438-453B-8A95-2F114262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3C1-4C72-4235-9E81-049807E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855-F3AD-4A44-9E2D-B11260B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91B-1D72-483A-B607-138B77E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E79-667F-48F4-9C23-5679D1A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1E3-9A92-459D-848D-BC22DF6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4AF-4366-48DE-B5F9-DE4F16E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01A-836D-4D6F-BEAA-1F5C9E38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AF38-F0D6-4A5F-9456-300CA778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B9C6-0952-4E96-9FD8-FE3282CB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5E0-BB89-4B51-8644-5ADF4CA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11B-C9E9-4FED-8AA8-B601D678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9C6-7C1E-4282-A2F7-90FEF79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0EA-52AC-4F50-B435-A7E32F4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1C0-2EA1-4E00-B9A1-F5F87DD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75B-64EB-49EB-BA1C-FEC7737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B00-D543-466D-B1B2-F535142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D2C9-5B2B-42FC-9ADF-F2C51CC7783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77B1-7793-4724-8A06-3AF79D1D55C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6600"/>
                </a:solidFill>
                <a:latin typeface="黑体"/>
                <a:ea typeface="黑体"/>
              </a:rPr>
              <a:t>理  想</a:t>
            </a:r>
            <a:endParaRPr b="0" lang="en-US" sz="1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流沙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83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识字 正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1700280"/>
            <a:ext cx="6192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涵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缀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濯         廖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蜕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鬓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诅咒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玷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1844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h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2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hu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3068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hu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306864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li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4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306864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tu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393372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bì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378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ǔzhò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5084640"/>
            <a:ext cx="28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di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4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nw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213372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a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这首诗歌的主旨是什么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b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想想各节诗的大意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诗歌运用了哪些修辞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d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试着分析诗歌的结构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765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800"/>
                </a:solidFill>
                <a:latin typeface="Comic Sans MS"/>
              </a:rPr>
              <a:t>朗读  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41300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omic Sans MS"/>
              </a:rPr>
              <a:t>诗歌主旨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赞美理想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,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指出人生一定要有理想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,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要为理想而奋斗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0464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39574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Comic Sans MS"/>
              </a:rPr>
              <a:t>合作 探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理解各节诗的大意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提出疑难问题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2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读读你最喜欢的诗句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说说喜欢的理由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3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联系自己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说说你对理想的认识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12536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476280"/>
            <a:ext cx="7489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是前进的方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不同的年代有不同的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有时代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人类一代又一代的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推动了历史的发展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有历史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的实现往往要经理多次挫折和失败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实现理想的艰巨性 长期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给人力量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需要牺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能使人正确对待荣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对人生的意义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使不幸者绝处逢生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使平凡者变得伟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任何人都可以树立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要把理想视作生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突出理想对于人生的重要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鼓舞人们树立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为理想而奋斗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60280"/>
            <a:ext cx="2232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292640"/>
            <a:ext cx="0" cy="20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6381720"/>
            <a:ext cx="525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405080" y="476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诗歌结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理想的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历史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2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人格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4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6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7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人生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8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9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10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1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鼓励人们树立远大理想，并为之奋斗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1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565360"/>
            <a:ext cx="73080" cy="1584360"/>
          </a:xfrm>
          <a:custGeom>
            <a:avLst/>
            <a:gdLst>
              <a:gd name="textAreaLeft" fmla="*/ 46800 w 73080"/>
              <a:gd name="textAreaRight" fmla="*/ 73440 w 73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404640"/>
            <a:ext cx="0" cy="10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二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0-18T09:32:05Z</dcterms:modified>
  <cp:revision>100</cp:revision>
  <dc:subject/>
  <dc:title>PowerPoint Presentation</dc:title>
</cp:coreProperties>
</file>