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8A5-ADB5-4327-A9E5-C52A1682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911-BA4F-45B2-86FF-2047B3C2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271-8F92-4A3F-B25B-A02756CE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D7C-5DF2-4D6E-A66A-258AEF45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2457-1621-4C9B-B9AC-139E9AD9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906E-E2F5-4B88-BDDE-8BD1B0DD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233C-ED3E-4E69-A5BF-B44BA6DD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0C0C-277D-4D35-B5A4-C97CC392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E0CC-AE26-448E-A6EF-3ABF36D1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FEE0-D5F2-4F69-97E5-9ED78650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5F30-73E1-473B-8FBC-02B47F32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1DC-E3C7-4930-9A1D-873A94C0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4616-8378-417B-A5E3-A816005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C984-3A6A-4B97-A008-56E40578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5996-9FF6-4C90-A8CE-A58A6621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07F8-3B9C-41A2-8F9A-724DBB27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926A-D1F1-4EA9-9A1E-4367E75C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DE4-E208-4956-8AE9-67BAEBDD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69E-0B46-48E2-95FB-353AB1FD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08E-1B17-4020-80D4-48F463EC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967-D97F-403E-8F02-6669E9D8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51B-64D9-464C-8067-7C4A68B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F99-F487-433C-930A-B135F5EF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21D-0F86-4EAB-8CA7-D51D527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497-1260-4ACC-AA2F-FE1319733EEB}" type="slidenum">
              <a:rPr b="0" lang="zh-CN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4C30-6AAC-4E00-AC82-22CEA026B41A}" type="slidenum"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</a:rPr>
              <a:t>理</a:t>
            </a:r>
            <a:r>
              <a:rPr b="0" lang="zh-CN" sz="8800" spc="-1" strike="noStrike">
                <a:solidFill>
                  <a:srgbClr val="ffffe9"/>
                </a:solidFill>
                <a:latin typeface="Times New Roman"/>
              </a:rPr>
              <a:t>     想</a:t>
            </a:r>
            <a:endParaRPr b="0" lang="en-US" sz="88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流沙河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回答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271fd"/>
                </a:solidFill>
                <a:latin typeface="Times New Roman"/>
              </a:rPr>
              <a:t>同学们有理想么？我们应该有理想么？应该有什么样的理想？如果没有理想会怎么样？有理想难道就会快乐么？如果你的理想令你痛苦你准备背弃你的理想么？你相信你的理想会实现吗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生字词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蜕    饥寒     离乱     缀连    远行     倔强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洗濯     玷污      怨恨      扒窃       诅咒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浓阴     海天相吻     浪子回头    碌碌终生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绝处逢生    可望不可及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深入研究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一节语言表达上有什么特点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它对于表现思想内容有什么作用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二节表达了什么意思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能试试举举例说明吗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三节从什么角度谈理想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谈谈珍珠链与脊梁骨的比喻作用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四节三四两句怎样理解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五节揣摩各句意义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理解树立远大理想的重大意义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cover dir="ru"/>
    <p:sndAc>
      <p:stSnd>
        <p:snd r:embed="rId7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9"/>
            </a:gs>
            <a:gs pos="100000">
              <a:srgbClr val="78c0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深入研究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六节怎样理解“获得”与“牺牲”你对诗歌所说的“理想”是否有了更深刻的认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七节“副产品”是什么意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理想的人为什么也会酸辛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第八节到最后一节你能找到理想对人生的重大意义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理想离开你你应该怎么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哪里可以看出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后一节的主要内容是什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达了作者怎样的思想感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探讨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你能说说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&lt;&lt;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理想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&gt;&gt;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&lt;&lt;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在山的那边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&gt;&gt;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有什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么内在联系吗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找出两首诗内涵相同的诗句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诗人给理想打了很多比方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异彩纷呈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深刻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请模仿第一段也说几句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示例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爱心是风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卷来浓密的云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爱心是云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化作及时的雨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爱心是雨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滋润久旱的树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爱心是树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为你撑起绿阴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00:57:52Z</dcterms:created>
  <dc:creator>wutao</dc:creator>
  <dc:description/>
  <dc:language>en-US</dc:language>
  <cp:lastModifiedBy>zj</cp:lastModifiedBy>
  <dcterms:modified xsi:type="dcterms:W3CDTF">2004-07-27T06:47:14Z</dcterms:modified>
  <cp:revision>100</cp:revision>
  <dc:subject/>
  <dc:title>理     想</dc:title>
</cp:coreProperties>
</file>