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5C02-86F6-4C6B-8C1E-E7AE63E8A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73E9-01EF-4EA3-978D-6BEE5E8A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F698-2D20-4708-AD23-4CA3EC551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3DE7-690C-454D-A4EF-A877BABC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0932-B39B-49FB-9CC6-6A54C684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1AAE-D3AD-43CC-8B7F-AEFCAA21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9DA7-D2A1-470F-9824-A4245AD5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1585-B785-47F6-88DF-736144A3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11CE-0A60-4E90-A256-7C306E54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754B-66D5-4C25-8E6A-D355024C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560B-AA5D-490A-A46E-E5DF2CD5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22ED-C792-4485-AC8E-B6C6FF00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9B61-121B-499F-9794-5D399D294F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33720" y="1066680"/>
            <a:ext cx="47242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理 想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971800" y="4343400"/>
            <a:ext cx="3048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流沙河</a:t>
            </a:r>
            <a:endParaRPr b="1" lang="en-US" sz="2400" spc="1" strike="noStrike">
              <a:ln w="19080">
                <a:solidFill>
                  <a:srgbClr val="ffffff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114800" y="76320"/>
            <a:ext cx="43434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琥珀"/>
              </a:rPr>
              <a:t>学习目标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425680"/>
            <a:ext cx="80773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正确地有感情地反复诵读诗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联系生活理解理想“是什么”的作用、意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联系实际谈谈自己的理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371600" y="609480"/>
            <a:ext cx="4114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华文彩云"/>
              </a:rPr>
              <a:t>整体感悟：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286000"/>
            <a:ext cx="77724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阅读了诗歌，用自己的感受说说写了哪几个内容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联系生活体验，体会一下理想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最喜欢哪一段？应该怎样朗读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533520" y="380880"/>
            <a:ext cx="4572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隶书"/>
              </a:rPr>
              <a:t>研读赏析：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00008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981080"/>
            <a:ext cx="861048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四个比喻，喻意是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小节说了什么内容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节的意思怎样理解？跟第二节有什么联系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节诗意的重点是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71600" y="304920"/>
            <a:ext cx="746748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5.</a:t>
            </a: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第五节的大意怎样概括为好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6.</a:t>
            </a: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第六节怎样理解？这里所说的“牺牲”是不是指黄金梦被敲碎，自私心被洗濯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7.</a:t>
            </a: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为什么说“理想如果给你带来荣誉，</a:t>
            </a: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那只不过是它的副产品”？为什么“更多的是带来被误解的寂寥”？寂寥里怎么有欢笑？欢笑里怎么又有酸辛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 rot="5400000">
            <a:off x="-1676520" y="2819160"/>
            <a:ext cx="495288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隶书"/>
              </a:rPr>
              <a:t>研读赏析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cc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762120"/>
            <a:ext cx="38862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隶书"/>
              </a:rPr>
              <a:t>研读赏析：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2060640"/>
            <a:ext cx="830556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8.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八节的中心意思是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9.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九节是什么意思？跟上一节有什么关系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.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十节所说的“理想被玷污”“理想被扒窃”究竟是指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 rot="5400000">
            <a:off x="-1562040" y="2705040"/>
            <a:ext cx="4876560" cy="1447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隶书"/>
              </a:rPr>
              <a:t>研读赏析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ffcc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614520"/>
            <a:ext cx="75438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11.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节与上面有什么联系？“夸耀着当年的功勋”，为什么说“可厌”？“诅咒着眼前的环境”为什么说“可笑”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12.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节“理想开花”两句比喻什么？结尾为什么不照应“照亮夜行的路”，而说“路上春色正好，天上太阳正晴”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6:12:45Z</dcterms:created>
  <dc:creator>wutao</dc:creator>
  <dc:description/>
  <dc:language>en-US</dc:language>
  <cp:lastModifiedBy>zj</cp:lastModifiedBy>
  <dcterms:modified xsi:type="dcterms:W3CDTF">2004-07-27T06:47:34Z</dcterms:modified>
  <cp:revision>100</cp:revision>
  <dc:subject/>
  <dc:title>PowerPoint 演示文稿</dc:title>
</cp:coreProperties>
</file>