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laser.wav" ContentType="audio/x-wav"/>
  <Override PartName="/ppt/media/image5.gif" ContentType="image/gif"/>
  <Override PartName="/ppt/media/bomb.wav" ContentType="audio/x-wav"/>
  <Override PartName="/ppt/media/type.wav" ContentType="audio/x-wav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D6D1-2F45-4EAC-BCB1-FF6E2423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0DF3-78F4-4DC7-9451-E8B6176F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70420-7CAF-4D73-A322-886A92ED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E962A-CF4E-4FAA-9B76-D6440A9F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9C8AC-2883-4414-A54D-5979B04C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9345D-06E4-4964-BF5E-14E4EDD5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52033-F168-4C39-8FF4-B11573EA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EF096-2199-45DD-97B7-2E9C7941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8565E-0D9F-49F3-BDDC-21D50CA0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B72B3-0DB3-4821-BB57-2C32E5B4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2D1DE-ACB9-4660-8AC8-DEDE29CF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41DD5-4F9F-413D-92E4-D67A0062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1A4B-0FE4-459D-9944-166D3A7D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8496E-331D-410D-9A9E-5FE5DB6B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AC48D-4611-46E8-A910-DCCD7492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DAE16-ACCD-4EAD-8D33-54FDA962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6E7CD-E758-4D5D-8973-4094590A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B7926-B5DD-4508-9AD7-6D5EBFFB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42E57-39E5-48F8-B656-3C47263C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37F4A-F9B9-476A-9224-7E6CCEB1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A9F69-572A-4334-9F48-13387038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13F45-51F5-4C02-B002-18794D6B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82CE6-C0B6-4232-99E9-D838CD54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5F9-EF42-4B34-BAD6-C212C99F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310F9-3B76-40B6-8861-B18433B9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84472-7082-481C-87B4-80B3D14B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DCFCA-0F5D-4D4F-924D-8FEC01D6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44586-1205-461F-95F2-3569AD52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80044-C028-4463-9030-BE838CAE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94DC2-D5D3-4535-94A9-8594FC63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0FCFF-B049-4F19-9303-EA9073C0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F44C8-418E-4D3F-8EBF-D196A2F3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8B312-1385-49B2-AE77-0E2A31C8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965BD-E02F-48CE-B1B1-B5BAD205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0CA9A-74C9-4BB8-91EF-06EFB003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4BBE1-29D4-4835-8745-43A531FD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F5636-86BD-494A-B927-2C6B107D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B09C4-462D-4522-8E09-589A3A9A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77113-EE37-4994-BC19-679ADAF7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116BB-9664-4F85-B036-E332D23A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4B927-003A-401C-B39A-6711B6DC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63882-DDD9-43C0-A7CB-F1A12A68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CECBC-101B-48D0-9870-D41F44C7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4B072-CBB9-49D1-9381-B9D416EF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5176B-8B0A-4D24-900E-4E1D0C39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CB41B-7B6A-454B-8BBA-81FE16F1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15A11-9AFD-4CF9-A02A-331E5F36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3A1C0-F2C7-4590-8811-C0C6163C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DC13E-9053-4E0A-836D-368C7135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25415-01A9-497A-9FD4-99455AA9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ACDB5-0C31-4A70-A3D1-4CC21504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EDE1D-ABB6-409E-B62E-D8F17D31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39C79-D1F0-44E0-BD55-60F16901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21119-A79C-49D9-BC3D-FD6B741C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D6D60-ECED-4175-86FA-0C76C53F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00F2F-6D92-4A77-9D8C-51C0BDE8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174-8EEA-4D70-90E5-FDAA5C55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3435D-A4B8-478B-90C4-69280B26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5B1A6-112F-4015-A6E8-F0403625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5CDDD-8B15-4AAC-A02E-69BB2D07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22003-C0D0-455F-B111-39E14499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E590D-C70A-4A6E-BB95-4187E9AA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3173A-E950-4188-A7E1-FA319078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59B4E-D107-45C6-8FC4-4065633A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6650A-D25F-452F-80C3-EC038C41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F776B-1B2E-4F47-B832-AAA2C925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C1893-ED29-42FB-8C23-7FE79DF3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272D-F0DD-43DD-9A62-AC70ADD0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8AE8E-7B25-4E00-840C-EF25CCE5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8CB65-A901-40C3-8D81-B62053AF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72ED5-D474-436F-900B-EA48F2B0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9E8E8-4D95-43FE-934D-0E3BDC10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6B291-353D-491F-A3A4-20E58288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A427C-2CD0-4F0C-9B7E-110123D9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99001-46B9-436A-A2F8-662BA10D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0626F-8375-4305-9FD2-A23F3120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9BB03-E92D-477D-AAF3-A105BC3D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AF3BB-67D2-45F8-A0BE-CEA51EB6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6625-41F6-408A-B418-D4834EF6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2D2EA-40CF-49A2-ACA9-72139F78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494CD-0EDE-4B2A-A834-BD499811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08406-CB75-434F-89AA-E6000BF0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DCC5C-185A-4104-BCF0-28E1578E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84C89-45EF-4DD4-B350-A571B94B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FEA17-3814-4D6F-8099-B0E9EFBC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18457-1D38-4617-9E3B-15B0CD56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3DC9E-4323-47E3-B7B3-9FB4E6F5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5FA4D-A0C3-4A64-9D79-DA2CD73B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E0E4A-0621-48EF-85AA-B7733E64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078-CE36-411A-926C-0E0C1820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DF68B-F51E-401C-8962-5DC11966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73DA5-26D0-41F2-A112-43EECE0A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3AAB9-1053-412A-B335-2654350F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179A5-6F8D-4263-A6FD-19E5AED0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50F4B-D7FE-48B8-9C81-79320FAC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7A5FB-85B7-407C-AF64-F5761B19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39077-2364-48F0-ACBB-412E8880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89906-BD27-43E7-9D02-E2AD0322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64424-0EF7-441E-B9D1-1379BF39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261E7-51CF-46E3-85CE-B22BD4D3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0F91-7809-4217-B163-9CA3BAE2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1FE32-5462-4368-ACA3-B8804172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44B5C-23ED-44E8-A7AA-2937F049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5BF74-D7C5-4119-BE5B-B00D9B8E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2986D-0A62-4E72-90E6-D4C62679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49E60-C126-4CDD-8276-737C8291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39601-8380-49F7-9E22-EB9509E7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30BEC-DC91-4FA3-8DE7-7376481B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A0F0B-03BB-4B07-8B4C-E105BB98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A0837-42DE-449B-A075-A1D47F5A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D1418-3E88-4963-9C7B-1D669308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9702-69C1-4F92-84B3-01867C37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DB2DB-F495-4CE5-ABE7-A06C93AB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0ECD2-8CDC-4A6E-8553-E2C132B2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9DE12-270C-4F11-B9E9-DB54F93E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B98D9-37C4-40A3-B1BB-F05FF8D5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C5D95-4750-4DDC-95E3-71BB7FF6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79250-F4A4-4011-8118-16F71812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60896-6355-4BA6-A2D5-CA499933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6BB96-5FC8-486B-BCB1-2263D555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CB1B8-C119-46F9-A22D-CBD14E89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26819-0A6D-4A53-9FA3-9C8B8E4A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F07-66E2-4374-8E13-74B46996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9D6EF-201D-440C-B0C5-A68E0AF4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A3B85-D45F-4250-8156-87D55651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5AF96-4A09-46BF-BAAB-811A2B26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1CA39-B257-4166-8C72-E0F99B7F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9CD6B-DFD2-45E3-8FA3-EF46A9F8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B9060-730C-4C74-A7BD-AF802C61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74104-9D96-4CBF-B9B0-FD4363C1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17C73-2447-47CA-BA62-8126F29E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C201A-AA9C-40C5-8BF6-FE915A2B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D4427-4887-49EC-B992-D668A84B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E4C6-14EB-4880-B31D-F5B172DA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5B4EC-AC9C-40DF-8667-49816DE3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2614A-9A6C-4558-9183-0B01181B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1CB01-9950-4E0A-948C-0F6B09A5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137EE-0697-4810-9F3A-37BE0483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2C3F0-73C1-44FA-9086-EF653CC9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C9C54-96D6-427D-B047-B5E39222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62DAC-052B-4FE4-8FF9-81EBCEF2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3687B-0E01-49CC-97BC-B2C2AF2C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4195A-86F4-409F-B770-9A047D27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31671-1CD1-4F1B-901E-6F073E51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FCD8-00BE-49B2-8BD2-A0AC3FE1D8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5670-AAF7-42A2-A745-1A1007179F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2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2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3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64DB-8978-4127-BF80-2E7E975FC5CE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0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0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0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0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0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1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1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1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1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2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2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2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3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3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3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4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4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4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5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5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5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6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6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6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7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7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7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8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8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8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9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9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9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9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0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0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0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0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1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D139-8A8A-4663-9BEF-48FA44C6F7CD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A641-4965-4515-B00D-281FAC264F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65DB-FEEF-4785-AF19-F55719062A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88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11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2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4BC8-4AD7-4E84-86F0-AED45F2427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DBDD-CE4E-4398-8CAA-7FFE212E6E57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E544-1852-41AD-98BA-40A6E6687DA4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ACDF-4B87-4972-AB79-CA410D45D5ED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3E6E-FACD-492E-9177-522F94E59026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303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7594-2B30-4C16-8ECD-858EDC9DAB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slide" Target="slide1.xml"/><Relationship Id="rId14" Type="http://schemas.openxmlformats.org/officeDocument/2006/relationships/slide" Target="slide1.xml"/><Relationship Id="rId15" Type="http://schemas.openxmlformats.org/officeDocument/2006/relationships/slide" Target="slide1.xml"/><Relationship Id="rId16" Type="http://schemas.openxmlformats.org/officeDocument/2006/relationships/slide" Target="slide1.xml"/><Relationship Id="rId17" Type="http://schemas.openxmlformats.org/officeDocument/2006/relationships/slide" Target="slide1.xml"/><Relationship Id="rId18" Type="http://schemas.openxmlformats.org/officeDocument/2006/relationships/slide" Target="slide1.xml"/><Relationship Id="rId19" Type="http://schemas.openxmlformats.org/officeDocument/2006/relationships/slide" Target="slide1.xml"/><Relationship Id="rId20" Type="http://schemas.openxmlformats.org/officeDocument/2006/relationships/slide" Target="slide1.xml"/><Relationship Id="rId21" Type="http://schemas.openxmlformats.org/officeDocument/2006/relationships/slide" Target="slide1.xml"/><Relationship Id="rId22" Type="http://schemas.openxmlformats.org/officeDocument/2006/relationships/slide" Target="slide1.xml"/><Relationship Id="rId23" Type="http://schemas.openxmlformats.org/officeDocument/2006/relationships/slide" Target="slide1.xml"/><Relationship Id="rId2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.xml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.xml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5.gif"/><Relationship Id="rId4" Type="http://schemas.openxmlformats.org/officeDocument/2006/relationships/slide" Target="slide10.xml"/><Relationship Id="rId5" Type="http://schemas.openxmlformats.org/officeDocument/2006/relationships/audio" Target="../media/laser.wav"/><Relationship Id="rId6" Type="http://schemas.openxmlformats.org/officeDocument/2006/relationships/audio" Target="../media/bomb.wav"/><Relationship Id="rId7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73" name=""/>
          <p:cNvGrpSpPr/>
          <p:nvPr/>
        </p:nvGrpSpPr>
        <p:grpSpPr>
          <a:xfrm>
            <a:off x="250920" y="0"/>
            <a:ext cx="4213080" cy="2260800"/>
            <a:chOff x="250920" y="0"/>
            <a:chExt cx="4213080" cy="2260800"/>
          </a:xfrm>
        </p:grpSpPr>
        <p:sp>
          <p:nvSpPr>
            <p:cNvPr id="774" name=""/>
            <p:cNvSpPr/>
            <p:nvPr/>
          </p:nvSpPr>
          <p:spPr>
            <a:xfrm>
              <a:off x="250920" y="0"/>
              <a:ext cx="4213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理  想 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014560" y="1557360"/>
              <a:ext cx="216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ahoma"/>
                  <a:ea typeface="黑体"/>
                </a:rPr>
                <a:t>流沙河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228600" y="228600"/>
            <a:ext cx="8066160" cy="6352560"/>
            <a:chOff x="228600" y="228600"/>
            <a:chExt cx="8066160" cy="6352560"/>
          </a:xfrm>
        </p:grpSpPr>
        <p:sp>
          <p:nvSpPr>
            <p:cNvPr id="816" name=""/>
            <p:cNvSpPr/>
            <p:nvPr/>
          </p:nvSpPr>
          <p:spPr>
            <a:xfrm>
              <a:off x="228600" y="228600"/>
              <a:ext cx="637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72960" y="660240"/>
              <a:ext cx="57610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cc00"/>
                  </a:solidFill>
                  <a:latin typeface="Tahoma"/>
                </a:rPr>
                <a:t>人需要有理想，但是需要人的符合自然的理想，而不是超自然的理想。 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cc00"/>
                  </a:solidFill>
                  <a:latin typeface="Tahoma"/>
                </a:rPr>
                <a:t>                              ——</a:t>
              </a:r>
              <a:r>
                <a:rPr b="0" lang="zh-CN" sz="2800" spc="-1" strike="noStrike">
                  <a:solidFill>
                    <a:srgbClr val="ffcc00"/>
                  </a:solidFill>
                  <a:latin typeface="Tahoma"/>
                </a:rPr>
                <a:t>列宁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17320" y="2963880"/>
              <a:ext cx="763272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cc00"/>
                  </a:solidFill>
                  <a:latin typeface="Tahoma"/>
                </a:rPr>
                <a:t>理想是需要的，是我们前进的方向，现实有了理想的指导才有前途；反过来，也必须从现实的努力中才能实现理想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cc00"/>
                  </a:solidFill>
                  <a:latin typeface="Tahoma"/>
                </a:rPr>
                <a:t>                                                ——</a:t>
              </a:r>
              <a:r>
                <a:rPr b="0" lang="zh-CN" sz="2800" spc="-1" strike="noStrike">
                  <a:solidFill>
                    <a:srgbClr val="ffcc00"/>
                  </a:solidFill>
                  <a:latin typeface="Tahoma"/>
                </a:rPr>
                <a:t>周恩来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46040" y="5411880"/>
              <a:ext cx="7848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cc00"/>
                  </a:solidFill>
                  <a:latin typeface="Tahoma"/>
                </a:rPr>
                <a:t>世上最快乐的事，莫过于为理想而奋斗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cc00"/>
                  </a:solidFill>
                  <a:latin typeface="Tahoma"/>
                </a:rPr>
                <a:t>                                                ——</a:t>
              </a:r>
              <a:r>
                <a:rPr b="0" lang="zh-CN" sz="2800" spc="-1" strike="noStrike">
                  <a:solidFill>
                    <a:srgbClr val="ffcc00"/>
                  </a:solidFill>
                  <a:latin typeface="Tahoma"/>
                </a:rPr>
                <a:t>苏格拉底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99cc00"/>
                </a:solidFill>
                <a:uFillTx/>
                <a:latin typeface="Arial Black"/>
                <a:ea typeface="黑体"/>
                <a:hlinkClick r:id="rId1" action="ppaction://hlinksldjump"/>
              </a:rPr>
              <a:t>作者简介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流沙河（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1931-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），原名余勋坦，四川成都人。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1948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年高中时期开始发表作品。五十年代初任编辑开始写诗。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1956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年出版第一部诗集《农村夜曲》。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1957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月参与创办诗刊《星星》，并发表散文诗《草木篇》，由此为诗界、文学界瞩目。但后者不久即遭到公开批判，被认为是“站在已被消灭的阶级立场”上，“向人民发出的一纸挑战书”，由此被打为右派，遣送回原籍劳动。七十年代末回归文坛，仍然以诗作为主，记叙自己以往的生活遭遇和心理体验，后结集为《流沙河诗集》（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1982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）、《故园别》（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1983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）、《游踪》（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1983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826920" y="2752560"/>
            <a:ext cx="705816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1" action="ppaction://hlinksldjump"/>
              </a:rPr>
              <a:t>诗人流沙河，原名余勋坦。他立志做一粒流沙追随时代潮流，就取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2" action="ppaction://hlinksldjump"/>
              </a:rPr>
              <a:t>"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3" action="ppaction://hlinksldjump"/>
              </a:rPr>
              <a:t>流沙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4" action="ppaction://hlinksldjump"/>
              </a:rPr>
              <a:t>"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5" action="ppaction://hlinksldjump"/>
              </a:rPr>
              <a:t>作为笔名。后因发现也有人以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6" action="ppaction://hlinksldjump"/>
              </a:rPr>
              <a:t>"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7" action="ppaction://hlinksldjump"/>
              </a:rPr>
              <a:t>流沙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8" action="ppaction://hlinksldjump"/>
              </a:rPr>
              <a:t>"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9" action="ppaction://hlinksldjump"/>
              </a:rPr>
              <a:t>作为笔名，便在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10" action="ppaction://hlinksldjump"/>
              </a:rPr>
              <a:t>"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11" action="ppaction://hlinksldjump"/>
              </a:rPr>
              <a:t>流沙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12" action="ppaction://hlinksldjump"/>
              </a:rPr>
              <a:t>"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13" action="ppaction://hlinksldjump"/>
              </a:rPr>
              <a:t>后添一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14" action="ppaction://hlinksldjump"/>
              </a:rPr>
              <a:t>"河"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15" action="ppaction://hlinksldjump"/>
              </a:rPr>
              <a:t>字，成为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16" action="ppaction://hlinksldjump"/>
              </a:rPr>
              <a:t>"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17" action="ppaction://hlinksldjump"/>
              </a:rPr>
              <a:t>流沙河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18" action="ppaction://hlinksldjump"/>
              </a:rPr>
              <a:t>"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19" action="ppaction://hlinksldjump"/>
              </a:rPr>
              <a:t>。据知戏曲史专家刘景彦，也用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20" action="ppaction://hlinksldjump"/>
              </a:rPr>
              <a:t>"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21" action="ppaction://hlinksldjump"/>
              </a:rPr>
              <a:t>流沙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22" action="ppaction://hlinksldjump"/>
              </a:rPr>
              <a:t>"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23" action="ppaction://hlinksldjump"/>
              </a:rPr>
              <a:t>作笔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正音，正字，解释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蜕  饥寒  离乱  缀连  远行  倔强  洗濯  玷污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怨恨  扒窃  诅咒  浓阴  海天相吻  浪子回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碌碌终生  绝处逢生  可望不可即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寂寥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2411280" y="260280"/>
            <a:ext cx="4032360" cy="12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读一读 想一想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782" name=""/>
          <p:cNvSpPr/>
          <p:nvPr/>
        </p:nvSpPr>
        <p:spPr>
          <a:xfrm>
            <a:off x="755640" y="1773360"/>
            <a:ext cx="7777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，这首诗歌的主旨是什么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．诗歌是从哪些方面表现主旨的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．试着分析诗歌的结构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3419640" y="-387360"/>
            <a:ext cx="2519280" cy="2104920"/>
            <a:chOff x="3419640" y="-387360"/>
            <a:chExt cx="2519280" cy="2104920"/>
          </a:xfrm>
        </p:grpSpPr>
        <p:sp>
          <p:nvSpPr>
            <p:cNvPr id="784" name=""/>
            <p:cNvSpPr/>
            <p:nvPr/>
          </p:nvSpPr>
          <p:spPr>
            <a:xfrm>
              <a:off x="3419640" y="-387360"/>
              <a:ext cx="2087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理  想</a:t>
              </a:r>
              <a:r>
                <a:rPr b="1" lang="zh-CN" sz="9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427640" y="1197000"/>
              <a:ext cx="15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  <a:ea typeface="黑体"/>
                </a:rPr>
                <a:t>流沙河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250920" y="3068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84360" y="213372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理想是方向  （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11280" y="32846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  <a:ea typeface="黑体"/>
              </a:rPr>
              <a:t>问题：第一节四个比喻，喻意是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8360" y="4005360"/>
            <a:ext cx="691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Tahoma"/>
                <a:ea typeface="黑体"/>
              </a:rPr>
              <a:t>前两个比喻为第三个作铺垫，诗意主要在后两个比喻上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Tahoma"/>
                <a:ea typeface="黑体"/>
              </a:rPr>
              <a:t>“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  <a:ea typeface="黑体"/>
              </a:rPr>
              <a:t>黎明”指理想境界，这一节主要是说，理想是前进的方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>
            <a:hlinkClick r:id="rId2" action="ppaction://hlinksldjump"/>
          </p:cNvPr>
          <p:cNvSpPr/>
          <p:nvPr/>
        </p:nvSpPr>
        <p:spPr>
          <a:xfrm>
            <a:off x="7164360" y="2276640"/>
            <a:ext cx="1657440" cy="2665080"/>
          </a:xfrm>
          <a:prstGeom prst="rightArrow">
            <a:avLst>
              <a:gd name="adj1" fmla="val 48426"/>
              <a:gd name="adj2" fmla="val 4512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260280"/>
            <a:ext cx="1042920" cy="6337440"/>
          </a:xfrm>
          <a:custGeom>
            <a:avLst/>
            <a:gdLst>
              <a:gd name="textAreaLeft" fmla="*/ 666360 w 1042920"/>
              <a:gd name="textAreaRight" fmla="*/ 1043280 w 1042920"/>
              <a:gd name="textAreaTop" fmla="*/ 165240 h 6337440"/>
              <a:gd name="textAreaBottom" fmla="*/ 6172200 h 633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042920" y="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历史意义（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900000" y="69228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问题：第二节说，不同时代有不同理想，理想有时代性，对吗？除此之外，还包含什么含义？第三节意思怎样理解，跟第二节有什么联系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84360" y="321300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人格意义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900000" y="602136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人生意义（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>
            <a:hlinkClick r:id="rId2" action="ppaction://hlinksldjump"/>
          </p:cNvPr>
          <p:cNvSpPr/>
          <p:nvPr/>
        </p:nvSpPr>
        <p:spPr>
          <a:xfrm>
            <a:off x="8244000" y="1916280"/>
            <a:ext cx="900000" cy="244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042920" y="3933720"/>
            <a:ext cx="489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问题：……　　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　　……　　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042920" y="5445000"/>
            <a:ext cx="356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042920" y="537372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问题：……　　……　　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2916360" y="2276640"/>
            <a:ext cx="4824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树立理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为之奋斗（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12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>
            <a:hlinkClick r:id="rId2" action="ppaction://hlinksldjump"/>
          </p:cNvPr>
          <p:cNvSpPr/>
          <p:nvPr/>
        </p:nvSpPr>
        <p:spPr>
          <a:xfrm>
            <a:off x="250920" y="2133720"/>
            <a:ext cx="2484360" cy="2376360"/>
          </a:xfrm>
          <a:custGeom>
            <a:avLst/>
            <a:gdLst>
              <a:gd name="textAreaLeft" fmla="*/ 310320 w 2484360"/>
              <a:gd name="textAreaRight" fmla="*/ 2174040 w 2484360"/>
              <a:gd name="textAreaTop" fmla="*/ 594000 h 2376360"/>
              <a:gd name="textAreaBottom" fmla="*/ 178236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3419640" y="-387360"/>
            <a:ext cx="2519280" cy="2104920"/>
            <a:chOff x="3419640" y="-387360"/>
            <a:chExt cx="2519280" cy="2104920"/>
          </a:xfrm>
        </p:grpSpPr>
        <p:sp>
          <p:nvSpPr>
            <p:cNvPr id="803" name=""/>
            <p:cNvSpPr/>
            <p:nvPr/>
          </p:nvSpPr>
          <p:spPr>
            <a:xfrm>
              <a:off x="3419640" y="-387360"/>
              <a:ext cx="2087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理  想</a:t>
              </a:r>
              <a:r>
                <a:rPr b="1" lang="zh-CN" sz="9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27640" y="1197000"/>
              <a:ext cx="15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  <a:ea typeface="黑体"/>
                </a:rPr>
                <a:t>流沙河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0" y="4672080"/>
            <a:ext cx="9144000" cy="2185920"/>
            <a:chOff x="0" y="4672080"/>
            <a:chExt cx="9144000" cy="2185920"/>
          </a:xfrm>
        </p:grpSpPr>
        <p:pic>
          <p:nvPicPr>
            <p:cNvPr id="806" name="" descr=""/>
            <p:cNvPicPr/>
            <p:nvPr/>
          </p:nvPicPr>
          <p:blipFill>
            <a:blip r:embed="rId3"/>
            <a:stretch/>
          </p:blipFill>
          <p:spPr>
            <a:xfrm>
              <a:off x="0" y="4672080"/>
              <a:ext cx="914400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>
              <a:hlinkClick r:id="rId4" action="ppaction://hlinksldjump"/>
            </p:cNvPr>
            <p:cNvSpPr/>
            <p:nvPr/>
          </p:nvSpPr>
          <p:spPr>
            <a:xfrm>
              <a:off x="8459640" y="4724280"/>
              <a:ext cx="627120" cy="213372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537040" y="4797360"/>
              <a:ext cx="606960" cy="20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ahoma"/>
                  <a:ea typeface="黑体"/>
                </a:rPr>
                <a:t>重温经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pull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395280" y="260280"/>
            <a:ext cx="8497800" cy="6571080"/>
            <a:chOff x="395280" y="260280"/>
            <a:chExt cx="8497800" cy="6571080"/>
          </a:xfrm>
        </p:grpSpPr>
        <p:sp>
          <p:nvSpPr>
            <p:cNvPr id="810" name=""/>
            <p:cNvSpPr/>
            <p:nvPr/>
          </p:nvSpPr>
          <p:spPr>
            <a:xfrm>
              <a:off x="468360" y="260280"/>
              <a:ext cx="561636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理想并不能够被现实征服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希望的火花在黑暗的天空闪耀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                              ——</a:t>
              </a: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巴金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5280" y="2276640"/>
              <a:ext cx="6697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1280" y="2060640"/>
              <a:ext cx="5976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一种理想，就是一种力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                              ——</a:t>
              </a: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罗曼</a:t>
              </a: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·</a:t>
              </a: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罗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11280" y="3429000"/>
              <a:ext cx="81374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生活中没有理想的人，是可怜的人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     ——</a:t>
              </a: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屠格涅夫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4360" y="5013360"/>
              <a:ext cx="820872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我们如果没有理想，我们的头脑将陷入昏沉；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我们如果不从事劳动，我们的理想又怎样实现？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    ——</a:t>
              </a: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陈毅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1T11:24:26Z</dcterms:created>
  <dc:creator>wutao</dc:creator>
  <dc:description/>
  <dc:language>en-US</dc:language>
  <cp:lastModifiedBy>a</cp:lastModifiedBy>
  <dcterms:modified xsi:type="dcterms:W3CDTF">2004-12-16T01:57:02Z</dcterms:modified>
  <cp:revision>100</cp:revision>
  <dc:subject/>
  <dc:title>幻灯片 1</dc:title>
</cp:coreProperties>
</file>