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7B0-7855-4ED4-9C15-3BDA2443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7CF-B5BF-4D71-BF5A-EB352EFF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D73-19C9-419B-A33C-878B0D7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5C4-B566-472B-B9A4-2677C2D0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9AC-CB69-478C-AAA8-4D23339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AD5-D28B-4C00-9521-EFA607AC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141-AA55-40A0-99C3-8BE74603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6627-6BF6-4BAC-B3AC-9EB4D5F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CA05-2681-4A5C-B109-42FC82F4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9D75-703E-455D-A93A-8177F788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1046-5CC2-431B-911E-B22C63E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CBF-EF19-497B-8956-AE2B26B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59E-8624-44DB-8297-E173787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29CB-6D82-45BC-B8DA-8A27CBA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996-D031-4226-B1AD-A5FEC4B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E46-063E-42B4-AB92-8E821344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8B0-C7EB-4CF5-AE14-B3854927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87E-569B-4E51-B773-9B5E384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0DD-CCAF-425D-BE0E-604A6BD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A58-09BC-4002-BDA3-5FDC4029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E9C-B17F-480E-AA96-779D8F1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330-85EE-49D3-9967-08E02AA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3B5-0417-4104-84F2-BADC849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5A4-AA76-4B88-BDA1-373FCA0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2C16-E0F8-4B36-94F2-3CA0C5A8D73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E049-C08B-4F1B-B84E-54C6859E18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6600"/>
                </a:solidFill>
                <a:latin typeface="黑体"/>
                <a:ea typeface="黑体"/>
              </a:rPr>
              <a:t>理  想</a:t>
            </a:r>
            <a:endParaRPr b="0" lang="en-US" sz="1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流沙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83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识字 正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1700280"/>
            <a:ext cx="6192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涵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缀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濯         廖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蜕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鬓</a:t>
            </a:r>
            <a:r>
              <a:rPr b="0" lang="en-US" sz="54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诅咒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b800"/>
                </a:solidFill>
                <a:latin typeface="Comic Sans MS"/>
              </a:rPr>
              <a:t>玷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1844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h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2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hu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3068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hu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306864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li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4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306864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tu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393372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bì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378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zǔzhò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5084640"/>
            <a:ext cx="28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di</a:t>
            </a:r>
            <a:r>
              <a:rPr b="0" lang="en-US" sz="4800" spc="-1" strike="noStrike">
                <a:solidFill>
                  <a:srgbClr val="ffb800"/>
                </a:solidFill>
                <a:latin typeface="zypyyb"/>
                <a:ea typeface="zypyyb"/>
              </a:rPr>
              <a:t>4</a:t>
            </a:r>
            <a:r>
              <a:rPr b="0" lang="en-US" sz="4800" spc="-1" strike="noStrike">
                <a:solidFill>
                  <a:srgbClr val="ffb800"/>
                </a:solidFill>
                <a:latin typeface="Comic Sans MS"/>
              </a:rPr>
              <a:t>nw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213372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a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这首诗歌的主旨是什么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b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想想各节诗的大意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诗歌运用了哪些修辞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d.</a:t>
            </a: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试着分析诗歌的结构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765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800"/>
                </a:solidFill>
                <a:latin typeface="Comic Sans MS"/>
              </a:rPr>
              <a:t>朗读  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41300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omic Sans MS"/>
              </a:rPr>
              <a:t>诗歌主旨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赞美理想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,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指出人生一定要有理想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,</a:t>
            </a:r>
            <a:r>
              <a:rPr b="1" lang="zh-CN" sz="6600" spc="-1" strike="noStrike">
                <a:solidFill>
                  <a:srgbClr val="00b200"/>
                </a:solidFill>
                <a:latin typeface="Comic Sans MS"/>
              </a:rPr>
              <a:t>要为理想而奋斗</a:t>
            </a:r>
            <a:r>
              <a:rPr b="1" lang="en-US" sz="66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0464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39574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Comic Sans MS"/>
              </a:rPr>
              <a:t>合作 探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理解各节诗的大意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提出疑难问题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2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读读你最喜欢的诗句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说说喜欢的理由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3.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联系自己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说说你对理想的认识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12536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476280"/>
            <a:ext cx="7489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是前进的方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不同的年代有不同的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有时代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人类一代又一代的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推动了历史的发展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有历史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的实现往往要经理多次挫折和失败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实现理想的艰巨性 长期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给人力量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需要牺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能使人正确对待荣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理想对人生的意义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使不幸者绝处逢生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使平凡者变得伟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任何人都可以树立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要把理想视作生命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突出理想对于人生的重要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鼓舞人们树立理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为理想而奋斗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60280"/>
            <a:ext cx="2232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292640"/>
            <a:ext cx="0" cy="20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6381720"/>
            <a:ext cx="525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405080" y="476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诗歌结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理想的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历史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2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人格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4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6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7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人生意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8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9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10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11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三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鼓励人们树立远大理想，并为之奋斗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1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565360"/>
            <a:ext cx="73080" cy="1584360"/>
          </a:xfrm>
          <a:custGeom>
            <a:avLst/>
            <a:gdLst>
              <a:gd name="textAreaLeft" fmla="*/ 46800 w 73080"/>
              <a:gd name="textAreaRight" fmla="*/ 73440 w 73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404640"/>
            <a:ext cx="0" cy="10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二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0-18T09:32:05Z</dcterms:modified>
  <cp:revision>100</cp:revision>
  <dc:subject/>
  <dc:title>PowerPoint Presentation</dc:title>
</cp:coreProperties>
</file>