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whoosh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6DC-27CF-4555-842F-67DB27BC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731-43B9-4F8E-B4B2-63A776CB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EC8-652B-453E-A76A-BB1383CD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FD8-4534-4410-BDAE-4FD810CA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EDA8-211B-413E-B42B-49344EF7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3B79-60C7-4EA9-8FC7-F860DCAE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F4F6-F371-4B96-9788-1BDB5730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BDA1-6DA5-4C0E-89BB-B2AFD96E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3040-E26F-4241-8CA4-55BD1152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7C4C-55DE-4A1F-B84E-DB86253A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CA12-5F48-4CE9-B680-F96B2B84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E05-8BF5-4C9B-8AEA-7276CCBF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BE2B-C5D0-4943-A6A2-14DFAA6B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2C56-43CD-4575-B246-2EE6320B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AF19-7C63-44C7-B2B0-21D228D0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05E1-6DAF-4AED-A1AA-6AC45DED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898A-3661-43E7-BB44-80DBF176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8D484-41CD-4F71-AF55-6A3793AB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00C42-883B-45A4-BE2A-D07481F8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5D6CF-8A87-48AC-9855-7817EC94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3B262-DD93-42A5-B9B8-56A30D91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B2FC5-8405-4C5C-9E36-7DC98C33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9B3-2D91-4AB1-AC6A-73B9257B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C1707-E808-4CA8-950D-95125B8A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6E394-1637-4986-90C9-FD14FB59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73094-2796-4D7C-8EC1-D42F0A95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D3B60-1593-4526-8013-5C2254E0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6EC4E-16E4-44F1-875F-2B491BB1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FB1B4-A199-4906-9240-3BB59509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354A1-5566-46D0-A522-74E39206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89446-20F5-493F-BBBC-698B938E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68A84-0838-466D-AF37-C8B5FC98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DCB4B-F784-40B3-969D-DA991706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EEC-FDB5-4014-88E6-2B0E648C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5A1DE-5197-4185-B201-FAC70DC9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14ECE-55E2-4E09-A7FB-3C1F0D6F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C1F3-BA6F-4F2F-9E1B-E375C3EB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27B16-F6CC-4CA6-B8AC-8BF36E78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9B395-AA08-48A5-B850-4D5C3A9C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2E77F-8EF3-4070-8C9C-0A790E13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4B0DE-DBC0-42D7-B3CB-608126CF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33C89-1ADD-4CAC-AACF-FC06AAE6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E350A-B8D1-4AAA-B415-E89C93D2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B63D4-AF9A-4219-AABF-5F8A97CF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821-B78D-41CA-B9C1-1AE0C647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42080-E51B-4C44-B39A-2DDFF960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520AA-C4E8-45B0-A69C-49A95A6B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5C3D3-1BA4-47BF-B792-C7C157BE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D63E2-D143-41CA-AEB8-A3D3E329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CE38B-7766-41E6-91D3-85BB3FA7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7E7E9-C185-4E15-AC0C-2CAFE83A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E9CEF-7237-41EA-BA9F-8356514D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025C0-7D82-43B5-9638-082F554A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B5D29-860C-4008-9BC5-1F206218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F1574-8548-444B-8008-DF9A513B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3B1-F4AA-4E37-9B15-A5EC3881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F8631-3C00-40A1-B80F-24B950F2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73D-D26B-4ED5-AED6-5E272510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938-F236-437C-AE75-940476AD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105-3174-4DD3-9220-B8DD4B1C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41CA-519D-412C-82D5-429D6F3F4F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0AE2-14CE-408B-9C1F-BDAE0446B2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F392-87CB-46A9-BB9D-3ED61F63FE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4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6A7B-788C-48F3-BE9F-27C598E84211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2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6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0934-52AD-437C-BF86-EFC65F3DAC16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410080" y="37339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流沙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666880" y="1828800"/>
            <a:ext cx="32004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理   想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752480" y="0"/>
            <a:ext cx="601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石，敲出星星之火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火，点燃熄灭的灯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灯，照亮夜行的路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路，引你走到黎明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3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101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10199"/>
                </a:solidFill>
                <a:latin typeface="黑体"/>
                <a:ea typeface="黑体"/>
              </a:rPr>
              <a:t>第</a:t>
            </a:r>
            <a:r>
              <a:rPr b="1" lang="zh-CN" sz="3200" spc="-1" strike="noStrike">
                <a:solidFill>
                  <a:srgbClr val="0101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10199"/>
                </a:solidFill>
                <a:latin typeface="黑体"/>
                <a:ea typeface="黑体"/>
              </a:rPr>
              <a:t>节在语言表达上有什么特点？它对于表现思想内容有什么作用？这一节在全诗中起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4114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采用比喻、顶针的修辞手法。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黎明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喻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---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理想境界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用是使语言形象、生动，在形式上环环相扣，在内容上步步推进。 这一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总说理想是前进的方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；在全诗中起到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统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447920" y="0"/>
            <a:ext cx="609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饥寒的年代里，理想是温饱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温饱的年代里，理想是文明。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离乱的年代里，理想是安定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安定的年代里，理想是繁荣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1337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第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节诗是说，不同年代有不同的理想，理想有时代性，对吗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除此之外，还包含什么意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84640"/>
            <a:ext cx="9612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社会不断进步，理想也逐步提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反过来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理想逐步提高，也使社会不断进步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前两句是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生活状况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说的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两句是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社会秩序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说的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99072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如珍珠，一颗缀连着一颗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贯古今，串未来，莹莹光无尽。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美丽的珍珠链，历史的脊梁骨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古照今，今照来，先辈照子孙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1916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第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节的意思怎样理解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跟第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节有什么联系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8360" y="2492280"/>
            <a:ext cx="8675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人类一代又一代的理想，推动了历史的发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同历史时期的不同理想，连缀在一起，就像一串“珍珠链”。理想也如同“脊梁骨”，是推动历史前进的精神支柱和动力。先辈的理想照亮了子子孙孙前进的道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节都是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历史的角度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谈理想的意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06668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罗盘，给船舶导引方向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船舶，载着你出海远行。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但理想有时候又是海天相吻的弧线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可望不可即，折磨着你那进取的心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057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、第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节诗意的重点是什么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4922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重点在后两句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理想的实现，往往要经历多次挫折和失败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者不像预期那样切近，起初对长期性估计不足，越到后来越是认识其艰巨性、长期性。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理想的实现，要经历漫长的过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43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、这节诗的意思跟《在山的那边》中的哪句诗的意思相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4789440"/>
            <a:ext cx="8534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的，我曾一次又一次地失望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我爬上那一座座诱惑着我的山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但我又一次次鼓起信心向前走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06668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使你微笑地观察着生活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使你倔强地反抗着命运。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使你忘记鬓发早白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使你头白仍然天真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9280" y="2133720"/>
            <a:ext cx="1036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揣摩各句的意思，理解树立远大理想的重大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2708280"/>
            <a:ext cx="3962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理想使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理想使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理想使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理想使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51280" y="2708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积极乐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51280" y="3500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斗志顽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95640" y="43657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永远年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95640" y="50846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充满活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579132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概括起来，是力量，包括精神力量在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理想给人以力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83808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闹钟，敲碎你的黄金梦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肥皂，洗濯你的自私心。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既是一种获得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又是一种牺牲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3623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第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节怎样理解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这里所说的“牺牲”是不是指黄金梦被敲碎，自私心被洗濯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3733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的。诗人所说的理想，是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崇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社会理想，决不是黄金梦与自私的欲望。为崇高理想而奋斗，就顾不得个人利益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他所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Times New Roman"/>
                <a:ea typeface="华文新魏"/>
              </a:rPr>
              <a:t>获得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是为理想而奋斗的幸福感和理想实现后的喜悦，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Times New Roman"/>
                <a:ea typeface="华文新魏"/>
              </a:rPr>
              <a:t>牺牲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是个人利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14300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如果给你带来荣誉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那只不过是它的副产品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而更多的是带来被误解的寂寥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寂寥里的欢笑，欢笑里的酸辛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22096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如何理解这节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819520"/>
            <a:ext cx="830556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前两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制造某种物品时附带产生的物品叫做副产品。理想所追求的是社会的温饱、文明、安定、繁荣等等，而不是个人荣誉。理想的实现可能会带来个人荣誉，但这正像“副产品”，不是主要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2388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理想如果给你带来荣誉，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那只不过是它的副产品， </a:t>
            </a:r>
            <a:br>
              <a:rPr sz="2800"/>
            </a:br>
            <a:r>
              <a:rPr b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而更多的是带来被误解的寂寥， </a:t>
            </a:r>
            <a:br>
              <a:rPr sz="2800"/>
            </a:br>
            <a:r>
              <a:rPr b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寂寥里的欢笑，欢笑里的酸辛。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14400"/>
            <a:ext cx="914400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后两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寂寥，就是寂静、空旷。理想，就是要改变现状。而尚未觉悟的人，总认为现状是天经地义的，要改变现状，在他们看来就是大逆不道，是疯子，是狂人，躲避他，反对他，奋斗者的处境就陷于寂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胸怀理想、为理想而奋斗的志士，处境尽管寂寥，但是他享受着斗争的欢乐，所以有“寂寥里的欢笑”。但是，他毕竟遭人误解，被当成异类，所以欢笑里又有酸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485800" y="1052640"/>
            <a:ext cx="42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——7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节有何内在联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40760" y="29973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都是从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人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角度谈理想的意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624120" y="498600"/>
            <a:ext cx="283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理想使忠厚者常遭不幸；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理想使不幸者绝处逢生。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平凡的人因有理想而伟大；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有理想者就是一个“大写的人”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30120" y="2421000"/>
            <a:ext cx="34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“大写的人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45120" y="3095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真正的人，崇高的人，伟大的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99120" y="386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谈谈你对本节诗的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22800" y="4797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理想对人生的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8600" y="0"/>
            <a:ext cx="891540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一、流沙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原名余勋坦。四川金堂人。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931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1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月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1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日生在成都。幼习古文，做文言文。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948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始发表作品。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949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入四川大学农业化学系，写作愈勤。 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966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押回金堂老家，劳动糊口，共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2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。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978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到金堂县文化馆任馆员。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979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复出发表作品。年底调回四川省文联，任《星星》编辑。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985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起专职写作。中国作协理事、四川作协副主席。作品出版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20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501640" y="333360"/>
            <a:ext cx="394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世界上总有人抛弃了理想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理想却从来不抛弃任何人。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给罪人新生，理想是还魂的仙草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唤浪子回头，理想是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慈爱的母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48520" y="2421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如何理解后两句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321300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罪人之所以为罪人，是因为丧失了灵魂，为邪恶的念头所驱使，为非作歹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树立了理想，即使是罪人，都能恢复良知，恢复正常人的灵魂，重新做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理想能引导浪子走上正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892960" y="404640"/>
            <a:ext cx="3211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理想被玷污了，不必怨恨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那是妖魔在考验你的坚贞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理想被扒窃了，不必哭泣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快去找回来，以后要当心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9640" y="249228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导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十年浩劫，“四人帮”歪曲马列主义，共产主义理想被他们糟蹋了，玷污了。因此有些人的信念动摇了，也就是“理想被扒窃了”。妖魔玷污了理想，你能不能识别真假，对真正的理想坚信不移，这是一种考验。理想之所以会被扒窃，在自己一面，也因为不够执著，所以说一要找回来，二要提起警戒，要把理想视为生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180240" y="0"/>
            <a:ext cx="3211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英雄失去理想，蜕作庸人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可厌地夸耀着当年的功勋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庸人失去理想，碌碌终生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可笑地诅咒着眼前的环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206064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为什么说“夸耀着当年的功勋” “可厌”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为什么说“诅咒着眼前的环境”“可笑”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29973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夸耀自己当年的功勋，不再立新功，是吃老本，躺在功劳簿上争名夺利，当然可厌。一味埋怨环境 不好，却不愿为改变眼前的环境而奋斗，当然可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38360" y="5084640"/>
            <a:ext cx="35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“蜕”字能不能改成“变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6920" y="579132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能。“蜕”是由好向坏转化，而“变”可变好也可变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914560" y="0"/>
            <a:ext cx="32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</a:rPr>
              <a:t>理想开花，桃李要结甜果； </a:t>
            </a:r>
            <a:br>
              <a:rPr sz="2800"/>
            </a:b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</a:rPr>
              <a:t>理想抽芽，榆杨会有浓阴。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请乘理想之马，挥鞭从此起程，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路上春色正好，天上太阳正晴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57280" y="198900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前两句诗的意思跟《在山的那边》中哪些句子相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4000" y="2781360"/>
            <a:ext cx="5111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啊，请相信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不停地翻过无数座山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一次次地战胜失望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终会攀上这样一座山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在这座山的那边，就是海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个全新的世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一瞬间照亮你的眼睛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27432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今天的理想之花，就是明天的甜果，今天的理想之芽，就是明天的浓阴，树立了理想，不懈地奋斗，就会取得丰硕的成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417120" y="378000"/>
            <a:ext cx="369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理想开花，桃李要结甜果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理想抽芽，榆杨会有浓阴。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请乘理想之马，挥鞭从此起程， </a:t>
            </a:r>
            <a:br>
              <a:rPr sz="3200"/>
            </a:b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路上春色正好，天上太阳正晴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70040" y="3213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最后一句有什么象征意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0920" y="443700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象征大好形势。新的历史时期，丽日当空，春色一片，是人民实现自己美好理想的最好的时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4360" y="404640"/>
            <a:ext cx="73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探究这首诗的脉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探究脉络，先要明白各节大意，然后把相近的归并在一起，才容易探明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2    3    4    5    6    7    8    9    10   11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92360" y="2349360"/>
            <a:ext cx="567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—3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理想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历史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意义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—7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——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理想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人格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意义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—11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理想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人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意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5280" y="364500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见，全诗主要赞扬理想的意义，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历史意义，到人格意义和人生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头一节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总说理想的意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后一节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鼓舞人们树立理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为理想而奋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这样合并概括，全诗的脉络就清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-3916440" y="838080"/>
            <a:ext cx="1715760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ff"/>
                </a:solidFill>
                <a:latin typeface="Times New Roman"/>
              </a:rPr>
              <a:t>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理想是指路明灯。没有理想，就没有坚定的方向；而没有方向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没有生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列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托尔斯泰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imes New Roman"/>
              </a:rPr>
              <a:t>◆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个人都有一定的理想，这种理想决定着他的努力和判断的方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在这个意义上，我从来不把安逸和快乐看作生活目的本身——这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伦理基础，我叫它猪栏的理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爱因斯坦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imes New Roman"/>
              </a:rPr>
              <a:t>◆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彩虹，经过与雷电激战之后才出现；理想，经过与困难搏斗之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诞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谚语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imes New Roman"/>
              </a:rPr>
              <a:t>◆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首昨天，应该是问心无愧的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面对今天，应该是倍加珍惜的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展望明天，应该是信心百倍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谚语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54560" y="6541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七、相关阅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3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3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281960" y="380880"/>
            <a:ext cx="30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八、“另类”阅读——网络文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15400" y="954000"/>
            <a:ext cx="437616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ff"/>
                </a:solidFill>
                <a:latin typeface="Times New Roman"/>
              </a:rPr>
              <a:t>         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《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抹布的理想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当抹布尝过颜料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就象吸过毒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在晾晒的时候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它会歇斯底里地望着蓝天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和窗户说着胡话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用脏手在白墙上比划着晚霞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每天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它都被画笔怂恿着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挂上几片彩云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冲洗几张印象派底片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真不忍洗它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它不上相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它的自尊心很强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51320" y="1523880"/>
            <a:ext cx="1617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同样是布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亚麻舒舒服服地躺在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博物馆里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它只能在衣架上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拧干昨天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过着廉价的生活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你放心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我老死的那天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将把你风干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象照片一样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压在水晶棺材下面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让玻璃台板下的画片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和我的亲人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一起悼念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39720" y="1555920"/>
            <a:ext cx="11606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我们平整干燥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如两页画册 </a:t>
            </a:r>
            <a:br>
              <a:rPr sz="20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20720" y="762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imes New Roman"/>
              </a:rPr>
              <a:t>◆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活的理想就是为了理想生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28440">
            <a:solidFill>
              <a:srgbClr val="b2b2b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1571760" cy="1676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6553080" y="380880"/>
            <a:ext cx="1524240" cy="139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51480" y="754200"/>
            <a:ext cx="37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《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没出息的理想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81960" y="380880"/>
            <a:ext cx="30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八、“另类”阅读——网络文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65040" y="1447920"/>
            <a:ext cx="1617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每个独自醒来的时候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都看见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山的寂寞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海的忧愁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被重压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浸溺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羡慕一株草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粒种子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条鱼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想象草一样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舒展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象种子一样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坚强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象鱼一样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呼吸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10800" y="1143000"/>
            <a:ext cx="146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渴望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次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生物意义上的退化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28440">
            <a:solidFill>
              <a:srgbClr val="b2b2b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733920" y="380988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5410080" y="3352680"/>
            <a:ext cx="1325520" cy="16765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29000" y="5410080"/>
            <a:ext cx="1646280" cy="59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0880" y="2286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九、课后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答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主题相同，都抒写了理想的意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要达到理想境界的征途是漫长的，一次次失望是折磨人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理想的实现给人带来美好的新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0880" y="380880"/>
            <a:ext cx="83822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二、诗人说他写诗“像老牛拉破车”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徐虹北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他写诗，很注意诗的韵律，所以，常常在一张纸上涂涂改改，一句句地慢慢拼凑，一字字地缓缓雕琢，像老牛拉破车，嘴里一边嘟哝，手里还要一边查字典，磨磨蹭蹭，斤斤计较，一点也不爽快，当别人纷纷改弦易辙，更新观念，投奔“现代诗”麾下时，他仍然钟情于传统诗的形式节奏之美与音韵平仄之谐，讲求诗句的流畅易懂，琅琅上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144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三、走进“理想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理想”是什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对未来事物的想像或希望；是对美好未来的设想。一个人有一个人的理想，一个民族、一个国家有一个民族、一个国家的理想。如果了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中叶以来，中国人民为理想而奋斗的历史，如果我们正在孕育人生的理想，那么，读这首诗就会感到分外亲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从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世纪中叶到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世纪中叶的一百年间，中国人民的一切奋斗，都是为了实现祖国的独立和民族的解放，彻底结束民族屈辱的历史。这个历史伟业，我们已经完成了。”这就是说，那一百年间，中国人民的理想是祖国的独立和民族的解放，奋斗的结果是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1949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年建立了新中国，中国人民站起来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f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中叶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中叶的一百年间，中国人民的一切奋斗，则是为了实现祖国的富强，人民的富裕和民族的伟大复兴。这个历史伟业，我们党领导全国人民已经奋斗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取得了巨大的进展，再经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的奋斗，也必将胜利完成。”这就是说，今天中国人民的理想是祖国的富强，人民的富裕和民族的伟大复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社会主义现代化的宏伟事业需要我们去建设，中华民族的伟大复兴将在我们手中实现，党和人民殷切期望我们志存高远，在改革开放和现代化建设的广阔舞台上，充分发挥自己的聪明才智，展现自己的人生价值，努力创造无愧于时代和人民的业绩。青少年时期正是树立理想的时期，读《理想》这首诗，会得到不少有益的启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914400"/>
            <a:ext cx="9144000" cy="55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朗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要求用普通话正确、流利、有感情地朗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各自练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齐读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外自制个人录音朗诵带并在班上交流评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59280" y="2997360"/>
            <a:ext cx="504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调动情绪，纠正音准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品位语气、语调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把握韵律、节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90720" y="1295280"/>
            <a:ext cx="6858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五、合作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逐节研读，理解诗句的含义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提出疑问，共同解决疑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4005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研讨方式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人一组合作探究，提出疑问，共同解疑。每节由两组代表报告探究结果，不能解决的疑问可请全班同学研究，或师生共同探究解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齐声朗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27936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质疑导引（预设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四个比喻，喻意是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诗是说，不同年代有不同的理想，理想有时代性，对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除此之外，还包含什么意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的意思怎样理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跟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有什么联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诗意的重点是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的大意怎样概括为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怎样理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里所说的“牺牲”是不是指黄金梦被敲碎，自私心被洗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说“理想如果给你带来荣誉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只不过是它的副产品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“更多的是带来被误解的寂寥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寂寥里怎么有欢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欢笑里怎么又有酸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752480" y="0"/>
            <a:ext cx="601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石，敲出星星之火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火，点燃熄灭的灯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灯，照亮夜行的路；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理想是路，引你走到黎明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21640" y="2514600"/>
            <a:ext cx="36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、第</a:t>
            </a: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节四个比喻，喻意是什么</a:t>
            </a: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30481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从星星之火，到点燃熄灭的灯，说的是理想传播的过程，例如李大钊等人最早传播马克思主义时，共产主义理想在中国是星星之火；马克思主义在中国不断传播，成为中国共产党的指导思想，就有如一盏明灯了。这盏等指示了光明的方向，引领中国人民走到光明的新中国，走向社会主义现代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hfzx</cp:lastModifiedBy>
  <dcterms:modified xsi:type="dcterms:W3CDTF">2003-09-25T01:45:23Z</dcterms:modified>
  <cp:revision>100</cp:revision>
  <dc:subject/>
  <dc:title>PowerPoint Presentation</dc:title>
</cp:coreProperties>
</file>