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BAD-FC7D-4B44-A1F7-6F223FD3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672-1376-4D61-9CDB-0040F3A7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2B0-F360-4007-BE9D-839E9066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205-B4EF-4DBF-A91F-390503D3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19C-A625-451C-B096-331284C2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708-D69F-4CAD-AA46-43ABA988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214-2C70-4373-BD82-A4A492D1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5D2-DF33-42EB-847F-6FB8E929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CB1-64A9-47C9-8D0A-33CBB096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F5F-BEAA-4E29-93AA-82F309D2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D9D-D003-41D4-BAA2-F926CB1B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9CC-659E-47F8-8060-EFBC430E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30D1-943B-4CEE-BDAA-E8FDE7520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草地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0492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609480" y="1523880"/>
            <a:ext cx="71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900" spc="-1" strike="noStrike" baseline="8000">
                <a:solidFill>
                  <a:srgbClr val="66ff66"/>
                </a:solidFill>
                <a:latin typeface="Times New Roman"/>
                <a:ea typeface="隶书"/>
              </a:rPr>
              <a:t>        </a:t>
            </a:r>
            <a:r>
              <a:rPr b="1" i="1" lang="en-US" sz="9600" spc="-1" strike="noStrike">
                <a:solidFill>
                  <a:srgbClr val="3399ff"/>
                </a:solidFill>
                <a:latin typeface="Times New Roman"/>
                <a:ea typeface="隶书"/>
              </a:rPr>
              <a:t>理  想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86200" y="3809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   </a:t>
            </a:r>
            <a:r>
              <a:rPr b="0" i="1" lang="en-US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流沙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脊梁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762120" y="-255600"/>
            <a:ext cx="12115800" cy="7837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838080"/>
            <a:ext cx="89154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美丽的珍珠链，历史的脊梁骨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古照今，今照来，先辈照子孙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罗盘" descr=""/>
          <p:cNvPicPr/>
          <p:nvPr/>
        </p:nvPicPr>
        <p:blipFill>
          <a:blip r:embed="rId1"/>
          <a:stretch/>
        </p:blipFill>
        <p:spPr>
          <a:xfrm>
            <a:off x="-685800" y="-514440"/>
            <a:ext cx="10134720" cy="7601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56160" y="0"/>
            <a:ext cx="1399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理想是罗盘，给船舶导引方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船舶" descr=""/>
          <p:cNvPicPr/>
          <p:nvPr/>
        </p:nvPicPr>
        <p:blipFill>
          <a:blip r:embed="rId1"/>
          <a:stretch/>
        </p:blipFill>
        <p:spPr>
          <a:xfrm>
            <a:off x="-1143000" y="0"/>
            <a:ext cx="12420720" cy="6794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057400" y="6858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理想是船舶，载着你出海远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船舶2" descr=""/>
          <p:cNvPicPr/>
          <p:nvPr/>
        </p:nvPicPr>
        <p:blipFill>
          <a:blip r:embed="rId1"/>
          <a:stretch/>
        </p:blipFill>
        <p:spPr>
          <a:xfrm>
            <a:off x="-1219320" y="0"/>
            <a:ext cx="11811240" cy="7543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2971800"/>
            <a:ext cx="8610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Times New Roman"/>
                <a:ea typeface="华文细黑"/>
              </a:rPr>
              <a:t>但是理想有时侯又是海天相吻的弧线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Times New Roman"/>
                <a:ea typeface="华文细黑"/>
              </a:rPr>
              <a:t>可望不可即，折磨着你那进取的心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QT10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38080" y="12952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理想使你微笑地观察生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理想使你倔强地反抗命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白发" descr=""/>
          <p:cNvPicPr/>
          <p:nvPr/>
        </p:nvPicPr>
        <p:blipFill>
          <a:blip r:embed="rId1"/>
          <a:stretch/>
        </p:blipFill>
        <p:spPr>
          <a:xfrm>
            <a:off x="0" y="-434880"/>
            <a:ext cx="9144000" cy="7727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24280" y="4724280"/>
            <a:ext cx="441972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理想使你忘记鬓发早白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理想使你头白仍然天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香皂" descr=""/>
          <p:cNvPicPr/>
          <p:nvPr/>
        </p:nvPicPr>
        <p:blipFill>
          <a:blip r:embed="rId1"/>
          <a:stretch/>
        </p:blipFill>
        <p:spPr>
          <a:xfrm>
            <a:off x="0" y="914400"/>
            <a:ext cx="320184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naozhong" descr=""/>
          <p:cNvPicPr/>
          <p:nvPr/>
        </p:nvPicPr>
        <p:blipFill>
          <a:blip r:embed="rId2"/>
          <a:stretch/>
        </p:blipFill>
        <p:spPr>
          <a:xfrm>
            <a:off x="6743880" y="3657600"/>
            <a:ext cx="2400120" cy="3200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81280" y="990720"/>
            <a:ext cx="556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理想是闹钟，敲碎你的黄金梦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理想是肥皂，洗濯你的自尊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理想既是一种获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又是一种牺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理想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41680" y="304920"/>
            <a:ext cx="8506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  <a:ea typeface="华文细黑"/>
              </a:rPr>
              <a:t>猫的理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414680"/>
            <a:ext cx="4952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理想如果给你带来荣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那只不过是它的副产品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而更多的是带来被误解的寂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寂寥里的欢笑，欢笑里的酸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ACEBMP" descr=""/>
          <p:cNvPicPr/>
          <p:nvPr/>
        </p:nvPicPr>
        <p:blipFill>
          <a:blip r:embed="rId1"/>
          <a:stretch/>
        </p:blipFill>
        <p:spPr>
          <a:xfrm>
            <a:off x="-762120" y="-457200"/>
            <a:ext cx="10896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4572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83808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       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理想，多么诱人的字眼！人类有了理想，才使世界不断向前发展；你我有了理想，所以能向着既定的目标不断努力。理想是什么？读了这首诗，你对理想的内涵也许会有新的理解。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ACE09" descr=""/>
          <p:cNvPicPr/>
          <p:nvPr/>
        </p:nvPicPr>
        <p:blipFill>
          <a:blip r:embed="rId1"/>
          <a:stretch/>
        </p:blipFill>
        <p:spPr>
          <a:xfrm>
            <a:off x="-838080" y="-609480"/>
            <a:ext cx="10744200" cy="8001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90720" y="182880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洗濯        寂寥      玷污     扒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哭泣       诅咒       蜕作     缀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191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295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hu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295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129528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ǔ zhò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43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hu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石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1600" y="1371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理想是石，敲出星星之火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火" descr=""/>
          <p:cNvPicPr/>
          <p:nvPr/>
        </p:nvPicPr>
        <p:blipFill>
          <a:blip r:embed="rId1"/>
          <a:stretch/>
        </p:blipFill>
        <p:spPr>
          <a:xfrm>
            <a:off x="-762120" y="0"/>
            <a:ext cx="12611160" cy="7304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23360" y="838080"/>
            <a:ext cx="16585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143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理想是火，点燃熄灭的灯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灯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159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3320" y="10666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理想是灯，照亮夜行的路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路" descr=""/>
          <p:cNvPicPr/>
          <p:nvPr/>
        </p:nvPicPr>
        <p:blipFill>
          <a:blip r:embed="rId1"/>
          <a:stretch/>
        </p:blipFill>
        <p:spPr>
          <a:xfrm>
            <a:off x="-533520" y="12600"/>
            <a:ext cx="10820520" cy="7240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362320" y="1419120"/>
            <a:ext cx="53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理想是路，引你走到黎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斜纹沙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457200" y="95400"/>
            <a:ext cx="10439280" cy="691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81080" y="1676520"/>
            <a:ext cx="48769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饥寒的年代里，理想是温饱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温饱的年代里，理想是文明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离乱的年代里，理想是安定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安定的年代里，理想是繁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饥饿" descr=""/>
          <p:cNvPicPr/>
          <p:nvPr/>
        </p:nvPicPr>
        <p:blipFill>
          <a:blip r:embed="rId2"/>
          <a:stretch/>
        </p:blipFill>
        <p:spPr>
          <a:xfrm>
            <a:off x="6629400" y="685800"/>
            <a:ext cx="3000240" cy="2019240"/>
          </a:xfrm>
          <a:prstGeom prst="rect">
            <a:avLst/>
          </a:prstGeom>
          <a:ln w="0">
            <a:noFill/>
          </a:ln>
        </p:spPr>
      </p:pic>
      <p:pic>
        <p:nvPicPr>
          <p:cNvPr id="70" name="饥饿2" descr=""/>
          <p:cNvPicPr/>
          <p:nvPr/>
        </p:nvPicPr>
        <p:blipFill>
          <a:blip r:embed="rId3"/>
          <a:stretch/>
        </p:blipFill>
        <p:spPr>
          <a:xfrm>
            <a:off x="5533920" y="3429000"/>
            <a:ext cx="3610080" cy="2384280"/>
          </a:xfrm>
          <a:prstGeom prst="rect">
            <a:avLst/>
          </a:prstGeom>
          <a:ln w="0">
            <a:noFill/>
          </a:ln>
        </p:spPr>
      </p:pic>
      <p:pic>
        <p:nvPicPr>
          <p:cNvPr id="71" name="hh" descr=""/>
          <p:cNvPicPr/>
          <p:nvPr/>
        </p:nvPicPr>
        <p:blipFill>
          <a:blip r:embed="rId4"/>
          <a:stretch/>
        </p:blipFill>
        <p:spPr>
          <a:xfrm>
            <a:off x="-304920" y="685800"/>
            <a:ext cx="28926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britisharmyvehicle" descr=""/>
          <p:cNvPicPr/>
          <p:nvPr/>
        </p:nvPicPr>
        <p:blipFill>
          <a:blip r:embed="rId5"/>
          <a:stretch/>
        </p:blipFill>
        <p:spPr>
          <a:xfrm>
            <a:off x="1219320" y="3581280"/>
            <a:ext cx="3867120" cy="2414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珍珠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80880" y="-1924200"/>
            <a:ext cx="11125080" cy="17564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9480" y="762120"/>
            <a:ext cx="92203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33"/>
                </a:solidFill>
                <a:latin typeface="Times New Roman"/>
                <a:ea typeface="隶书"/>
              </a:rPr>
              <a:t>理想如珍珠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33"/>
                </a:solidFill>
                <a:latin typeface="Times New Roman"/>
                <a:ea typeface="隶书"/>
              </a:rPr>
              <a:t>一颗缀连着一颗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33"/>
                </a:solidFill>
                <a:latin typeface="Times New Roman"/>
                <a:ea typeface="隶书"/>
              </a:rPr>
              <a:t>贯古今，串未来，莹莹光无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1:19:48Z</dcterms:created>
  <dc:creator>wutao</dc:creator>
  <dc:description/>
  <dc:language>en-US</dc:language>
  <cp:lastModifiedBy>周璟</cp:lastModifiedBy>
  <dcterms:modified xsi:type="dcterms:W3CDTF">2004-10-18T09:34:36Z</dcterms:modified>
  <cp:revision>100</cp:revision>
  <dc:subject/>
  <dc:title>PowerPoint 演示文稿</dc:title>
</cp:coreProperties>
</file>