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638-151D-4133-9109-E146A886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5DB-09A9-4A60-BD9B-7F8DCACD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B06-72C9-475B-8105-C4DC7790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C57-B002-4DF8-9A68-55628D5B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0829-ECE8-48E9-9D6E-DC144638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FADE-D039-4650-A7FF-5B74C0AC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1A59-27B5-4990-A849-29000565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E737-F291-4E56-B9C1-154CCAEE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B56D-DE84-4538-8F52-6A261E0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1937-D82D-46F7-94E1-2E979AD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809A-5AC4-4995-9862-D40AA33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319-4BB7-4C0C-9746-D8096E67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FD57-8BF7-423F-B74C-3A6263DB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1682-E453-4486-83C2-0B3FCC76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78E9-67A2-4E88-BD6D-DBE11FF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CA8C-F8E1-4125-BC5C-44B33CC7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00E2-1F87-43BE-B1A4-DD2602E3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BCE-811E-48A5-9128-40CB8FCC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146-CB99-4171-B79A-93898525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246-343C-41FD-9E97-60AEC988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D53-E53C-449E-8FB4-658C49D5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21A-06ED-438C-B6BB-48EA8EF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9A8-91BC-4F93-B8B0-85870FE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890-478F-4E46-B1AF-35D37BE5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B83D-C617-4A9B-9841-F86C6246E2EF}" type="slidenum">
              <a:rPr b="0" lang="zh-CN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3EDC-849F-4FBD-B03C-242A4B28756E}" type="slidenum"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</a:rPr>
              <a:t>理</a:t>
            </a:r>
            <a:r>
              <a:rPr b="0" lang="zh-CN" sz="8800" spc="-1" strike="noStrike">
                <a:solidFill>
                  <a:srgbClr val="ffffe9"/>
                </a:solidFill>
                <a:latin typeface="Times New Roman"/>
              </a:rPr>
              <a:t>     想</a:t>
            </a:r>
            <a:endParaRPr b="0" lang="en-US" sz="88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流沙河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回答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271fd"/>
                </a:solidFill>
                <a:latin typeface="Times New Roman"/>
              </a:rPr>
              <a:t>同学们有理想么？我们应该有理想么？应该有什么样的理想？如果没有理想会怎么样？有理想难道就会快乐么？如果你的理想令你痛苦你准备背弃你的理想么？你相信你的理想会实现吗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生字词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蜕    饥寒     离乱     缀连    远行     倔强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洗濯     玷污      怨恨      扒窃       诅咒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浓阴     海天相吻     浪子回头    碌碌终生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绝处逢生    可望不可及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深入研究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一节语言表达上有什么特点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它对于表现思想内容有什么作用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二节表达了什么意思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能试试举举例说明吗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三节从什么角度谈理想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谈谈珍珠链与脊梁骨的比喻作用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四节三四两句怎样理解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第五节揣摩各句意义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理解树立远大理想的重大意义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cover dir="ru"/>
    <p:sndAc>
      <p:stSnd>
        <p:snd r:embed="rId7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9"/>
            </a:gs>
            <a:gs pos="100000">
              <a:srgbClr val="78c0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深入研究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六节怎样理解“获得”与“牺牲”你对诗歌所说的“理想”是否有了更深刻的认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七节“副产品”是什么意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理想的人为什么也会酸辛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第八节到最后一节你能找到理想对人生的重大意义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理想离开你你应该怎么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哪里可以看出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后一节的主要内容是什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达了作者怎样的思想感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探讨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你能说说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&lt;&lt;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理想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&gt;&gt;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&lt;&lt;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在山的那边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&gt;&gt;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有什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么内在联系吗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找出两首诗内涵相同的诗句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诗人给理想打了很多比方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异彩纷呈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深刻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请模仿第一段也说几句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示例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爱心是风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卷来浓密的云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爱心是云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化作及时的雨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爱心是雨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滋润久旱的树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爱心是树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为你撑起绿阴</a:t>
            </a:r>
            <a:r>
              <a:rPr b="0" lang="zh-CN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00:57:52Z</dcterms:created>
  <dc:creator>wutao</dc:creator>
  <dc:description/>
  <dc:language>en-US</dc:language>
  <cp:lastModifiedBy>zj</cp:lastModifiedBy>
  <dcterms:modified xsi:type="dcterms:W3CDTF">2004-07-27T06:47:14Z</dcterms:modified>
  <cp:revision>100</cp:revision>
  <dc:subject/>
  <dc:title>理     想</dc:title>
</cp:coreProperties>
</file>