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A13-2DFD-4D96-9447-EBF893E9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37E-A5F6-474C-9888-4AA7AD68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493-D05A-4190-88C1-6194C71A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689-464F-4F3E-8D15-A37DF3F8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D91-32E2-41E6-BFCD-39F400E8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4ED-60B1-432B-BB96-8D73C9A0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48B-065B-4B9D-862D-DB9A47EC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C51-45EF-4068-B072-049E9D68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8AC-92B2-4425-83BB-791AD2AA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8E2-93F8-4C8A-97BD-75E4503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8A9-9D75-4700-89A5-71BC6F3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769-963C-445D-8ADC-9E7C9C81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DDAD-B18C-41B3-B24A-7D18A33963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1066680"/>
            <a:ext cx="4724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理 想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43434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流沙河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14800" y="76320"/>
            <a:ext cx="4343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琥珀"/>
              </a:rPr>
              <a:t>学习目标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425680"/>
            <a:ext cx="80773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正确地有感情地反复诵读诗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联系生活理解理想“是什么”的作用、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联系实际谈谈自己的理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371600" y="609480"/>
            <a:ext cx="4114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整体感悟：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286000"/>
            <a:ext cx="777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阅读了诗歌，用自己的感受说说写了哪几个内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联系生活体验，体会一下理想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最喜欢哪一段？应该怎样朗读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3520" y="3808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隶书"/>
              </a:rPr>
              <a:t>研读赏析：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1080"/>
            <a:ext cx="86104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四个比喻，喻意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小节说了什么内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的意思怎样理解？跟第二节有什么联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诗意的重点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304920"/>
            <a:ext cx="74674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五节的大意怎样概括为好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6.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六节怎样理解？这里所说的“牺牲”是不是指黄金梦被敲碎，自私心被洗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7.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为什么说“理想如果给你带来荣誉，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那只不过是它的副产品”？为什么“更多的是带来被误解的寂寥”？寂寥里怎么有欢笑？欢笑里怎么又有酸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-1676520" y="281916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隶书"/>
              </a:rPr>
              <a:t>研读赏析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762120"/>
            <a:ext cx="3886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隶书"/>
              </a:rPr>
              <a:t>研读赏析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060640"/>
            <a:ext cx="83055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八节的中心意思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九节是什么意思？跟上一节有什么关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.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十节所说的“理想被玷污”“理想被扒窃”究竟是指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-1562040" y="2705040"/>
            <a:ext cx="487656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隶书"/>
              </a:rPr>
              <a:t>研读赏析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4520"/>
            <a:ext cx="7543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1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节与上面有什么联系？“夸耀着当年的功勋”，为什么说“可厌”？“诅咒着眼前的环境”为什么说“可笑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2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节“理想开花”两句比喻什么？结尾为什么不照应“照亮夜行的路”，而说“路上春色正好，天上太阳正晴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6:12:45Z</dcterms:created>
  <dc:creator>wutao</dc:creator>
  <dc:description/>
  <dc:language>en-US</dc:language>
  <cp:lastModifiedBy>zj</cp:lastModifiedBy>
  <dcterms:modified xsi:type="dcterms:W3CDTF">2004-07-27T06:47:34Z</dcterms:modified>
  <cp:revision>100</cp:revision>
  <dc:subject/>
  <dc:title>PowerPoint 演示文稿</dc:title>
</cp:coreProperties>
</file>