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17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15.gif" ContentType="image/gif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FD5-5646-4C4E-804B-DB743E14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DF0-7588-4E27-A192-32B408F1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9AE-1927-4117-8AB5-A24BC08C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9E6-DE2B-40A2-BFE1-1ECED1EA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476-554A-453F-B7B8-3A55E8AD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DFF-06FE-4761-8627-620BBF18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CB3-54DD-451C-B487-4D1AEC40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8A0-7102-464A-9AE9-5D765F3A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867-4DFD-4A24-91B4-8CCF68E2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473-CD09-4ABE-B631-6AF03861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9A0-3539-4C00-951A-7905A6C2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742-9104-48D3-BC33-A8A1066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15D6-39E2-4434-8032-606E3754E4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7543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935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年，伟大的科学家玛丽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居里夫人离开了这个世界。爱因斯坦在追悼会上发表了著名的演讲，他没有崇扬居里夫人在科学上的光辉业迹。按理，居里夫人开创了放射化学，发现了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种新的元素，深入研究了放射性元素镭的性质，她的科学成就是应该认真介绍的。但是，爱因斯坦谈的却是她伟大的精神。他指出，居里夫人在放身性研究和元素镭的研究中的巨大成就的取得，“不仅是靠着大胆的直觉，而且也是靠着难以想象的极端困难情况下工作的热忱和顽强。”他还深刻指出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居里夫人的人格力量和为科学而献身的精神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哪怕只要有一小部分还存在于欧洲知识分子中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欧洲就会面临一个比较光明的未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爱因斯坦的演讲含义深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99072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孤独地过着求学     的岁月”却成了“美好快乐的记忆”，这说明了什麽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4197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对科学的渴望，对科学研究的热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92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一位从事研究工作的科学家，不仅是一个技术员，而且是一个小孩儿，在大自然的景色中，好像迷醉于神话故事一般。”怎样理解这句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4038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因为只有有了小孩班的沉迷和好奇，才能对科学产生兴趣，才能沉迷于当中，又探求的欲望，才能产生新的科研成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22860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居里夫人的人格美表现在哪些地方？她取得的巨大成就于她的性格特点有哪些联系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5800" y="3581280"/>
            <a:ext cx="1033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居里夫人的人格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809880"/>
            <a:ext cx="457200" cy="2590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443700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有足够的兴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411480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7242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成功的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357720"/>
            <a:ext cx="4800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有毅力、有信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5877000"/>
            <a:ext cx="417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不为名利所诱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2465280" cy="2575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05320" y="762120"/>
            <a:ext cx="533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品味语言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0120" y="5410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95280" y="25909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文章的语言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质朴、真诚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，表现了居里夫人作为一位科学家的性格特点和人格力量，能给我们以深刻的启迪和思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1371600"/>
            <a:ext cx="754380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钋”与“波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897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月，居里夫妇历经千辛万苦，终于从含铋的矿物中发现了新的放射性元素，它的化学性质与铋相似，但放射性比纯铀强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40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倍，居里夫人惊喜欲狂，叫道“钋，钋！”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原来在实验之前，居里夫妇就在商议新元素的名称时，玛丽说道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: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假如存在新元素的话，我想叫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纪念我的祖国波兰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!”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皮埃尔深知玛丽眷恋着自己的祖国，要用新元素的名称来争得祖国的荣誉和人民的光荣。居里赞同地说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钋，波兰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波兰，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这样，被居里夫妇命名为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的新元素便问世了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860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外拓展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6858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在丈夫皮埃尔去世以后，居里夫人开始一人担负起抚养孩子的重担。当时她经济上拮据，还得补贴一部分给科研。有人建议她卖掉与皮埃尔在实验室里分离出的那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分克镭，这在当时价值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万法郎。居里夫人则认为，不管今后的生活如何困难，决不能卖掉科研成果。她让女儿从小养成勤俭朴素、不贪图荣华富贵的思想。居里夫人毅然将镭献给了实验室，把它用于研究工作。后来她带着两个女儿赴美国接受总统赠送给她的一克镭时，也同样告诫女儿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：“镭必须属于科学，不属于个人。”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457200"/>
            <a:ext cx="7696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射线的发现引起了居里夫人的极大兴趣，她决心对此进行深入的研究。经过多次请求，她才得以使用一间潮湿的小屋作理化试验。虽然室温只有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度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，但她完全投入到研究中去了。他们从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898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一直工作到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902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，经过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几万次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的提炼，处理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几十吨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矿石残渣，终于得到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0.1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克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的镭盐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测定出了它的原子量是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225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镭宣告诞生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274680"/>
            <a:ext cx="807732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荣誉就像玩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一天，有位女士来居里夫人家作客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她看见居里夫人的小女儿在玩一枚奖章。她仔细一瞧，发现是英国皇家学会发给居里夫人的金质奖章，感到十分惊讶，便不解地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玛丽，能获取这枚奖章，是件不容易的事情。这是极高的荣誉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您怎能给小孩子当玩具玩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”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居里夫人淡淡一笑，平静地对女友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想让孩子们从小明白一个道理。”</a:t>
            </a: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“什么道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友急切地问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“正确对待荣誉。在我看来，所有荣誉就像玩具一般，仅仅玩玩而已。孩子不能守着这种荣誉生活，不然，她将一事无成。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女友不禁赞同地点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066680"/>
            <a:ext cx="9144000" cy="28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你对居里夫人的印象如何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居里夫人有坚韧不拔的精神，顽       强的意志，淡泊名利，甘于宁静   和简单不畏世俗诱惑，热爱自己  的祖国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1430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mcurie-port.jpg (15561 bytes)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001520" y="380880"/>
            <a:ext cx="3106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的信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5560" y="4267080"/>
            <a:ext cx="850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居里夫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45720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学习目标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905120"/>
            <a:ext cx="83055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、有关生字、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、了解居里夫人的人格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、居里夫人取得巨大成就与其性格的关系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00200" y="5335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给生字注音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676520"/>
            <a:ext cx="12189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渲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闲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1600200"/>
            <a:ext cx="1524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奢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呵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1600200"/>
            <a:ext cx="2210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蹂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猝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74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1676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x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1600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sh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1600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róu  lì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xi</a:t>
            </a:r>
            <a:r>
              <a:rPr b="0" lang="en-US" sz="3600" spc="-1" strike="noStrike">
                <a:solidFill>
                  <a:srgbClr val="ff33cc"/>
                </a:solidFill>
                <a:latin typeface="zypyyb"/>
                <a:ea typeface="zypyyb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2514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h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2514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33526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解词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26708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问心无愧          蹂躏                盛名                                迷醉                  渲染                致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懊恼                  呵责                逆来顺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8380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阅读课文，回答问题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2876400" cy="152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21337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、作者认为，做事情需要有怎样的精神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8620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要有坚韧不拔的精神，要有信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91440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作者追求的是怎样的工作和生活环境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66680" y="32767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安静的工作和简单的家庭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1:57:51Z</dcterms:created>
  <dc:creator>wutao</dc:creator>
  <dc:description/>
  <dc:language>en-US</dc:language>
  <cp:lastModifiedBy>周璟</cp:lastModifiedBy>
  <dcterms:modified xsi:type="dcterms:W3CDTF">2004-10-27T03:09:38Z</dcterms:modified>
  <cp:revision>100</cp:revision>
  <dc:subject/>
  <dc:title>PowerPoint 演示文稿</dc:title>
</cp:coreProperties>
</file>