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797-6A77-4A92-9377-487FE515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E9D-E73B-4B97-A503-E2DD2476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057-3519-4CD6-BA17-F7F91BBA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CDE-3F9B-423A-A140-D90B7664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C243-F927-46B9-924F-3F53CEB8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D3A5-F772-4900-B6CB-5454131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AF4-7B36-4A6A-83BD-E24EEA9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4BBA-B355-4344-BF39-67FEE253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DC0C-BF2C-45B1-9A37-B348D38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036-AEDB-4D97-ACE7-102332F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8F56-F998-4757-B098-F25CCBEB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1A5-0FC4-4CBB-A96A-7AB6C9FA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E614-53CA-449B-9DB2-5EF5982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0FC-42DB-4ABD-909D-16A4BDC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E0DA-3528-4C4E-B455-99B2CBAF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0C3D-FD4A-4FDF-8BA2-2E440E45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BBD7-B847-49DA-B8FA-405A230B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2D9-4456-4666-9EE4-AC06B30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B9B-D61A-4D98-BD05-703D347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2AD-FDAD-4F47-927F-6482047E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22B-EA54-4A36-98E0-D79E3D0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060-EB4C-44E3-8615-9F96C8F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4ED-2509-468B-A2C6-107CB34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3D0-872C-41B4-910C-0C73BFF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00B-6606-4938-BB0A-9D787DA270E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4963-16FC-44C2-A779-A376F16947B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 rot="5400000">
            <a:off x="4266720" y="2438280"/>
            <a:ext cx="6324480" cy="25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704"/>
                <a:gd name="adj2" fmla="val -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我的信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38088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爱因斯坦曾在《悼念玛丽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居里》一文中说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居里夫人的品德力量和热忱，哪怕只要有一小部分存在于欧洲的知识分子中间，欧洲就会面临一个比较光明的未来。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629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居里夫人简介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日出生于波兰华沙的一个知识分子家庭。母亲早逝。父亲是教授，由于政治上的原因不得担任任何有薪俸的教职。由于家境贫寒，为了支持二姐去法国求学，玛丽中学毕业后便不得不去做家教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9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，玛丽获得了亚力山德罗维奇奖学金，靠着这笔奖学金，她只身来到巴黎理学院求学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9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她以优异的成绩通过了结业考试，获得了波兰留学生奖学金，留在巴黎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5257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寻找一间条件较好的实验室的过程中，玛丽结识了志同道合的皮埃尔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居里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90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，夫妇两人共同获得诺贝尔物理学奖。但厄运降临了，皮埃尔由于车祸不幸丧身。居里夫人强忍着悲伤的同时，接过了丈夫的职位，成为巴黎大学第一位女教授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9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，居里夫人有单独获得了诺贝尔化学奖。在第一次世界大战中，她组织了一直有二百多台伦琴射线的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队，用以装备战地医院，拯救了无数人的生命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由于长时间接触放射性物质，居里夫人身上遍布各种伤疤。更为严重的是，骨髓由于射线的长期聚集而退化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0120" y="10666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93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日，充满了艰辛与荣誉的居里夫人最终因恶性贫血症去世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居里夫妇证实了镭元素的存在，使全世界都开始关注放射性现象。镭的发现在科学界爆发了一次真正的革命。过后不久，人们又发现镭在医学方面的价值，给癌症患者带来了福音，这使本来非常昂贵的镭，变得更加珍贵。有人劝说：“您如果去申请专利，定会成为百万富翁！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不，镭是一种元素，它应属于全世界！”居里夫妇毫不犹豫的回答。居里夫妇信奉“科学无国界”，可以说，这是他们献身科学的信仰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这位伟大的女性，一生中共获过两次诺贝尔奖，是巴黎大学第一位女教授，法国科学院第一位女院士，同时还被其他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国家聘为科学院院士。她共接受过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国家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次奖金和奖章，担任了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国家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0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个荣誉职位。她的精神永远激励着后人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思考课后习题，体会居里夫人的人格美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坚忍不拔，有信心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因为求学时虽然很孤独，她和她丈夫却能有时间、有精力在一起从事科学研究，并最终发现了镭。说明了她对科学的渴求，对科学研究的热忱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宁静的工作环境，简单的家庭生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因为她曾经生活在被占领的波兰，缺少自由，没有宁静的科研环境和氛围；而科学是无国界的，科学研究需要和平的环境，自由的精神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因为只有有了小孩子般的沉迷和好奇，才能对科学产生兴趣，才能沉醉其中，有探求的欲望，才有可能产生新的科研成果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成功的原因：有毅力，有信心，有足够的兴趣，不为名利所诱惑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6:15:59Z</dcterms:created>
  <dc:creator>wutao</dc:creator>
  <dc:description/>
  <dc:language>en-US</dc:language>
  <cp:lastModifiedBy>User</cp:lastModifiedBy>
  <dcterms:modified xsi:type="dcterms:W3CDTF">2003-12-13T01:52:03Z</dcterms:modified>
  <cp:revision>100</cp:revision>
  <dc:subject/>
  <dc:title>PowerPoint 演示文稿</dc:title>
</cp:coreProperties>
</file>