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9.gif" ContentType="image/gif"/>
  <Override PartName="/ppt/media/image8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6.gif" ContentType="image/gif"/>
  <Override PartName="/ppt/media/image11.gif" ContentType="image/gif"/>
  <Override PartName="/ppt/media/image10.jpeg" ContentType="image/jpeg"/>
  <Override PartName="/ppt/media/image5.png" ContentType="image/png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4CB9-8B6F-442C-8469-6BD0BC0B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7500-1B4E-4804-8462-23B9C1A7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E76-4256-44F6-9006-740EA3C2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4C4-3C48-4D83-87EE-852E8771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DEE-4B26-44AD-9719-7811D695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568-5708-446F-9A6D-06849EB5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A3D-3076-411F-AF8A-ABE39F62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1A39-7A2C-4B9E-991D-E514E714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5D35-CA57-445F-8618-404ED262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03B-972B-4D9A-82D9-50CCF5EF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421-DD01-4F1D-897B-B6DDADA0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EA2-50F1-4DF2-988D-15E7D9C1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6569-2A4E-45AD-A5BA-A716AD803D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.gi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629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19720" y="16002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这位伟大的女性，一生中共获过两次诺贝尔奖，是巴黎大学第一位女教授，法国科学院第一位女院士，同时还被其他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个国家聘为科学院院士。她共接受过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个国家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次奖金和奖章，担任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个国家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0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个荣誉职位。她的精神永远激励着后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23680" y="4572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了解的居里夫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5335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居里夫人所说的“讲究现实”与“梦想家”是什么意思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lp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523880" cy="1469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3520" y="205740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讲究现实”是通过工作取得物质利益。“梦想家”是为研究而研究，为工作而工作，为理想而研究而工作，完全不存在物质利益的观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梦想家”的最基本物特征是献身事业，全身心地投入事业，事业就是一切，根本不考虑物质利益。从放弃专利可看出居里夫人就是这处“梦想家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lp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676520" cy="1390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“我一直沉醉于世界的优美之中，我所热爱的科学也不断增加它崭新的远景”中“不断增加它崭新的远景”是什么意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2004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此句中的“世界的优美”指的是物质运动规律以及物质内部结构，科学越是发展，世界越是展现它的优美，所以说不断增加它崭新的前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house2" descr=""/>
          <p:cNvPicPr/>
          <p:nvPr/>
        </p:nvPicPr>
        <p:blipFill>
          <a:blip r:embed="rId2"/>
          <a:stretch/>
        </p:blipFill>
        <p:spPr>
          <a:xfrm>
            <a:off x="6629400" y="49338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59461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28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为什么作者说，科学家也应当是“一个小孩儿”？这反映了作者怎样的心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9051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因科学本身具有伟大的美，魅力无穷，如同神话般，在这美妙的科学世界面前，科学家就好像沉醉于神话故事的小孩儿一样，反映作者在科学研究中如痴如醉的心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book11" descr=""/>
          <p:cNvPicPr/>
          <p:nvPr/>
        </p:nvPicPr>
        <p:blipFill>
          <a:blip r:embed="rId1"/>
          <a:stretch/>
        </p:blipFill>
        <p:spPr>
          <a:xfrm>
            <a:off x="2743200" y="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z1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90720" y="2666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文章的语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质朴、真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，表现了居里夫人作为一位科学家的性格特点和人格力量，能给我们以深刻的启迪和思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905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前几篇比，你觉得本文在写作上有什么特色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4876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前几篇比，你觉得本文在写作上有什么不足？可作哪些改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z1" descr=""/>
          <p:cNvPicPr/>
          <p:nvPr/>
        </p:nvPicPr>
        <p:blipFill>
          <a:blip r:embed="rId3"/>
          <a:stretch/>
        </p:blipFill>
        <p:spPr>
          <a:xfrm>
            <a:off x="228600" y="5029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04920" y="533520"/>
            <a:ext cx="2286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1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、挑战名人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2760" y="782640"/>
            <a:ext cx="8626320" cy="55803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0666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、给生字注音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981080"/>
            <a:ext cx="1218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渲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闲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1905120"/>
            <a:ext cx="1524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奢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呵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1905120"/>
            <a:ext cx="2210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蹂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猝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7480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981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xu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sh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16002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róu  lì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2895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xi</a:t>
            </a:r>
            <a:r>
              <a:rPr b="0" lang="en-US" sz="3600" spc="-1" strike="noStrike">
                <a:solidFill>
                  <a:srgbClr val="ff33cc"/>
                </a:solidFill>
                <a:latin typeface="zypyyb"/>
                <a:ea typeface="zypyyb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2819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h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67480" y="2819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sx6" descr=""/>
          <p:cNvPicPr/>
          <p:nvPr/>
        </p:nvPicPr>
        <p:blipFill>
          <a:blip r:embed="rId2"/>
          <a:stretch/>
        </p:blipFill>
        <p:spPr>
          <a:xfrm>
            <a:off x="0" y="0"/>
            <a:ext cx="1589040" cy="1523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905120" y="304920"/>
            <a:ext cx="27432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识记字词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762120"/>
            <a:ext cx="78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执：坚持己见，不肯改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鞭策：用鞭和策赶马，喻督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盛名：很大的名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报酬：由于使用别人的劳动、物件等而会给别人的钱或实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奢望：过高的希望。呵责：呵斥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心无愧 ：扪心自问，毫无惭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蹂躏：踩踏；践踏辗压。引申为侵扰、侵略。欺凌、糟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沉醉：比喻深深地迷恋某种事物或沉浸在某种境界当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迷醉：迷恋，陶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猝然长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28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三、解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8686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用下列句式造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无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任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心无愧地说：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执著地、勤奋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自己的努力集中在一个目标上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力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受了一言半语的呵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我获益匪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沉醉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为理所当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所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是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人类需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人，他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但是，人类也需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家，他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我的惟一奢望是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以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身份从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1371600"/>
            <a:ext cx="754380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钋”与“波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1897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月，居里夫妇历经千辛万苦，终于从含铋的矿物中发现了新的放射性元素，它的化学性质与铋相似，但放射性比纯铀强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400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倍，居里夫人惊喜欲狂，叫道“钋，钋！”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原来在实验之前，居里夫妇就在商议新元素的名称时，玛丽说道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:“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假如存在新元素的话，我想叫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纪念我的祖国波兰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!”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皮埃尔深知玛丽眷恋着自己的祖国，要用新元素的名称来争得祖国的荣誉和人民的光荣。居里赞同地说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钋，波兰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!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波兰，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这样，被居里夫妇命名为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的新元素便问世了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2860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课外拓展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457200"/>
            <a:ext cx="75438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935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年，伟大的科学家玛丽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居里夫人离开了这个世界。爱因斯坦在追悼会上发表了著名的演讲，他没有崇扬居里夫人在科学上的光辉业迹。按理，居里夫人开创了放射化学，发现了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种新的元素，深入研究了放射性元素镭的性质，她的科学成就是应该认真介绍的。但是，爱因斯坦谈的却是她伟大的精神。他指出，居里夫人在放身性研究和元素镭的研究中的巨大成就的取得，“不仅是靠着大胆的直觉，而且也是靠着难以想象的极端困难情况下工作的热忱和顽强。”他还深刻指出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“居里夫人的人格力量和为科学而献身的精神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哪怕只要有一小部分还存在于欧洲知识分子中间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欧洲就会面临一个比较光明的未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爱因斯坦的演讲含义深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457200"/>
            <a:ext cx="7696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射线的发现引起了居里夫人的极大兴趣，她决心对此进行深入的研究。经过多次请求，她才得以使用一间潮湿的小屋作理化试验。虽然室温只有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度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，但她完全投入到研究中去了。他们从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1898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一直工作到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1902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，经过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几万次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的提炼，处理了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几十吨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矿石残渣，终于得到了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0.1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克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的镭盐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测定出了它的原子量是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225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镭宣告诞生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228600"/>
            <a:ext cx="8610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我幸运地同居里夫人有二十年崇高而真挚的友谊。我对她的人格的伟大愈来愈感到钦佩。她的坚强，她的意志的纯洁，她的律己之严，她的客观，她的公正不阿的判断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所有这一切都难得地集中在一个人的身上。她在任何时候都意识到自己是社会的公仆，她的极端的谦虚永远不给自满留下任何余地。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她一生中最伟大的科学功绩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--—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证明放射性元素存在并把它们分离出来—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所以能取得，不仅是靠大胆的直觉，而且也靠着在难以想像的极端困难情况下对工作的热忱和顽强，这样的困难，在实验科学的历史中是罕见的。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居里夫人的品德力量和热忱，哪怕只要有一小部分存在于欧洲的知识分子中间，欧洲就会面临一个比较光明的未来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爱因斯坦于《悼念玛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居里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094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68580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丈夫皮埃尔去世以后，居里夫人开始一人担负起抚养孩子的重担。当时她经济上拮据，还得补贴一部分给科研。有人建议她卖掉与皮埃尔在实验室里分离出的那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分克镭，这在当时价值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万法郎。居里夫人则认为，不管今后的生活如何困难，决不能卖掉科研成果。她让女儿从小养成勤俭朴素、不贪图荣华富贵的思想。居里夫人毅然将镭献给了实验室，把它用于研究工作。后来她带着两个女儿赴美国接受总统赠送给她的一克镭时，也同样告诫女儿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：“镭必须属于科学，不属于个人。”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274680"/>
            <a:ext cx="807732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荣誉就像玩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一天，有位女士来居里夫人家作客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她看见居里夫人的小女儿在玩一枚奖章。她仔细一瞧，发现是英国皇家学会发给居里夫人的金质奖章，感到十分惊讶，便不解地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玛丽，能获取这枚奖章，是件不容易的事情。这是极高的荣誉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您怎能给小孩子当玩具玩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”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居里夫人淡淡一笑，平静地对女友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想让孩子们从小明白一个道理。”</a:t>
            </a:r>
            <a:br>
              <a:rPr sz="28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“什么道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女友急切地问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“正确对待荣誉。在我看来，所有荣誉就像玩具一般，仅仅玩玩而已。孩子不能守着这种荣誉生活，不然，她将一事无成。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女友不禁赞同地点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1430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mcurie-port" descr="mcurie-port.jpg (15561 bytes)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001520" y="380880"/>
            <a:ext cx="3106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的信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5560" y="4267080"/>
            <a:ext cx="850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居里夫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45720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学习目标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981080"/>
            <a:ext cx="7391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思想上：</a:t>
            </a:r>
            <a:r>
              <a:rPr b="1" lang="zh-CN" sz="3200" spc="-1" strike="noStrike">
                <a:solidFill>
                  <a:srgbClr val="ff3300"/>
                </a:solidFill>
                <a:latin typeface="Book Antiqua"/>
              </a:rPr>
              <a:t>了解居里夫人的人格美以及她取得的巨大成就与其性格的联系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Book Antiqu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能力上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学会理解和概括文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90920" y="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探索人格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p2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400" y="9144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概括要点：抓关键词，并在每段旁批注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523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段：坚忍不拔、信心、决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1337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段：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666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段：渴求真理、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200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段：安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7339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段：不图利益、时间、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267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段：克制、安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8769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段：科学之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科学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457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是探求真理，而不是“谋求物质上的利益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分析归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18288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科学工作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2767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科学工作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10666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沉醉于科学之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32040" y="1523880"/>
            <a:ext cx="54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自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宁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36840" y="299232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坚忍不拔、信心、决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勤奋努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685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宗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1752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320040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精神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6858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、自由谈启发，联系自己的生活实际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666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book9" descr=""/>
          <p:cNvPicPr/>
          <p:nvPr/>
        </p:nvPicPr>
        <p:blipFill>
          <a:blip r:embed="rId1"/>
          <a:stretch/>
        </p:blipFill>
        <p:spPr>
          <a:xfrm>
            <a:off x="5791320" y="5029200"/>
            <a:ext cx="2876400" cy="1527120"/>
          </a:xfrm>
          <a:prstGeom prst="rect">
            <a:avLst/>
          </a:prstGeom>
          <a:ln w="0">
            <a:noFill/>
          </a:ln>
        </p:spPr>
      </p:pic>
      <p:pic>
        <p:nvPicPr>
          <p:cNvPr id="78" name="lp2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23880" cy="146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33720" y="327672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理解性问题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自选另组的同学挑战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99072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质疑探究，理解重点语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4920" y="2286000"/>
            <a:ext cx="2286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1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、挑战同学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3049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“我之所以如此，或许是因为有某种力量在鞭策着我——正如蚕被鞭策着去结茧一般。”某种力量指什么力量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03480" y="2057400"/>
            <a:ext cx="6797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的决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真理的渴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科学事业的使命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学魅力的吸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book9" descr=""/>
          <p:cNvPicPr/>
          <p:nvPr/>
        </p:nvPicPr>
        <p:blipFill>
          <a:blip r:embed="rId1"/>
          <a:stretch/>
        </p:blipFill>
        <p:spPr>
          <a:xfrm>
            <a:off x="5791320" y="5029200"/>
            <a:ext cx="28764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lp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676520" cy="1390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45720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为什么“孤独地过着求学的岁月”却成了“美好快乐的记忆” 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9718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远离欢乐喧闹的人群，潜心学业，静心读书，大有收获，回忆起来觉得没有虚度年华，所以这样的大学生活是美好快乐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1:57:51Z</dcterms:created>
  <dc:creator>wutao</dc:creator>
  <dc:description/>
  <dc:language>en-US</dc:language>
  <cp:lastModifiedBy>周璟</cp:lastModifiedBy>
  <dcterms:modified xsi:type="dcterms:W3CDTF">2004-10-27T03:12:39Z</dcterms:modified>
  <cp:revision>100</cp:revision>
  <dc:subject/>
  <dc:title>PowerPoint 演示文稿</dc:title>
</cp:coreProperties>
</file>