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C387-4E71-4888-A9AA-91AA22458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D58B-02DA-4926-A7AA-21894F520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11A4-7E66-46A9-943A-D6708B1A2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2C67-4466-43C1-91D6-3B4D7954C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16B7-67B5-4CD3-BF8F-8CF590E20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8959-DA97-45A9-BFE6-064344975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79BB-08E8-4028-BC0F-12F9C372E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C6CD-1E8D-411E-92F4-2C0BDC455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2547-5B8E-4001-9569-571D2F984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90C6-7650-4E75-BE39-FEEF03A52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D49A-9293-46D5-BAD5-E89D3F77C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F6F5-ED56-4194-AFE3-A5A97B1CE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A20E1-2C80-4493-ADE7-FCBB11E6797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7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image" Target="../media/image6.jpeg"/><Relationship Id="rId8" Type="http://schemas.openxmlformats.org/officeDocument/2006/relationships/image" Target="../media/image6.jpeg"/><Relationship Id="rId9" Type="http://schemas.openxmlformats.org/officeDocument/2006/relationships/image" Target="../media/image6.jpe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" Target="slide5.xml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590920" y="2743200"/>
            <a:ext cx="41148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latin typeface="黑体"/>
              </a:rPr>
              <a:t>居里夫人</a:t>
            </a:r>
            <a:endParaRPr b="1" lang="en-US" sz="5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latin typeface="黑体"/>
              <a:ea typeface="黑体"/>
            </a:endParaRPr>
          </a:p>
        </p:txBody>
      </p:sp>
      <p:pic>
        <p:nvPicPr>
          <p:cNvPr id="42" name="maire%20curie" descr=""/>
          <p:cNvPicPr/>
          <p:nvPr/>
        </p:nvPicPr>
        <p:blipFill>
          <a:blip r:embed="rId3"/>
          <a:stretch/>
        </p:blipFill>
        <p:spPr>
          <a:xfrm>
            <a:off x="3429000" y="533520"/>
            <a:ext cx="2035080" cy="20793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143000" y="44956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居里夫人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Marie Curi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867-1934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法国籍波兰科学家，研究放射性现象，发现镭和钋两种放射性元素，一生两度获诺贝尔奖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1066680" y="762120"/>
            <a:ext cx="18432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奢望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819520" y="2057400"/>
            <a:ext cx="4876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宋体"/>
              </a:rPr>
              <a:t>过高的希望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2" name=""/>
          <p:cNvSpPr/>
          <p:nvPr/>
        </p:nvSpPr>
        <p:spPr>
          <a:xfrm>
            <a:off x="2195640" y="320040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8080"/>
                </a:solidFill>
                <a:latin typeface="Times New Roman"/>
              </a:rPr>
              <a:t>小时候，她的祖国波兰被沙俄侵占，她就非常痛恨侵略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3886200"/>
            <a:ext cx="82296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宋体"/>
              </a:rPr>
              <a:t>当时情况，远离政治的科学研究多么困难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4" name=""/>
          <p:cNvSpPr/>
          <p:nvPr/>
        </p:nvSpPr>
        <p:spPr>
          <a:xfrm>
            <a:off x="762120" y="5562720"/>
            <a:ext cx="457200" cy="609480"/>
          </a:xfrm>
          <a:custGeom>
            <a:avLst/>
            <a:gdLst>
              <a:gd name="textAreaLeft" fmla="*/ 61200 w 457200"/>
              <a:gd name="textAreaRight" fmla="*/ 396000 w 457200"/>
              <a:gd name="textAreaTop" fmla="*/ 106560 h 609480"/>
              <a:gd name="textAreaBottom" fmla="*/ 44208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 rot="5400000">
            <a:off x="5650200" y="2426400"/>
            <a:ext cx="3200400" cy="1700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隶书"/>
              </a:rPr>
              <a:t>逆来顺受</a:t>
            </a: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914400" y="1295280"/>
            <a:ext cx="548640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solidFill>
                  <a:srgbClr val="ff3399"/>
                </a:solidFill>
                <a:latin typeface="宋体"/>
              </a:rPr>
              <a:t>敏感——即使受了一言半语</a:t>
            </a:r>
            <a:endParaRPr b="0" lang="en-US" sz="2400" spc="1" strike="noStrike">
              <a:ln w="0">
                <a:noFill/>
              </a:ln>
              <a:solidFill>
                <a:srgbClr val="ff3399"/>
              </a:solidFill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solidFill>
                  <a:srgbClr val="ff3399"/>
                </a:solidFill>
                <a:latin typeface="宋体"/>
              </a:rPr>
              <a:t>的呵责，也会过分懊恼。</a:t>
            </a:r>
            <a:endParaRPr b="0" lang="en-US" sz="2400" spc="1" strike="noStrike">
              <a:ln w="0">
                <a:noFill/>
              </a:ln>
              <a:solidFill>
                <a:srgbClr val="ff3399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Times New Roman"/>
              </a:rPr>
              <a:t>格言赏析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方正姚体"/>
                <a:ea typeface="方正姚体"/>
              </a:rPr>
              <a:t>◆</a:t>
            </a:r>
            <a:r>
              <a:rPr b="0" lang="zh-CN" sz="3200" spc="-1" strike="noStrike">
                <a:solidFill>
                  <a:srgbClr val="ffff66"/>
                </a:solidFill>
                <a:latin typeface="方正姚体"/>
                <a:ea typeface="方正姚体"/>
              </a:rPr>
              <a:t>生活对于任何人都非易事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方正姚体"/>
                <a:ea typeface="方正姚体"/>
              </a:rPr>
              <a:t>◆</a:t>
            </a:r>
            <a:r>
              <a:rPr b="0" lang="zh-CN" sz="3200" spc="-1" strike="noStrike">
                <a:solidFill>
                  <a:srgbClr val="ffff66"/>
                </a:solidFill>
                <a:latin typeface="方正姚体"/>
                <a:ea typeface="方正姚体"/>
              </a:rPr>
              <a:t>人类需要讲究现实的人……但是，人类也需要梦想家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方正姚体"/>
                <a:ea typeface="方正姚体"/>
              </a:rPr>
              <a:t>◆</a:t>
            </a:r>
            <a:r>
              <a:rPr b="0" lang="zh-CN" sz="3200" spc="-1" strike="noStrike">
                <a:solidFill>
                  <a:srgbClr val="ffff66"/>
                </a:solidFill>
                <a:latin typeface="方正姚体"/>
                <a:ea typeface="方正姚体"/>
              </a:rPr>
              <a:t>科学本身就具有伟大的美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方正姚体"/>
                <a:ea typeface="方正姚体"/>
              </a:rPr>
              <a:t>◆</a:t>
            </a:r>
            <a:r>
              <a:rPr b="0" lang="zh-CN" sz="3200" spc="-1" strike="noStrike">
                <a:solidFill>
                  <a:srgbClr val="ffff66"/>
                </a:solidFill>
                <a:latin typeface="方正姚体"/>
                <a:ea typeface="方正姚体"/>
              </a:rPr>
              <a:t>一位从事研究工作的科学家，不仅是一个技术人员，而且是一个小孩儿。</a:t>
            </a:r>
            <a:r>
              <a:rPr b="0" lang="zh-CN" sz="32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533520" y="304920"/>
            <a:ext cx="79246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Times New Roman"/>
              </a:rPr>
              <a:t>作业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Times New Roman"/>
              </a:rPr>
              <a:t>①</a:t>
            </a:r>
            <a:r>
              <a:rPr b="1" lang="zh-CN" sz="3200" spc="-1" strike="noStrike">
                <a:solidFill>
                  <a:srgbClr val="ffff66"/>
                </a:solidFill>
                <a:latin typeface="Times New Roman"/>
              </a:rPr>
              <a:t>完成“研讨与练习”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Times New Roman"/>
              </a:rPr>
              <a:t>②</a:t>
            </a:r>
            <a:r>
              <a:rPr b="1" lang="zh-CN" sz="3200" spc="-1" strike="noStrike">
                <a:solidFill>
                  <a:srgbClr val="ffff66"/>
                </a:solidFill>
                <a:latin typeface="Times New Roman"/>
              </a:rPr>
              <a:t>居里夫人放弃了镭的专利，却两次成为诺贝尔奖金的获得者。对此，你怎么看？写成</a:t>
            </a:r>
            <a:r>
              <a:rPr b="1" lang="zh-CN" sz="3200" spc="-1" strike="noStrike">
                <a:solidFill>
                  <a:srgbClr val="ffff66"/>
                </a:solidFill>
                <a:latin typeface="Times New Roman"/>
              </a:rPr>
              <a:t>300</a:t>
            </a:r>
            <a:r>
              <a:rPr b="1" lang="zh-CN" sz="3200" spc="-1" strike="noStrike">
                <a:solidFill>
                  <a:srgbClr val="ffff66"/>
                </a:solidFill>
                <a:latin typeface="Times New Roman"/>
              </a:rPr>
              <a:t>字的小文章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默读，搜集、筛选信息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4114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居里夫人的行为特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359000" y="26668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坚忍不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87800" y="26668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树立信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016600" y="26668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执著勤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769440" y="26668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集中目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435320" y="33526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献身科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187800" y="33526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探讨真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16600" y="33526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生活简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769440" y="33526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重大发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35320" y="41148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保持安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187800" y="41148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不图财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016600" y="41148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珍惜时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769440" y="41148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追求自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435320" y="48006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克制自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187800" y="48006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热爱生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016600" y="48006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沉醉科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33"/>
                </a:solidFill>
                <a:latin typeface="Times New Roman"/>
              </a:rPr>
              <a:t>概括纲要，归纳整理</a:t>
            </a:r>
            <a:r>
              <a:rPr b="0" lang="zh-CN" sz="4400" spc="-1" strike="noStrike">
                <a:solidFill>
                  <a:srgbClr val="660033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990720" y="2743200"/>
          <a:ext cx="7467480" cy="716040"/>
        </p:xfrm>
        <a:graphic>
          <a:graphicData uri="http://schemas.openxmlformats.org/drawingml/2006/table">
            <a:tbl>
              <a:tblPr/>
              <a:tblGrid>
                <a:gridCol w="2489040"/>
                <a:gridCol w="2489400"/>
                <a:gridCol w="2489040"/>
              </a:tblGrid>
              <a:tr h="716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3399"/>
                          </a:solidFill>
                          <a:latin typeface="Times New Roman"/>
                        </a:rPr>
                        <a:t>思想理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3399"/>
                          </a:solidFill>
                          <a:latin typeface="Times New Roman"/>
                        </a:rPr>
                        <a:t>环境需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3399"/>
                          </a:solidFill>
                          <a:latin typeface="Times New Roman"/>
                        </a:rPr>
                        <a:t>工作态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" name=""/>
          <p:cNvSpPr/>
          <p:nvPr/>
        </p:nvSpPr>
        <p:spPr>
          <a:xfrm>
            <a:off x="1371600" y="1295280"/>
            <a:ext cx="670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坚韧不拔 树立信心 执著勤奋 集中目标 献身科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探讨真理 保持安宁 不图财富 珍惜时间 追求自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2743200" y="2133720"/>
            <a:ext cx="4210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ff0066"/>
                  </a:solidFill>
                  <a:miter/>
                </a:ln>
                <a:solidFill>
                  <a:srgbClr val="ff3399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居里夫人的人格魅力</a:t>
            </a:r>
            <a:endParaRPr b="1" lang="en-US" sz="2400" spc="1" strike="noStrike">
              <a:ln w="12600">
                <a:solidFill>
                  <a:srgbClr val="ff0066"/>
                </a:solidFill>
                <a:miter/>
              </a:ln>
              <a:solidFill>
                <a:srgbClr val="ff3399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990720" y="3429000"/>
          <a:ext cx="7467480" cy="2865600"/>
        </p:xfrm>
        <a:graphic>
          <a:graphicData uri="http://schemas.openxmlformats.org/drawingml/2006/table">
            <a:tbl>
              <a:tblPr/>
              <a:tblGrid>
                <a:gridCol w="2489040"/>
                <a:gridCol w="2489040"/>
                <a:gridCol w="2489400"/>
              </a:tblGrid>
              <a:tr h="717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探讨真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保持安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集中目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不图财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追求自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树立信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沉醉科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珍惜时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坚韧不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6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执著勤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66"/>
                </a:solidFill>
                <a:latin typeface="Times New Roman"/>
              </a:rPr>
              <a:t>重点研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520" y="2666880"/>
            <a:ext cx="58672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某种力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对事业而不是对财富的兴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纯粹研究的观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讲究现实的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梦想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奢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逆来顺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一个小孩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这种权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479480" y="1676520"/>
            <a:ext cx="61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重点研读有关词语、句子、语段，品味平实而富于哲理的语言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84080" y="220968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发现问题、解决问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380880" y="2819520"/>
            <a:ext cx="228600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传记作品：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380880" y="4038480"/>
            <a:ext cx="228600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朴素而平实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66"/>
                </a:solidFill>
                <a:latin typeface="Times New Roman"/>
              </a:rPr>
              <a:t>重点研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819520" y="2666880"/>
            <a:ext cx="58672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某种力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对事业而不是对财富的兴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纯粹研究的观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讲究现实的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梦想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奢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逆来顺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一个小孩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这种权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79480" y="1676520"/>
            <a:ext cx="61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重点研读有关词语、句子、语段，品味平实而富于哲理的语言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84080" y="220968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发现问题、解决问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80880" y="2819520"/>
            <a:ext cx="228600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传记作品：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80880" y="4038480"/>
            <a:ext cx="228600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朴素而平实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5181120" y="609480"/>
            <a:ext cx="11811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marL="343080" indent="-343080">
              <a:spcBef>
                <a:spcPts val="799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99"/>
                </a:solidFill>
                <a:latin typeface="Times New Roman"/>
                <a:ea typeface="仿宋_GB2312"/>
              </a:rPr>
              <a:t>无论付出任何代价，都要把这件事完成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 txBox="1"/>
          <p:nvPr/>
        </p:nvSpPr>
        <p:spPr>
          <a:xfrm rot="5400000">
            <a:off x="5629680" y="2523600"/>
            <a:ext cx="3598920" cy="14475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宋体"/>
              </a:rPr>
              <a:t>神秘的力量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0" name=""/>
          <p:cNvSpPr txBox="1"/>
          <p:nvPr/>
        </p:nvSpPr>
        <p:spPr>
          <a:xfrm rot="5400000">
            <a:off x="4295520" y="4390920"/>
            <a:ext cx="2428920" cy="504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c4b596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/>
                  </a:outerShdw>
                </a:effectLst>
                <a:latin typeface="宋体"/>
              </a:rPr>
              <a:t>完成的决心</a:t>
            </a:r>
            <a:endParaRPr b="1" lang="en-US" sz="40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685800"/>
            <a:ext cx="118116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marL="343080" indent="-343080">
              <a:spcBef>
                <a:spcPts val="799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99"/>
                </a:solidFill>
                <a:latin typeface="Times New Roman"/>
                <a:ea typeface="仿宋_GB2312"/>
              </a:rPr>
              <a:t>研究，就是对真理的探讨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 rot="5400000">
            <a:off x="2885760" y="4276800"/>
            <a:ext cx="2657520" cy="504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c4b596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/>
                  </a:outerShdw>
                </a:effectLst>
                <a:latin typeface="宋体"/>
              </a:rPr>
              <a:t>对真理的渴求</a:t>
            </a:r>
            <a:endParaRPr b="1" lang="en-US" sz="40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3" name=""/>
          <p:cNvSpPr/>
          <p:nvPr/>
        </p:nvSpPr>
        <p:spPr>
          <a:xfrm>
            <a:off x="2286000" y="685800"/>
            <a:ext cx="163836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marL="343080" indent="-343080">
              <a:spcBef>
                <a:spcPts val="799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99"/>
                </a:solidFill>
                <a:latin typeface="Times New Roman"/>
                <a:ea typeface="仿宋_GB2312"/>
              </a:rPr>
              <a:t>这种魅力，就是使我能够终生在实验室里埋头工作的主要原因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 txBox="1"/>
          <p:nvPr/>
        </p:nvSpPr>
        <p:spPr>
          <a:xfrm rot="5400000">
            <a:off x="885600" y="4066920"/>
            <a:ext cx="3305160" cy="504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c4b596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/>
                  </a:outerShdw>
                </a:effectLst>
                <a:latin typeface="宋体"/>
              </a:rPr>
              <a:t>科学魅力的吸引</a:t>
            </a:r>
            <a:endParaRPr b="1" lang="en-US" sz="40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5" name=""/>
          <p:cNvSpPr/>
          <p:nvPr/>
        </p:nvSpPr>
        <p:spPr>
          <a:xfrm>
            <a:off x="1066680" y="685800"/>
            <a:ext cx="118116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marL="343080" indent="-343080">
              <a:spcBef>
                <a:spcPts val="799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99"/>
                </a:solidFill>
                <a:latin typeface="Times New Roman"/>
                <a:ea typeface="仿宋_GB2312"/>
              </a:rPr>
              <a:t>人类需要梦想家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 txBox="1"/>
          <p:nvPr/>
        </p:nvSpPr>
        <p:spPr>
          <a:xfrm rot="5400000">
            <a:off x="85320" y="4334040"/>
            <a:ext cx="2619360" cy="504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c4b596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/>
                  </a:outerShdw>
                </a:effectLst>
                <a:latin typeface="宋体"/>
              </a:rPr>
              <a:t>崇高的使命感</a:t>
            </a:r>
            <a:endParaRPr b="1" lang="en-US" sz="40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7" name="">
            <a:hlinkClick r:id="" action="ppaction://hlinkshowjump?jump=previousslide"/>
          </p:cNvPr>
          <p:cNvSpPr/>
          <p:nvPr/>
        </p:nvSpPr>
        <p:spPr>
          <a:xfrm>
            <a:off x="533520" y="5715000"/>
            <a:ext cx="457200" cy="604800"/>
          </a:xfrm>
          <a:custGeom>
            <a:avLst/>
            <a:gdLst>
              <a:gd name="textAreaLeft" fmla="*/ 61200 w 457200"/>
              <a:gd name="textAreaRight" fmla="*/ 396000 w 457200"/>
              <a:gd name="textAreaTop" fmla="*/ 105840 h 604800"/>
              <a:gd name="textAreaBottom" fmla="*/ 438480 h 604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19320" y="205704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99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cc99"/>
                </a:solidFill>
                <a:latin typeface="Times New Roman"/>
              </a:rPr>
              <a:t>在科学方面我们有对事业而不是对财富的兴趣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447920" y="3886200"/>
            <a:ext cx="624816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表现了居里夫妇献身科学事业，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不追求财富的高尚思想。</a:t>
            </a:r>
            <a:endParaRPr b="0" lang="en-US" sz="24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0" name="">
            <a:hlinkClick r:id="rId6" action="ppaction://hlinksldjump"/>
          </p:cNvPr>
          <p:cNvSpPr/>
          <p:nvPr/>
        </p:nvSpPr>
        <p:spPr>
          <a:xfrm>
            <a:off x="380880" y="5867280"/>
            <a:ext cx="533520" cy="609840"/>
          </a:xfrm>
          <a:custGeom>
            <a:avLst/>
            <a:gdLst>
              <a:gd name="textAreaLeft" fmla="*/ 71280 w 533520"/>
              <a:gd name="textAreaRight" fmla="*/ 462240 w 533520"/>
              <a:gd name="textAreaTop" fmla="*/ 106560 h 609840"/>
              <a:gd name="textAreaBottom" fmla="*/ 44208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2133720" y="1143000"/>
            <a:ext cx="4771800" cy="101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ff0066"/>
                  </a:solidFill>
                  <a:miter/>
                </a:ln>
                <a:solidFill>
                  <a:srgbClr val="ccff99"/>
                </a:solidFill>
                <a:effectLst>
                  <a:outerShdw dist="153753" dir="2700000" blurRad="0" rotWithShape="0">
                    <a:srgbClr val="c7dfd3"/>
                  </a:outerShdw>
                </a:effectLst>
                <a:latin typeface="宋体"/>
              </a:rPr>
              <a:t>纯粹研究的观念</a:t>
            </a:r>
            <a:endParaRPr b="1" lang="en-US" sz="4000" spc="1" strike="noStrike">
              <a:ln w="9360">
                <a:solidFill>
                  <a:srgbClr val="ff0066"/>
                </a:solidFill>
                <a:miter/>
              </a:ln>
              <a:solidFill>
                <a:srgbClr val="ccff99"/>
              </a:solidFill>
              <a:effectLst>
                <a:outerShdw dist="153753" dir="2700000" blurRad="0" rotWithShape="0">
                  <a:srgbClr val="c7dfd3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066680" y="3352680"/>
            <a:ext cx="7239240" cy="160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ccff99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居里夫人从事科学研究只对事业有兴趣，</a:t>
            </a:r>
            <a:endParaRPr b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ccff99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ccff99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不为财富、名誉所动。</a:t>
            </a:r>
            <a:endParaRPr b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ccff99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3" name=""/>
          <p:cNvSpPr/>
          <p:nvPr/>
        </p:nvSpPr>
        <p:spPr>
          <a:xfrm>
            <a:off x="609480" y="5562720"/>
            <a:ext cx="533520" cy="609480"/>
          </a:xfrm>
          <a:custGeom>
            <a:avLst/>
            <a:gdLst>
              <a:gd name="textAreaLeft" fmla="*/ 71280 w 533520"/>
              <a:gd name="textAreaRight" fmla="*/ 462240 w 533520"/>
              <a:gd name="textAreaTop" fmla="*/ 106560 h 609480"/>
              <a:gd name="textAreaBottom" fmla="*/ 44208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1371600" y="533520"/>
            <a:ext cx="2743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讲究现实的人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447920" y="1523880"/>
            <a:ext cx="6076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通过工作获得许多报酬的人。</a:t>
            </a:r>
            <a:endParaRPr b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447920" y="2057400"/>
            <a:ext cx="1371600" cy="107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梦想家</a:t>
            </a:r>
            <a:endParaRPr b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762120" y="3276720"/>
            <a:ext cx="76960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受事业的吸引，既没有闲暇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也没有热情去谋求物质上的利益。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295280" y="4419720"/>
            <a:ext cx="65534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居里夫人发现了镭，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却没有申请镭的专利。</a:t>
            </a:r>
            <a:endParaRPr b="0" lang="en-US" sz="24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9" name=""/>
          <p:cNvSpPr/>
          <p:nvPr/>
        </p:nvSpPr>
        <p:spPr>
          <a:xfrm>
            <a:off x="609480" y="5715000"/>
            <a:ext cx="381240" cy="533520"/>
          </a:xfrm>
          <a:custGeom>
            <a:avLst/>
            <a:gdLst>
              <a:gd name="textAreaLeft" fmla="*/ 51120 w 381240"/>
              <a:gd name="textAreaRight" fmla="*/ 330120 w 381240"/>
              <a:gd name="textAreaTop" fmla="*/ 93240 h 533520"/>
              <a:gd name="textAreaBottom" fmla="*/ 38700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4T05:50:26Z</dcterms:created>
  <dc:creator>wutao</dc:creator>
  <dc:description/>
  <dc:language>en-US</dc:language>
  <cp:lastModifiedBy>wang</cp:lastModifiedBy>
  <dcterms:modified xsi:type="dcterms:W3CDTF">2004-01-01T02:39:14Z</dcterms:modified>
  <cp:revision>100</cp:revision>
  <dc:subject/>
  <dc:title>PowerPoint 演示文稿</dc:title>
</cp:coreProperties>
</file>