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9C2-2813-4E6C-B5A2-E989955C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B26-B593-4C4B-B754-F20A15F8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E50-9A1F-4521-96BE-64384DC1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AE1-A4E8-44B3-BEDC-D332B9EB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6EB5-82E5-4601-AA1F-3A0AA534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5B9E-C648-41CC-859E-54750064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0AA2-B0CA-46B8-9C90-3CD08D74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8AA2-98DB-426B-920E-80DEB7C5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239B-ED90-4E64-9359-0ED538D1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5017-1F74-4FEC-9F89-03EAD96D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DDB0-9C37-483A-974D-2106A30A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C91-9122-4519-9B88-9D09E5FB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C781-1393-4E78-9544-5714D43F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FE79-6804-4608-BB12-770BD480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ACF9-FD6D-4D2D-BC00-54056229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0DF6-0BF1-479C-9D60-3B39DB95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0913-419D-43B6-95E4-BFBFC435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189-38A9-417F-B43E-271CCC1C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331-8E6E-4F69-83B4-A2732A50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BC1-D786-4B64-AEA5-6BC80083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043-E66A-48EC-85F4-82AE8FDE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CB0-3D90-4C2A-9FBF-E5D0DC53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B4A-BF66-46A2-A46D-E586A0F2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819-0678-436A-BA0B-99D53C4E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6172200" y="3200400"/>
            <a:ext cx="4724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1828440" y="3276000"/>
            <a:ext cx="4724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3880" y="304920"/>
            <a:ext cx="60199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6095880"/>
            <a:ext cx="60195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4" name="1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" name="2" descr=""/>
          <p:cNvPicPr/>
          <p:nvPr/>
        </p:nvPicPr>
        <p:blipFill>
          <a:blip r:embed="rId4"/>
          <a:stretch/>
        </p:blipFill>
        <p:spPr>
          <a:xfrm>
            <a:off x="746748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" name="3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" name="4" descr=""/>
          <p:cNvPicPr/>
          <p:nvPr/>
        </p:nvPicPr>
        <p:blipFill>
          <a:blip r:embed="rId6"/>
          <a:stretch/>
        </p:blipFill>
        <p:spPr>
          <a:xfrm>
            <a:off x="2286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dt" idx="2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D76F-20BC-4C12-9B25-0C9A03997ABB}" type="slidenum"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6172200" y="3200400"/>
            <a:ext cx="4724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1828440" y="3276000"/>
            <a:ext cx="4724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04920"/>
            <a:ext cx="60199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6095880"/>
            <a:ext cx="60195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ftr" idx="4"/>
          </p:nvPr>
        </p:nvSpPr>
        <p:spPr>
          <a:xfrm>
            <a:off x="30477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2" descr=""/>
          <p:cNvPicPr/>
          <p:nvPr/>
        </p:nvPicPr>
        <p:blipFill>
          <a:blip r:embed="rId4"/>
          <a:stretch/>
        </p:blipFill>
        <p:spPr>
          <a:xfrm>
            <a:off x="746748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3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4" descr=""/>
          <p:cNvPicPr/>
          <p:nvPr/>
        </p:nvPicPr>
        <p:blipFill>
          <a:blip r:embed="rId6"/>
          <a:stretch/>
        </p:blipFill>
        <p:spPr>
          <a:xfrm>
            <a:off x="2286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5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6294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9DDD-E1DD-491E-B1B8-1810E826D909}" type="slidenum"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hyperlink" Target="http://www.epicbook.com/history/france.html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23621;&#37324;&#22827;&#20154;&#30340;&#24037;&#20316;&#26465;&#20214;.doc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4537080" cy="532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96000" y="184464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836640"/>
            <a:ext cx="31669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居里夫人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r>
              <a:rPr b="0" lang="en-US" sz="3600" spc="-1" strike="noStrike">
                <a:solidFill>
                  <a:srgbClr val="ffccff"/>
                </a:solidFill>
                <a:latin typeface="隶书"/>
                <a:ea typeface="隶书"/>
              </a:rPr>
              <a:t>(1867-1934)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隶书"/>
                <a:ea typeface="隶书"/>
                <a:hlinkClick r:id="rId3"/>
              </a:rPr>
              <a:t>法国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籍波兰科学家，研究放射性现象，发现镭和钋两种放射性元素，一生两度获诺贝尔奖。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cc"/>
                </a:solidFill>
                <a:uFillTx/>
                <a:latin typeface="隶书"/>
                <a:ea typeface="隶书"/>
              </a:rPr>
              <a:t>居里夫人的人格美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坚忍不拔的精神和坚定的信心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顽强的意志，不达目的不罢休的精神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淡泊名利，甘于宁静和简单，不为世俗所诱惑的品格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以自由学者的身份在自由国家进行自由学术研究的渴望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对科学研究的极度兴趣和极大热情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赏析带有哲理性的句子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隶书"/>
                <a:ea typeface="隶书"/>
              </a:rPr>
              <a:t>◆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生活对于任何人都非易事。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隶书"/>
                <a:ea typeface="隶书"/>
              </a:rPr>
              <a:t>◆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人类需要讲究现实的人</a:t>
            </a:r>
            <a:r>
              <a:rPr b="0" lang="en-US" sz="3600" spc="-1" strike="noStrike">
                <a:solidFill>
                  <a:srgbClr val="ffccff"/>
                </a:solidFill>
                <a:latin typeface="隶书"/>
                <a:ea typeface="隶书"/>
              </a:rPr>
              <a:t>……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但是，人类也需要梦想家。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隶书"/>
                <a:ea typeface="隶书"/>
              </a:rPr>
              <a:t>◆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科学本身就具有伟大的美。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隶书"/>
                <a:ea typeface="隶书"/>
              </a:rPr>
              <a:t>◆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一位从事研究工作的科学家，不仅是一个技术人员，而且是一个小孩儿。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1905120"/>
            <a:ext cx="6539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Times New Roman"/>
                <a:ea typeface="隶书"/>
              </a:rPr>
              <a:t>我的信念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8960" y="35809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隶书"/>
                <a:ea typeface="隶书"/>
              </a:rPr>
              <a:t>          </a:t>
            </a:r>
            <a:r>
              <a:rPr b="0" lang="zh-CN" sz="4800" spc="-1" strike="noStrike">
                <a:solidFill>
                  <a:srgbClr val="ffccff"/>
                </a:solidFill>
                <a:latin typeface="隶书"/>
                <a:ea typeface="隶书"/>
              </a:rPr>
              <a:t>玛丽•居里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cc"/>
                </a:solidFill>
                <a:uFillTx/>
                <a:latin typeface="Times New Roman"/>
                <a:ea typeface="隶书"/>
              </a:rPr>
              <a:t>作者简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9966"/>
                </a:solidFill>
                <a:latin typeface="宋体"/>
              </a:rPr>
              <a:t>居里夫人曾经两次获得诺贝尔奖，取得了世人瞩目的巨大成就，然而她对金钱却看得很平淡，一直过着宁静的生活，“免受人事的干扰和盛名之累”。她那淡泊名利，甘于宁静和简单，不为世俗诱惑的品格和坚忍不拔的精神构成了她的人格美。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学习重难点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99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66"/>
                </a:solidFill>
                <a:latin typeface="宋体"/>
              </a:rPr>
              <a:t>了解居里夫人的人格美以及她取得的巨大成就与其性格的联系。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66"/>
                </a:solidFill>
                <a:latin typeface="宋体"/>
              </a:rPr>
              <a:t>学习本文质朴、真诚的语言。</a:t>
            </a:r>
            <a:r>
              <a:rPr b="0" lang="zh-CN" sz="32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ffcc"/>
                </a:solidFill>
                <a:uFillTx/>
                <a:latin typeface="隶书"/>
                <a:ea typeface="隶书"/>
              </a:rPr>
              <a:t>思 考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66"/>
                </a:solidFill>
                <a:latin typeface="隶书"/>
                <a:ea typeface="隶书"/>
              </a:rPr>
              <a:t>作者认为，做事需要有怎样的精神？</a:t>
            </a: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——</a:t>
            </a: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坚忍不拔，有信心。</a:t>
            </a: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400" y="9144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66"/>
                </a:solidFill>
                <a:latin typeface="隶书"/>
                <a:ea typeface="隶书"/>
              </a:rPr>
              <a:t>本来是“孤独地过着求学的岁月”，作者却把它当成是“美好快乐的记忆”，这说明了什么？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  ——</a:t>
            </a:r>
            <a:r>
              <a:rPr b="0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因为求学时虽然很孤独，她和她的丈夫却能有时间、有精力在一起从事科学研究，并最终发现了镭。这说明了她对科学的渴求，对科学研究的热忱。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720" y="609120"/>
            <a:ext cx="7162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66"/>
                </a:solidFill>
                <a:latin typeface="隶书"/>
                <a:ea typeface="隶书"/>
              </a:rPr>
              <a:t>作者追求的是怎样的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隶书"/>
                <a:ea typeface="隶书"/>
                <a:hlinkClick r:id="rId2"/>
              </a:rPr>
              <a:t>工作和生活环境</a:t>
            </a:r>
            <a:r>
              <a:rPr b="0" lang="zh-CN" sz="4000" spc="-1" strike="noStrike">
                <a:solidFill>
                  <a:srgbClr val="ff9966"/>
                </a:solidFill>
                <a:latin typeface="隶书"/>
                <a:ea typeface="隶书"/>
              </a:rPr>
              <a:t>？</a:t>
            </a: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——</a:t>
            </a: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宁静的工作环境，简单的家庭生活。</a:t>
            </a: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9140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66"/>
                </a:solidFill>
                <a:latin typeface="隶书"/>
                <a:ea typeface="隶书"/>
              </a:rPr>
              <a:t>怎样理解“我的惟一的奢望，是在一个自由国家中，以一个自由学者的身份从事研究工作”？</a:t>
            </a: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  ——</a:t>
            </a: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因为她曾经生活在被占领的波兰，缺少自由，缺少宁静的科研环境和氛围；而科学是无国界的，科学研究需要和平的环境，自由的精神。</a:t>
            </a:r>
            <a:br>
              <a:rPr sz="4000"/>
            </a:b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66"/>
                </a:solidFill>
                <a:latin typeface="隶书"/>
                <a:ea typeface="隶书"/>
              </a:rPr>
              <a:t>“</a:t>
            </a:r>
            <a:r>
              <a:rPr b="0" lang="zh-CN" sz="3600" spc="-1" strike="noStrike">
                <a:solidFill>
                  <a:srgbClr val="ff9966"/>
                </a:solidFill>
                <a:latin typeface="隶书"/>
                <a:ea typeface="隶书"/>
              </a:rPr>
              <a:t>一位从事研究工作的科学家，不仅是一个技术人员，而且是一个小孩儿，在大自然的景色中，好像迷醉于神话故事一般。”在常人看来，科学研究应该是艰深的、枯燥的，作者却不这样看。想想这是为什么？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 ——</a:t>
            </a:r>
            <a:r>
              <a:rPr b="0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因为只有有了小孩子般的沉迷和好奇，才能对科学产生兴趣，才能沉醉其中，有探求的欲望，才有可能产生新的科研成果。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b84</cp:lastModifiedBy>
  <dcterms:modified xsi:type="dcterms:W3CDTF">2003-10-25T01:40:48Z</dcterms:modified>
  <cp:revision>100</cp:revision>
  <dc:subject/>
  <dc:title>PowerPoint Presentation</dc:title>
</cp:coreProperties>
</file>