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9B1-BF42-4801-B647-1E18B21E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26F-D527-450F-85DD-5F7F381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3AB-5247-4B14-A7A2-F3533E10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30E-C9E7-47B2-9773-C7A42A8A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CE4-D4B5-4106-8683-F11C7A3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51D-BBCB-4EB0-9B4B-B6844C9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8A0-5B8F-4C7F-AB10-546BFA37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9F7-5347-4524-B49A-E604849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7E0-AAB5-4D08-B744-7B02A41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57B-5514-4F6D-89A1-63978FD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5F3-567E-41E4-AAD4-9F311B8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13A-CF5A-4A12-9855-236431E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448-5ED0-4D29-AA16-A9B141E799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23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1371600"/>
            <a:ext cx="4876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我的信念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1600200"/>
            <a:ext cx="6095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我的生命只是一个简单而平凡的小故事。我出生于华沙的一个教师家庭，我和彼埃尔结婚并有了两个孩子。我在法国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玛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居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2960" y="270828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深信，在科学方面我们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对事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是对财富的兴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281952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我丈夫温和沉静的性格中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获益匪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当他猝然长逝以后，我便学会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281952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但是，人类也需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梦想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受事业的强烈的吸引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有闲暇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有热情去谋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物质上的利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点纽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281952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望着这些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执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勤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工作，我感到我和它们非常相似。像它们一样，我总是耐心地把自己的努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集中在一个目标上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点纽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18288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许是因为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种力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鞭策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——正如蚕被鞭策着去结茧一般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某种力量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8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60520" y="2666880"/>
            <a:ext cx="196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估量过在法国得到自由的代价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什么意思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点纽" descr=""/>
          <p:cNvPicPr/>
          <p:nvPr/>
        </p:nvPicPr>
        <p:blipFill>
          <a:blip r:embed="rId2"/>
          <a:stretch/>
        </p:blipFill>
        <p:spPr>
          <a:xfrm>
            <a:off x="7391520" y="5943600"/>
            <a:ext cx="342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55120" y="2765520"/>
            <a:ext cx="459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他猝然长逝以后，我便学会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逆来顺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否恰当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点纽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32560" y="2940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说科学家是一个小孩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点纽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419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点纽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95280" y="291132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信念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己认为可以确信的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43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xmj_195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28600" y="152280"/>
            <a:ext cx="8915400" cy="4883400"/>
            <a:chOff x="228600" y="152280"/>
            <a:chExt cx="8915400" cy="4883400"/>
          </a:xfrm>
        </p:grpSpPr>
        <p:sp>
          <p:nvSpPr>
            <p:cNvPr id="48" name=""/>
            <p:cNvSpPr/>
            <p:nvPr/>
          </p:nvSpPr>
          <p:spPr>
            <a:xfrm>
              <a:off x="3429000" y="1522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玛丽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67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3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），生于波兰。当时，波兰正处在沙俄统治下，妇女受歧视不能上大学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9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她到法国进了巴黎大学，两年内连续获得物理和数学两个硕士学位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9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她和皮埃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结婚，从此夫妻共同致力于科学研究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0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居里夫人获得博士学位。同年，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因对放射现象研究有突出贡献，居里夫妇获诺贝尔物理学奖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0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，皮埃尔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居里因车祸遇难。居里夫人忍受着巨大悲痛，仍然坚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421020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作。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1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她又分析出金属态的纯粹的镭，她还测定了氡及其他许多元素的半衰期，并在此基础上整理出放射性元素蜕变的关系。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由于发现了钋、镭并提炼出纯镭，居里夫人于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1911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黑体"/>
                  <a:ea typeface="黑体"/>
                </a:rPr>
                <a:t>年又获得诺贝尔化学奖，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为世界上第一个两次获得诺贝尔奖的人。她是巴黎大学第一位女教授，是法国科学院第一位女院士，同时还被其他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国家聘为科学院院士。她被人们誉为世界科学女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点纽" descr=""/>
          <p:cNvPicPr/>
          <p:nvPr/>
        </p:nvPicPr>
        <p:blipFill>
          <a:blip r:embed="rId2"/>
          <a:stretch/>
        </p:blipFill>
        <p:spPr>
          <a:xfrm>
            <a:off x="4457880" y="3314880"/>
            <a:ext cx="49500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685800"/>
          <a:ext cx="6096240" cy="5181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cc99"/>
                      </a:solidFill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书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1447560" cy="1520640"/>
          </a:xfrm>
          <a:prstGeom prst="rect">
            <a:avLst/>
          </a:prstGeom>
          <a:ln w="0">
            <a:noFill/>
          </a:ln>
        </p:spPr>
      </p:pic>
      <p:pic>
        <p:nvPicPr>
          <p:cNvPr id="140" name="8" descr=""/>
          <p:cNvPicPr/>
          <p:nvPr/>
        </p:nvPicPr>
        <p:blipFill>
          <a:blip r:embed="rId3"/>
          <a:stretch/>
        </p:blipFill>
        <p:spPr>
          <a:xfrm>
            <a:off x="5867280" y="449568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点纽" descr=""/>
          <p:cNvPicPr/>
          <p:nvPr/>
        </p:nvPicPr>
        <p:blipFill>
          <a:blip r:embed="rId4"/>
          <a:stretch/>
        </p:blipFill>
        <p:spPr>
          <a:xfrm>
            <a:off x="7238880" y="48769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315680" y="21574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你学了课文后还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些什么疑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信  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143000"/>
          <a:ext cx="6095880" cy="533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04164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 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276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近五十年来，我致力于科学研究，而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究，就是对真理的探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8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9144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523880" y="5410080"/>
          <a:ext cx="6096240" cy="660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65920" y="114300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玛丽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居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37280" y="2382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把力量都用在某个方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67080" y="3048120"/>
          <a:ext cx="838440" cy="583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字词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57200"/>
            <a:ext cx="55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字   词   检   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1219320"/>
            <a:ext cx="532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一、给下列红字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呵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责（     ）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拖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累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（     ）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蹂躏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黑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黑体"/>
              </a:rPr>
              <a:t>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然长逝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理解下列句中红色词语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或许是因为有某种力量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鞭策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着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从我丈夫温和沉静的性格中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获益匪浅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我一直居住在被占领和被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蹂躏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的波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当他猝然长逝以后，我便学会了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逆来顺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4960" y="196056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864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lè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19051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6040" y="2666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1400" y="337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督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4876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践踏，比喻用暴力欺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37360" y="5562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恶劣的环境或无理的待遇采取忍受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00560" y="4191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很多益处。匪，非、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1600200"/>
            <a:ext cx="58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对于任何人都非易事，我们必须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坚韧不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精神。最要紧的，还是我们自己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有信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我们必须相信，我们对每一件事情都具有天赋的才能，并且，无论付出任何代价，都要把这件事完成。当事情结束的时候，你要能问心无愧地说：“我已经尽我所能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9817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10240" y="274320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永远追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安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工作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简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家庭生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点纽" descr=""/>
          <p:cNvPicPr/>
          <p:nvPr/>
        </p:nvPicPr>
        <p:blipFill>
          <a:blip r:embed="rId2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9051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皮埃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居里和我考虑要不要在我们的发现上取得经济利益时，我们都认为不能违背我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纯粹研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观念。因而我们没有申请镭的专利，也就抛弃了一笔财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943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2438280"/>
            <a:ext cx="601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丈夫和我专心致志，像在梦幻中一般，坐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简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书房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艰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研究，后来我们就在那里发现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点纽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019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7920" y="3048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有许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美好快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记忆。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孤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过着求学的岁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3:14:19Z</dcterms:created>
  <dc:creator>wutao</dc:creator>
  <dc:description/>
  <dc:language>en-US</dc:language>
  <cp:lastModifiedBy>周璟</cp:lastModifiedBy>
  <dcterms:modified xsi:type="dcterms:W3CDTF">2004-10-27T03:25:24Z</dcterms:modified>
  <cp:revision>100</cp:revision>
  <dc:subject/>
  <dc:title>封面</dc:title>
</cp:coreProperties>
</file>