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7BB-311C-4C10-9095-1ADB8FDA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654-DA52-489F-B9E2-06102CF2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7BE-91B7-4A69-8DDE-A5A2FCEF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A4C-22D8-48F4-85F4-43F726B6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F1E-F597-409C-BE7C-A10AB6E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E57-07BB-4BF7-8644-84DDB96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81E-2038-4AF0-9B20-CE3A8D7C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50E-73A4-4329-9895-DE46412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025-FCF2-45CF-949A-767BC46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FE6-2EB0-4AF3-9C73-B28A1F8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60A-67A0-4013-93F4-1F1C84B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63B-4133-4C00-B036-61BA878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8A4-461B-4206-9DEE-0B620F224F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7543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93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，伟大的科学家玛丽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居里夫人离开了这个世界。爱因斯坦在追悼会上发表了著名的演讲，他没有崇扬居里夫人在科学上的光辉业迹。按理，居里夫人开创了放射化学，发现了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种新的元素，深入研究了放射性元素镭的性质，她的科学成就是应该认真介绍的。但是，爱因斯坦谈的却是她伟大的精神。他指出，居里夫人在放身性研究和元素镭的研究中的巨大成就的取得，“不仅是靠着大胆的直觉，而且也是靠着难以想象的极端困难情况下工作的热忱和顽强。”他还深刻指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居里夫人的人格力量和为科学而献身的精神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哪怕只要有一小部分还存在于欧洲知识分子中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洲就会面临一个比较光明的未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爱因斯坦的演讲含义深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9907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孤独地过着求学     的岁月”却成了“美好快乐的记忆”，这说明了什麽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4197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对科学的渴望，对科学研究的热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一位从事研究工作的科学家，不仅是一个技术员，而且是一个小孩儿，在大自然的景色中，好像迷醉于神话故事一般。”怎样理解这句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038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因为只有有了小孩班的沉迷和好奇，才能对科学产生兴趣，才能沉迷于当中，又探求的欲望，才能产生新的科研成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86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居里夫人的人格美表现在哪些地方？她取得的巨大成就于她的性格特点有哪些联系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5800" y="3581280"/>
            <a:ext cx="1033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居里夫人的人格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44370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有足够的兴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41148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724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成功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35772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有毅力、有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877000"/>
            <a:ext cx="41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不为名利所诱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465280" cy="2575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05320" y="7621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品味语言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012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25909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文章的语言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质朴、真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，表现了居里夫人作为一位科学家的性格特点和人格力量，能给我们以深刻的启迪和思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钋”与“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89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月，居里夫妇历经千辛万苦，终于从含铋的矿物中发现了新的放射性元素，它的化学性质与铋相似，但放射性比纯铀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倍，居里夫人惊喜欲狂，叫道“钋，钋！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原来在实验之前，居里夫妇就在商议新元素的名称时，玛丽说道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假如存在新元素的话，我想叫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纪念我的祖国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”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皮埃尔深知玛丽眷恋着自己的祖国，要用新元素的名称来争得祖国的荣誉和人民的光荣。居里赞同地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，波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波兰，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样，被居里夫妇命名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新元素便问世了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外拓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6858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在丈夫皮埃尔去世以后，居里夫人开始一人担负起抚养孩子的重担。当时她经济上拮据，还得补贴一部分给科研。有人建议她卖掉与皮埃尔在实验室里分离出的那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分克镭，这在当时价值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万法郎。居里夫人则认为，不管今后的生活如何困难，决不能卖掉科研成果。她让女儿从小养成勤俭朴素、不贪图荣华富贵的思想。居里夫人毅然将镭献给了实验室，把它用于研究工作。后来她带着两个女儿赴美国接受总统赠送给她的一克镭时，也同样告诫女儿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：“镭必须属于科学，不属于个人。”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457200"/>
            <a:ext cx="7696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射线的发现引起了居里夫人的极大兴趣，她决心对此进行深入的研究。经过多次请求，她才得以使用一间潮湿的小屋作理化试验。虽然室温只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但她完全投入到研究中去了。他们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89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一直工作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9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经过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万次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提炼，处理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几十吨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矿石残渣，终于得到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的镭盐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测定出了它的原子量是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225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镭宣告诞生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74680"/>
            <a:ext cx="807732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荣誉就像玩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天，有位女士来居里夫人家作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她看见居里夫人的小女儿在玩一枚奖章。她仔细一瞧，发现是英国皇家学会发给居里夫人的金质奖章，感到十分惊讶，便不解地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玛丽，能获取这枚奖章，是件不容易的事情。这是极高的荣誉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您怎能给小孩子当玩具玩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里夫人淡淡一笑，平静地对女友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让孩子们从小明白一个道理。”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什么道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友急切地问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正确对待荣誉。在我看来，所有荣誉就像玩具一般，仅仅玩玩而已。孩子不能守着这种荣誉生活，不然，她将一事无成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女友不禁赞同地点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66680"/>
            <a:ext cx="914400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你对居里夫人的印象如何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居里夫人有坚韧不拔的精神，顽       强的意志，淡泊名利，甘于宁静   和简单不畏世俗诱惑，热爱自己  的祖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mcurie-port.jpg (15561 bytes)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01520" y="380880"/>
            <a:ext cx="3106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的信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560" y="4267080"/>
            <a:ext cx="850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居里夫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4572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目标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905120"/>
            <a:ext cx="83055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有关生字、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了解居里夫人的人格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、居里夫人取得巨大成就与其性格的关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5335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给生字注音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676520"/>
            <a:ext cx="1218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闲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600200"/>
            <a:ext cx="1524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奢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600200"/>
            <a:ext cx="2210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蹂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猝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7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s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1600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óu  lì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xi</a:t>
            </a:r>
            <a:r>
              <a:rPr b="0" lang="en-US" sz="36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3526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词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26708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问心无愧          蹂躏                盛名                                迷醉                  渲染                致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懊恼                  呵责                逆来顺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8380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课文，回答问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21337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、作者认为，做事情需要有怎样的精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86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要有坚韧不拔的精神，要有信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9144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作者追求的是怎样的工作和生活环境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3276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安静的工作和简单的家庭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1:57:51Z</dcterms:created>
  <dc:creator>wutao</dc:creator>
  <dc:description/>
  <dc:language>en-US</dc:language>
  <cp:lastModifiedBy>周璟</cp:lastModifiedBy>
  <dcterms:modified xsi:type="dcterms:W3CDTF">2004-10-27T03:09:38Z</dcterms:modified>
  <cp:revision>100</cp:revision>
  <dc:subject/>
  <dc:title>PowerPoint 演示文稿</dc:title>
</cp:coreProperties>
</file>