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8C1-FCBC-4269-B550-679FAF41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330-5C97-418F-A378-B74292DD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670-5D8B-4C1B-9DC9-23E4333B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A64-FD50-4D38-AB50-84058C66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F14-31D6-400C-8C20-6BB9C80A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0AB-19BC-4253-990C-52B767D5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C8A-7BFF-4D6D-8386-AF4847A8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B9B-D741-4B34-82BF-0487C772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A01-8959-4096-9557-68A5F754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EA2-11AF-43BA-89A8-D589F38B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1CD-070A-40BD-9BDE-3EE4AFC9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386-142A-4B4B-92DB-EFBE7F25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ED12-0EC8-43A6-9DFB-84A266C366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inst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7913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爱因斯坦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(1879-195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04920"/>
            <a:ext cx="4191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爱因斯坦  德国数学物理学家，他的特殊相对论和一般相对使他成为举世闻名的科学家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1921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年获诺贝而物理学 奖。毕生致力於将量子理 论与广义相对论结合起来的尝试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380880"/>
            <a:ext cx="815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                                  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探讨真理，不图财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一、科学工作者宗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                                  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沉醉于科学之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60948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362320"/>
            <a:ext cx="65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                                 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二、科学工作者环境     安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                                 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时间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266688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3773520"/>
            <a:ext cx="32004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4343400"/>
            <a:ext cx="457200" cy="1752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2920" y="4191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2920" y="47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信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5181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坚忍不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64320" y="5791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勤奋努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876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三、科学研究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167652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．“或许是因为有某种力量在鞭策着我”中的“某种力量”指什么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3124080"/>
            <a:ext cx="7010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、完成的决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、对真理的渴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、科学魅力的吸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、崇高的使命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533520"/>
            <a:ext cx="2666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Times New Roman"/>
                <a:ea typeface="黑体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if.mao" descr=""/>
          <p:cNvPicPr/>
          <p:nvPr/>
        </p:nvPicPr>
        <p:blipFill>
          <a:blip r:embed="rId1"/>
          <a:stretch/>
        </p:blipFill>
        <p:spPr>
          <a:xfrm>
            <a:off x="6705720" y="4648320"/>
            <a:ext cx="1600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182880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黑体"/>
              </a:rPr>
              <a:t>b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黑体"/>
              </a:rPr>
              <a:t>．解释“在科学方面我们有对事业而不是对财富的兴趣”的含义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657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居里夫人放弃专利，献身事业，根本不考虑物质利益，丝毫不存名利之想。（探讨真理的梦想家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if.mao" descr=""/>
          <p:cNvPicPr/>
          <p:nvPr/>
        </p:nvPicPr>
        <p:blipFill>
          <a:blip r:embed="rId1"/>
          <a:stretch/>
        </p:blipFill>
        <p:spPr>
          <a:xfrm>
            <a:off x="6781680" y="480060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Times New Roman"/>
                <a:ea typeface="黑体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16002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C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、为什么作者说，科学家也应当是“一个小孩儿”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?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这反映了作者怎样的心态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200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科学本身具有伟大的美，魅力无穷，在这样美妙的科学世界面前，作者如痴如醉的研究，好像迷醉于神话故事的小孩一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Times New Roman"/>
                <a:ea typeface="黑体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0666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找出课文中带有哲理性的句子，试着进行赏析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860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43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◆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生活对于任何人都非易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2767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◆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人类需要讲究现实的人……  但是，人类也需要梦想家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41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◆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科学本身就具有伟大的美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33412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一位从事研究工作的科学家，不仅是一个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术人员，而且是一个小孩儿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1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Times New Roman"/>
                <a:ea typeface="黑体"/>
              </a:rPr>
              <a:t>语言品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144792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读了这篇文章，就如同与伟人对话。我们深深地被居里夫人的人格魅力所打动。如果说我们过去没有生活目标，现在我们明确了人生；如果说我们过去一味贪图安逸，现在我们学会了艰苦；如果说我们过去只能依赖他人，现在我们懂得了奉献；如果说过去我们意志薄弱，现在我们拥有了信念。让我们在居里夫人的光辉照耀下，把自己的人生也献给人类的进步业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53352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80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295280"/>
            <a:ext cx="76197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、无论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任何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，都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问心无愧地说：“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执着地、勤奋地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致力于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受了一言半语的呵责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、从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中我获益匪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7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沉醉于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之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8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把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视为理所当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9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之所以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，是因为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霍金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556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5867280"/>
            <a:ext cx="556272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_x0002__gb2312"/>
                <a:ea typeface="黑体"/>
              </a:rPr>
              <a:t>史蒂芬</a:t>
            </a:r>
            <a:r>
              <a:rPr b="1" lang="zh-CN" sz="2800" spc="-1" strike="noStrike">
                <a:solidFill>
                  <a:srgbClr val="ffff66"/>
                </a:solidFill>
                <a:latin typeface="_x0002__gb2312"/>
                <a:ea typeface="黑体"/>
              </a:rPr>
              <a:t>·</a:t>
            </a:r>
            <a:r>
              <a:rPr b="1" lang="zh-CN" sz="2800" spc="-1" strike="noStrike">
                <a:solidFill>
                  <a:srgbClr val="ffff66"/>
                </a:solidFill>
                <a:latin typeface="_x0002__gb2312"/>
                <a:ea typeface="黑体"/>
              </a:rPr>
              <a:t>霍金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1942—   </a:t>
            </a:r>
            <a:r>
              <a:rPr b="1" lang="zh-CN" sz="2800" spc="-1" strike="noStrike">
                <a:solidFill>
                  <a:srgbClr val="ffff66"/>
                </a:solidFill>
                <a:latin typeface="_x0002__gb2312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76212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66"/>
                </a:solidFill>
                <a:latin typeface=""/>
                <a:ea typeface="黑体"/>
              </a:rPr>
              <a:t>英国剑桥大学应用数学及理论物理学系教授，当代最重要的广义相对论和宇宙论家。   </a:t>
            </a:r>
            <a:r>
              <a:rPr b="1" lang="zh-CN" sz="3200" spc="-1" strike="noStrike">
                <a:solidFill>
                  <a:srgbClr val="ffff66"/>
                </a:solidFill>
                <a:latin typeface=""/>
                <a:ea typeface="黑体"/>
              </a:rPr>
              <a:t>1988</a:t>
            </a:r>
            <a:r>
              <a:rPr b="1" lang="zh-CN" sz="3200" spc="-1" strike="noStrike">
                <a:solidFill>
                  <a:srgbClr val="ffff66"/>
                </a:solidFill>
                <a:latin typeface=""/>
                <a:ea typeface="黑体"/>
              </a:rPr>
              <a:t>年出版《时间简史》，成为关于量子物理学与相对论最畅销的书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卢瑟福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5638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049800"/>
            <a:ext cx="50292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卢瑟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871 —1937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2362320"/>
            <a:ext cx="441972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卢瑟福是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世纪初最伟大的实验物理学家，他由于研究放射性物质及对原子科学的贡献而荣获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1908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年诺贝尔奖，被誉为“微观宇宙之王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一生发表论文约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21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篇，著作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6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种，培养了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位诺贝尔奖获得者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牛顿1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7150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黑体"/>
              </a:rPr>
              <a:t>牛    顿（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黑体"/>
              </a:rPr>
              <a:t>1642– 1727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黑体"/>
              </a:rPr>
              <a:t>）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21932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英国伟大的数学家、物理学家、天文学家和自然哲学家。 牛顿在科学上最卓越的贡献是微积分和经典力学的创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-dingzhaozh1976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486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715000"/>
            <a:ext cx="4800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丁肇中（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936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～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143000"/>
            <a:ext cx="4343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美籍华裔物理学家。祖籍中国山东省。丁肇中主要从事高能实验物理、基本粒子物理、量子电动力学、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γ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辐射与物质的相互作用等方面的研究。他最杰出的贡献是在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1974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年，与里希特各自独立地发现了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J/ψ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粒子。为此，他们共同获得了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1976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年诺贝尔物理学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18560" y="5546880"/>
            <a:ext cx="357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杨振宁（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922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～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609480"/>
            <a:ext cx="419076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美籍华裔物理学家。主要从事统计力学、量子场论、凝聚态物理、基本粒子物理方面的研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在弱相互作用中宇称不守恒。次年，这一理论预见得到吴健雄小组的实验证实。为此，杨振宁和李政道获得了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1957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年诺贝尔物理学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杨振宁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18560" y="5791320"/>
            <a:ext cx="357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李政道（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926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～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李政道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5334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24280" y="838080"/>
            <a:ext cx="4419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美籍华裔物理学家。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1926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年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11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月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25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日生于上海。李政道的研究领域很宽，在量子场论、基本粒子理论、核物理、统计力学、流体力学、天体物理方面的工作也颇有建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居里夫人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7080" cy="6400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62720" y="5335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我 的 信 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1447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玛丽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居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206856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黑体"/>
              </a:rPr>
              <a:t>法国物理家、化学家。巴黎大学理学博士。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黑体"/>
              </a:rPr>
              <a:t>1895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黑体"/>
              </a:rPr>
              <a:t>年与皮埃尔•居里结婚。研究发现放射性元素——镭，推动了原子核科学的发展。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黑体"/>
              </a:rPr>
              <a:t>1903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黑体"/>
              </a:rPr>
              <a:t>1911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黑体"/>
              </a:rPr>
              <a:t>先后两次获诺贝尔物理、化学奖。她是巴黎大学第一位女教授，法国科学院第一位女院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99072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99ff"/>
                </a:solidFill>
                <a:latin typeface="Times New Roman"/>
              </a:rPr>
              <a:t>在像居里夫人这样一位崇高人物结束她的一生的时候，我们不要仅仅满足于回忆她的工作成果对人类已经做出的贡献。第一流人物对于时代和历史的进程的意义，在其道德品质方面，也许比单纯的才智成就方面大。即使是后者，它们取决于品格的程度也远超过通常所认为的那样。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爱因斯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5:16:56Z</dcterms:created>
  <dc:creator>wutao</dc:creator>
  <dc:description/>
  <dc:language>en-US</dc:language>
  <cp:lastModifiedBy>yao</cp:lastModifiedBy>
  <dcterms:modified xsi:type="dcterms:W3CDTF">2003-10-12T23:20:43Z</dcterms:modified>
  <cp:revision>100</cp:revision>
  <dc:subject/>
  <dc:title>PowerPoint 演示文稿</dc:title>
</cp:coreProperties>
</file>