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67D-066D-4A00-AFF6-024E7459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AC8-6A1D-42CF-99AC-C1BB20C0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4C6-12F3-46C6-B139-0559D801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174-A8BD-4770-B292-E95621CD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4839-7858-4146-8EB4-4A847D83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4FBA-0573-4A83-AF60-3DB73F7E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BA88-6AE3-4262-97D6-9C90C2F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40FE-9AEA-4061-B589-805CEAF2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1158-653B-4AE7-BC8E-567B0A5F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6B18-9197-48F7-84D8-E992D97F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5690-7BFB-4E38-9E5D-A9010303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18C-7427-431A-B810-6B6D104D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957E-1B19-4F92-91D7-95A76ADE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A3AA-2B8F-416E-88F6-F2C181E9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F468-DA66-41E7-85D0-79E62AA8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BD11-E7C7-47EF-B5C6-8DBBAAA8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C6A7-EDF2-4750-A588-A122558D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29D-06C6-434B-A12B-CAC0DFEE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7CC-C8C6-4991-ACEF-75AA5325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35B-BCA7-4280-86CC-666167D3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48B-4D47-4A14-89B1-B616562C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3D3-8EDC-4D02-B326-ED107CA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0C5-90EF-41F9-AC59-5BE60FE1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CEA-305D-4A26-AB85-1827A159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DAF4-9160-401E-861C-0CBA4E73FB2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9C45-DFF1-4BDA-A81B-4333414ABB0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 rot="5400000">
            <a:off x="4266720" y="2438280"/>
            <a:ext cx="6324480" cy="251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704"/>
                <a:gd name="adj2" fmla="val -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我的信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38088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爱因斯坦曾在《悼念玛丽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居里》一文中说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居里夫人的品德力量和热忱，哪怕只要有一小部分存在于欧洲的知识分子中间，欧洲就会面临一个比较光明的未来。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629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居里夫人简介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日出生于波兰华沙的一个知识分子家庭。母亲早逝。父亲是教授，由于政治上的原因不得担任任何有薪俸的教职。由于家境贫寒，为了支持二姐去法国求学，玛丽中学毕业后便不得不去做家教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89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，玛丽获得了亚力山德罗维奇奖学金，靠着这笔奖学金，她只身来到巴黎理学院求学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89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她以优异的成绩通过了结业考试，获得了波兰留学生奖学金，留在巴黎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5257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寻找一间条件较好的实验室的过程中，玛丽结识了志同道合的皮埃尔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居里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90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，夫妇两人共同获得诺贝尔物理学奖。但厄运降临了，皮埃尔由于车祸不幸丧身。居里夫人强忍着悲伤的同时，接过了丈夫的职位，成为巴黎大学第一位女教授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9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，居里夫人有单独获得了诺贝尔化学奖。在第一次世界大战中，她组织了一直有二百多台伦琴射线的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2578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队，用以装备战地医院，拯救了无数人的生命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由于长时间接触放射性物质，居里夫人身上遍布各种伤疤。更为严重的是，骨髓由于射线的长期聚集而退化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0120" y="10666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193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日，充满了艰辛与荣誉的居里夫人最终因恶性贫血症去世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居里夫妇证实了镭元素的存在，使全世界都开始关注放射性现象。镭的发现在科学界爆发了一次真正的革命。过后不久，人们又发现镭在医学方面的价值，给癌症患者带来了福音，这使本来非常昂贵的镭，变得更加珍贵。有人劝说：“您如果去申请专利，定会成为百万富翁！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不，镭是一种元素，它应属于全世界！”居里夫妇毫不犹豫的回答。居里夫妇信奉“科学无国界”，可以说，这是他们献身科学的信仰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这位伟大的女性，一生中共获过两次诺贝尔奖，是巴黎大学第一位女教授，法国科学院第一位女院士，同时还被其他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个国家聘为科学院院士。她共接受过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个国家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次奖金和奖章，担任了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个国家的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10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个荣誉职位。她的精神永远激励着后人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思考课后习题，体会居里夫人的人格美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坚忍不拔，有信心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因为求学时虽然很孤独，她和她丈夫却能有时间、有精力在一起从事科学研究，并最终发现了镭。说明了她对科学的渴求，对科学研究的热忱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宁静的工作环境，简单的家庭生活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因为她曾经生活在被占领的波兰，缺少自由，没有宁静的科研环境和氛围；而科学是无国界的，科学研究需要和平的环境，自由的精神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因为只有有了小孩子般的沉迷和好奇，才能对科学产生兴趣，才能沉醉其中，有探求的欲望，才有可能产生新的科研成果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成功的原因：有毅力，有信心，有足够的兴趣，不为名利所诱惑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06:15:59Z</dcterms:created>
  <dc:creator>wutao</dc:creator>
  <dc:description/>
  <dc:language>en-US</dc:language>
  <cp:lastModifiedBy>User</cp:lastModifiedBy>
  <dcterms:modified xsi:type="dcterms:W3CDTF">2003-12-13T01:52:03Z</dcterms:modified>
  <cp:revision>100</cp:revision>
  <dc:subject/>
  <dc:title>PowerPoint 演示文稿</dc:title>
</cp:coreProperties>
</file>