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gif" ContentType="image/gif"/>
  <Override PartName="/ppt/media/image11.gif" ContentType="image/gif"/>
  <Override PartName="/ppt/media/image10.jpeg" ContentType="image/jpeg"/>
  <Override PartName="/ppt/media/image5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45F-EC2C-487D-8A61-FDC799F4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BBC-BFCB-4EBF-9064-50F74FE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DCB-2345-4B53-B4DC-2305C80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D85-031E-42DF-8271-7817DD6F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2B6-8F5E-43C2-9453-51731E7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CAE-CA2A-439E-9E29-94AAB3C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B6A-C3F1-49C7-B18D-A8A39789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578-421B-4004-9585-C70371E2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E2F-6933-42A3-A86F-E445928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3EA-A0F3-499F-8CE2-237BED8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34F-0127-42EC-BDFB-822ADAE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6A6-FC6C-4C73-AC94-01DC57B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854-49AB-4906-AB16-6D4FFC0B5A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1600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位伟大的女性，一生中共获过两次诺贝尔奖，是巴黎大学第一位女教授，法国科学院第一位女院士，同时还被其他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聘为科学院院士。她共接受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次奖金和奖章，担任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荣誉职位。她的精神永远激励着后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23680" y="457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了解的居里夫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居里夫人所说的“讲究现实”与“梦想家”是什么意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p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梦想家”的最基本物特征是献身事业，全身心地投入事业，事业就是一切，根本不考虑物质利益。从放弃专利可看出居里夫人就是这处“梦想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p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ouse2" descr=""/>
          <p:cNvPicPr/>
          <p:nvPr/>
        </p:nvPicPr>
        <p:blipFill>
          <a:blip r:embed="rId2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59461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28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905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ook11" descr=""/>
          <p:cNvPicPr/>
          <p:nvPr/>
        </p:nvPicPr>
        <p:blipFill>
          <a:blip r:embed="rId1"/>
          <a:stretch/>
        </p:blipFill>
        <p:spPr>
          <a:xfrm>
            <a:off x="2743200" y="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z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666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文章的语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质朴、真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表现了居里夫人作为一位科学家的性格特点和人格力量，能给我们以深刻的启迪和思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前几篇比，你觉得本文在写作上有什么特色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876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前几篇比，你觉得本文在写作上有什么不足？可作哪些改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z1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920" y="53352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、挑战名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760" y="782640"/>
            <a:ext cx="8626320" cy="55803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给生字注音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81080"/>
            <a:ext cx="121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闲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905120"/>
            <a:ext cx="1524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奢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905120"/>
            <a:ext cx="2210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蹂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猝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48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81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s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600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óu  lì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xi</a:t>
            </a:r>
            <a:r>
              <a:rPr b="0" lang="en-US" sz="36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x6" descr=""/>
          <p:cNvPicPr/>
          <p:nvPr/>
        </p:nvPicPr>
        <p:blipFill>
          <a:blip r:embed="rId2"/>
          <a:stretch/>
        </p:blipFill>
        <p:spPr>
          <a:xfrm>
            <a:off x="0" y="0"/>
            <a:ext cx="158904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905120" y="304920"/>
            <a:ext cx="274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识记字词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76212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执：坚持己见，不肯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鞭策：用鞭和策赶马，喻督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盛名：很大的名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报酬：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奢望：过高的希望。呵责：呵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心无愧 ：扪心自问，毫无惭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蹂躏：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醉：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迷醉：迷恋，陶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解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用下列句式造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无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心无愧地说：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著地、勤奋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自己的努力集中在一个目标上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力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了一言半语的呵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我获益匪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为理所当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类需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，他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但是，人类也需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，他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的惟一奢望是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身份从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钋”与“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89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月，居里夫妇历经千辛万苦，终于从含铋的矿物中发现了新的放射性元素，它的化学性质与铋相似，但放射性比纯铀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倍，居里夫人惊喜欲狂，叫道“钋，钋！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原来在实验之前，居里夫妇就在商议新元素的名称时，玛丽说道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假如存在新元素的话，我想叫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纪念我的祖国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皮埃尔深知玛丽眷恋着自己的祖国，要用新元素的名称来争得祖国的荣誉和人民的光荣。居里赞同地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，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波兰，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样，被居里夫妇命名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新元素便问世了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外拓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457200"/>
            <a:ext cx="7543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93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，伟大的科学家玛丽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居里夫人离开了这个世界。爱因斯坦在追悼会上发表了著名的演讲，他没有崇扬居里夫人在科学上的光辉业迹。按理，居里夫人开创了放射化学，发现了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种新的元素，深入研究了放射性元素镭的性质，她的科学成就是应该认真介绍的。但是，爱因斯坦谈的却是她伟大的精神。他指出，居里夫人在放身性研究和元素镭的研究中的巨大成就的取得，“不仅是靠着大胆的直觉，而且也是靠着难以想象的极端困难情况下工作的热忱和顽强。”他还深刻指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居里夫人的人格力量和为科学而献身的精神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哪怕只要有一小部分还存在于欧洲知识分子中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洲就会面临一个比较光明的未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爱因斯坦的演讲含义深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457200"/>
            <a:ext cx="7696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射线的发现引起了居里夫人的极大兴趣，她决心对此进行深入的研究。经过多次请求，她才得以使用一间潮湿的小屋作理化试验。虽然室温只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但她完全投入到研究中去了。他们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89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一直工作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9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经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万次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提炼，处理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十吨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矿石残渣，终于得到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镭盐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测定出了它的原子量是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225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镭宣告诞生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我幸运地同居里夫人有二十年崇高而真挚的友谊。我对她的人格的伟大愈来愈感到钦佩。她的坚强，她的意志的纯洁，她的律己之严，她的客观，她的公正不阿的判断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所有这一切都难得地集中在一个人的身上。她在任何时候都意识到自己是社会的公仆，她的极端的谦虚永远不给自满留下任何余地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她一生中最伟大的科学功绩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—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证明放射性元素存在并把它们分离出来—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所以能取得，不仅是靠大胆的直觉，而且也靠着在难以想像的极端困难情况下对工作的热忱和顽强，这样的困难，在实验科学的历史中是罕见的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居里夫人的品德力量和热忱，哪怕只要有一小部分存在于欧洲的知识分子中间，欧洲就会面临一个比较光明的未来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因斯坦于《悼念玛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里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858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丈夫皮埃尔去世以后，居里夫人开始一人担负起抚养孩子的重担。当时她经济上拮据，还得补贴一部分给科研。有人建议她卖掉与皮埃尔在实验室里分离出的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克镭，这在当时价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万法郎。居里夫人则认为，不管今后的生活如何困难，决不能卖掉科研成果。她让女儿从小养成勤俭朴素、不贪图荣华富贵的思想。居里夫人毅然将镭献给了实验室，把它用于研究工作。后来她带着两个女儿赴美国接受总统赠送给她的一克镭时，也同样告诫女儿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“镭必须属于科学，不属于个人。”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274680"/>
            <a:ext cx="807732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荣誉就像玩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天，有位女士来居里夫人家作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她看见居里夫人的小女儿在玩一枚奖章。她仔细一瞧，发现是英国皇家学会发给居里夫人的金质奖章，感到十分惊讶，便不解地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玛丽，能获取这枚奖章，是件不容易的事情。这是极高的荣誉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您怎能给小孩子当玩具玩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里夫人淡淡一笑，平静地对女友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让孩子们从小明白一个道理。”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什么道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友急切地问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正确对待荣誉。在我看来，所有荣誉就像玩具一般，仅仅玩玩而已。孩子不能守着这种荣誉生活，不然，她将一事无成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女友不禁赞同地点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curie-port" descr="mcurie-port.jpg (15561 bytes)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01520" y="380880"/>
            <a:ext cx="3106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的信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560" y="4267080"/>
            <a:ext cx="850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居里夫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4572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目标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9810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思想上：</a:t>
            </a:r>
            <a:r>
              <a:rPr b="1" lang="zh-CN" sz="3200" spc="-1" strike="noStrike">
                <a:solidFill>
                  <a:srgbClr val="ff3300"/>
                </a:solidFill>
                <a:latin typeface="Book Antiqua"/>
              </a:rPr>
              <a:t>了解居里夫人的人格美以及她取得的巨大成就与其性格的联系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Book Antiqu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能力上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学会理解和概括文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0920" y="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索人格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p2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914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概括要点：抓关键词，并在每段旁批注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52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坚忍不拔、信心、决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133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666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渴求真理、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安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33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不图利益、时间、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67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克制、安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876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科学之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457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探求真理，而不是“谋求物质上的利益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分析归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828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工作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76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工作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1066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沉醉于科学之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2040" y="1523880"/>
            <a:ext cx="5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宁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36840" y="299232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坚忍不拔、信心、决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勤奋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685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20040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精神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6858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、自由谈启发，联系自己的生活实际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6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ook9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78" name="lp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327672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理解性问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选另组的同学挑战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9907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质疑探究，理解重点语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228600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、挑战同学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ook9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p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1:57:51Z</dcterms:created>
  <dc:creator>wutao</dc:creator>
  <dc:description/>
  <dc:language>en-US</dc:language>
  <cp:lastModifiedBy>周璟</cp:lastModifiedBy>
  <dcterms:modified xsi:type="dcterms:W3CDTF">2004-10-27T03:12:39Z</dcterms:modified>
  <cp:revision>100</cp:revision>
  <dc:subject/>
  <dc:title>PowerPoint 演示文稿</dc:title>
</cp:coreProperties>
</file>