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DD3-FCF9-4E7F-BB3E-44C143B5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D2E-2A8B-40B1-AABA-83AA9BD4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785-BD1D-4A0E-A929-CDFCAF20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9E7-87B1-4D66-8CBF-8CA67A9C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180-ED54-41D2-8D3A-56597BFA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F03-EFE6-4378-8100-6E76A449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5FD-6FA1-4297-A03B-88291FAF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E4E-289D-4EA6-8940-FD52DA23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99C-866B-4B96-A6F8-4ED1A190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049-8A6C-41E5-A0EA-94FD3236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CB7-7BE2-4599-B1B7-D7020FF5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540-B4F3-43B5-BF14-5953BD04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BE41-1E2F-4EE3-977C-886319A836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2743200"/>
            <a:ext cx="4114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黑体"/>
              </a:rPr>
              <a:t>居里夫人</a:t>
            </a:r>
            <a:endParaRPr b="1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黑体"/>
              <a:ea typeface="黑体"/>
            </a:endParaRPr>
          </a:p>
        </p:txBody>
      </p:sp>
      <p:pic>
        <p:nvPicPr>
          <p:cNvPr id="42" name="maire%20curie" descr=""/>
          <p:cNvPicPr/>
          <p:nvPr/>
        </p:nvPicPr>
        <p:blipFill>
          <a:blip r:embed="rId3"/>
          <a:stretch/>
        </p:blipFill>
        <p:spPr>
          <a:xfrm>
            <a:off x="3429000" y="533520"/>
            <a:ext cx="2035080" cy="207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43000" y="4495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居里夫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Marie Cur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67-193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国籍波兰科学家，研究放射性现象，发现镭和钋两种放射性元素，一生两度获诺贝尔奖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66680" y="762120"/>
            <a:ext cx="1843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奢望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19520" y="2057400"/>
            <a:ext cx="4876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过高的希望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32004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小时候，她的祖国波兰被沙俄侵占，她就非常痛恨侵略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388620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当时情况，远离政治的科学研究多么困难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5562720"/>
            <a:ext cx="457200" cy="609480"/>
          </a:xfrm>
          <a:custGeom>
            <a:avLst/>
            <a:gdLst>
              <a:gd name="textAreaLeft" fmla="*/ 61200 w 457200"/>
              <a:gd name="textAreaRight" fmla="*/ 396000 w 4572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 rot="5400000">
            <a:off x="5650200" y="2426400"/>
            <a:ext cx="3200400" cy="1700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逆来顺受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129528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3399"/>
                </a:solidFill>
                <a:latin typeface="宋体"/>
              </a:rPr>
              <a:t>敏感——即使受了一言半语</a:t>
            </a:r>
            <a:endParaRPr b="0" lang="en-US" sz="2400" spc="1" strike="noStrike">
              <a:ln w="0">
                <a:noFill/>
              </a:ln>
              <a:solidFill>
                <a:srgbClr val="ff33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3399"/>
                </a:solidFill>
                <a:latin typeface="宋体"/>
              </a:rPr>
              <a:t>的呵责，也会过分懊恼。</a:t>
            </a:r>
            <a:endParaRPr b="0" lang="en-US" sz="2400" spc="1" strike="noStrike">
              <a:ln w="0">
                <a:noFill/>
              </a:ln>
              <a:solidFill>
                <a:srgbClr val="ff3399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格言赏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方正姚体"/>
                <a:ea typeface="方正姚体"/>
              </a:rPr>
              <a:t>◆</a:t>
            </a:r>
            <a:r>
              <a:rPr b="0" lang="zh-CN" sz="3200" spc="-1" strike="noStrike">
                <a:solidFill>
                  <a:srgbClr val="ffff66"/>
                </a:solidFill>
                <a:latin typeface="方正姚体"/>
                <a:ea typeface="方正姚体"/>
              </a:rPr>
              <a:t>生活对于任何人都非易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方正姚体"/>
                <a:ea typeface="方正姚体"/>
              </a:rPr>
              <a:t>◆</a:t>
            </a:r>
            <a:r>
              <a:rPr b="0" lang="zh-CN" sz="3200" spc="-1" strike="noStrike">
                <a:solidFill>
                  <a:srgbClr val="ffff66"/>
                </a:solidFill>
                <a:latin typeface="方正姚体"/>
                <a:ea typeface="方正姚体"/>
              </a:rPr>
              <a:t>人类需要讲究现实的人……但是，人类也需要梦想家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方正姚体"/>
                <a:ea typeface="方正姚体"/>
              </a:rPr>
              <a:t>◆</a:t>
            </a:r>
            <a:r>
              <a:rPr b="0" lang="zh-CN" sz="3200" spc="-1" strike="noStrike">
                <a:solidFill>
                  <a:srgbClr val="ffff66"/>
                </a:solidFill>
                <a:latin typeface="方正姚体"/>
                <a:ea typeface="方正姚体"/>
              </a:rPr>
              <a:t>科学本身就具有伟大的美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方正姚体"/>
                <a:ea typeface="方正姚体"/>
              </a:rPr>
              <a:t>◆</a:t>
            </a:r>
            <a:r>
              <a:rPr b="0" lang="zh-CN" sz="3200" spc="-1" strike="noStrike">
                <a:solidFill>
                  <a:srgbClr val="ffff66"/>
                </a:solidFill>
                <a:latin typeface="方正姚体"/>
                <a:ea typeface="方正姚体"/>
              </a:rPr>
              <a:t>一位从事研究工作的科学家，不仅是一个技术人员，而且是一个小孩儿。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30492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作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完成“研讨与练习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居里夫人放弃了镭的专利，却两次成为诺贝尔奖金的获得者。对此，你怎么看？写成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300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字的小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默读，搜集、筛选信息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居里夫人的行为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59000" y="266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坚忍不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87800" y="266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树立信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16600" y="266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执著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69440" y="266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集中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35320" y="3352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献身科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87800" y="3352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探讨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16600" y="3352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生活简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69440" y="3352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重大发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35320" y="41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保持安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7800" y="41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不图财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16600" y="41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珍惜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69440" y="41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追求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3532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克制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8780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热爱生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1660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沉醉科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概括纲要，归纳整理</a:t>
            </a:r>
            <a:r>
              <a:rPr b="0" lang="zh-CN" sz="44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2743200"/>
          <a:ext cx="7467480" cy="716040"/>
        </p:xfrm>
        <a:graphic>
          <a:graphicData uri="http://schemas.openxmlformats.org/drawingml/2006/table">
            <a:tbl>
              <a:tblPr/>
              <a:tblGrid>
                <a:gridCol w="2489040"/>
                <a:gridCol w="2489400"/>
                <a:gridCol w="2489040"/>
              </a:tblGrid>
              <a:tr h="716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思想理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环境需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工作态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371600" y="12952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坚韧不拔 树立信心 执著勤奋 集中目标 献身科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探讨真理 保持安宁 不图财富 珍惜时间 追求自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743200" y="2133720"/>
            <a:ext cx="421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ff3399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居里夫人的人格魅力</a:t>
            </a:r>
            <a:endParaRPr b="1" lang="en-US" sz="2400" spc="1" strike="noStrike">
              <a:ln w="12600">
                <a:solidFill>
                  <a:srgbClr val="ff0066"/>
                </a:solidFill>
                <a:miter/>
              </a:ln>
              <a:solidFill>
                <a:srgbClr val="ff3399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90720" y="3429000"/>
          <a:ext cx="7467480" cy="2865600"/>
        </p:xfrm>
        <a:graphic>
          <a:graphicData uri="http://schemas.openxmlformats.org/drawingml/2006/table">
            <a:tbl>
              <a:tblPr/>
              <a:tblGrid>
                <a:gridCol w="2489040"/>
                <a:gridCol w="2489040"/>
                <a:gridCol w="248940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探讨真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保持安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集中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不图财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追求自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树立信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沉醉科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珍惜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坚韧不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执著勤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重点研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520" y="2666880"/>
            <a:ext cx="5867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某种力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对事业而不是对财富的兴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纯粹研究的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讲究现实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梦想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奢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逆来顺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个小孩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种权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79480" y="16765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点研读有关词语、句子、语段，品味平实而富于哲理的语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4080" y="22096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现问题、解决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281952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传记作品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4038480"/>
            <a:ext cx="2286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朴素而平实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重点研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520" y="2666880"/>
            <a:ext cx="5867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某种力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对事业而不是对财富的兴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纯粹研究的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讲究现实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梦想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奢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逆来顺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个小孩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种权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79480" y="16765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点研读有关词语、句子、语段，品味平实而富于哲理的语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84080" y="22096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现问题、解决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281952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传记作品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4038480"/>
            <a:ext cx="2286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朴素而平实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181120" y="609480"/>
            <a:ext cx="1181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仿宋_GB2312"/>
              </a:rPr>
              <a:t>无论付出任何代价，都要把这件事完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 rot="5400000">
            <a:off x="5629680" y="2523600"/>
            <a:ext cx="359892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神秘的力量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 rot="5400000">
            <a:off x="4295520" y="4390920"/>
            <a:ext cx="242892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完成的决心</a:t>
            </a:r>
            <a:endParaRPr b="1" lang="en-US" sz="4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685800"/>
            <a:ext cx="1181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仿宋_GB2312"/>
              </a:rPr>
              <a:t>研究，就是对真理的探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2885760" y="4276800"/>
            <a:ext cx="265752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对真理的渴求</a:t>
            </a:r>
            <a:endParaRPr b="1" lang="en-US" sz="4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685800"/>
            <a:ext cx="1638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仿宋_GB2312"/>
              </a:rPr>
              <a:t>这种魅力，就是使我能够终生在实验室里埋头工作的主要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885600" y="4066920"/>
            <a:ext cx="330516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科学魅力的吸引</a:t>
            </a:r>
            <a:endParaRPr b="1" lang="en-US" sz="4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685800"/>
            <a:ext cx="1181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仿宋_GB2312"/>
              </a:rPr>
              <a:t>人类需要梦想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 rot="5400000">
            <a:off x="85320" y="4334040"/>
            <a:ext cx="261936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崇高的使命感</a:t>
            </a:r>
            <a:endParaRPr b="1" lang="en-US" sz="4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533520" y="5715000"/>
            <a:ext cx="457200" cy="604800"/>
          </a:xfrm>
          <a:custGeom>
            <a:avLst/>
            <a:gdLst>
              <a:gd name="textAreaLeft" fmla="*/ 61200 w 457200"/>
              <a:gd name="textAreaRight" fmla="*/ 396000 w 457200"/>
              <a:gd name="textAreaTop" fmla="*/ 105840 h 604800"/>
              <a:gd name="textAreaBottom" fmla="*/ 438480 h 6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20570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在科学方面我们有对事业而不是对财富的兴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47920" y="3886200"/>
            <a:ext cx="62481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表现了居里夫妇献身科学事业，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不追求财富的高尚思想。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">
            <a:hlinkClick r:id="rId6" action="ppaction://hlinksldjump"/>
          </p:cNvPr>
          <p:cNvSpPr/>
          <p:nvPr/>
        </p:nvSpPr>
        <p:spPr>
          <a:xfrm>
            <a:off x="380880" y="5867280"/>
            <a:ext cx="533520" cy="609840"/>
          </a:xfrm>
          <a:custGeom>
            <a:avLst/>
            <a:gdLst>
              <a:gd name="textAreaLeft" fmla="*/ 71280 w 533520"/>
              <a:gd name="textAreaRight" fmla="*/ 462240 w 53352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133720" y="1143000"/>
            <a:ext cx="47718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ccff99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纯粹研究的观念</a:t>
            </a:r>
            <a:endParaRPr b="1" lang="en-US" sz="4000" spc="1" strike="noStrike">
              <a:ln w="9360">
                <a:solidFill>
                  <a:srgbClr val="ff0066"/>
                </a:solidFill>
                <a:miter/>
              </a:ln>
              <a:solidFill>
                <a:srgbClr val="ccff99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3352680"/>
            <a:ext cx="7239240" cy="16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ff99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居里夫人从事科学研究只对事业有兴趣，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ff99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ff99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不为财富、名誉所动。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ff99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562720"/>
            <a:ext cx="533520" cy="609480"/>
          </a:xfrm>
          <a:custGeom>
            <a:avLst/>
            <a:gdLst>
              <a:gd name="textAreaLeft" fmla="*/ 71280 w 533520"/>
              <a:gd name="textAreaRight" fmla="*/ 462240 w 53352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371600" y="53352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讲究现实的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47920" y="1523880"/>
            <a:ext cx="607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通过工作获得许多报酬的人。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47920" y="2057400"/>
            <a:ext cx="137160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梦想家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62120" y="32767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受事业的吸引，既没有闲暇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也没有热情去谋求物质上的利益。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95280" y="4419720"/>
            <a:ext cx="6553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居里夫人发现了镭，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却没有申请镭的专利。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715000"/>
            <a:ext cx="381240" cy="533520"/>
          </a:xfrm>
          <a:custGeom>
            <a:avLst/>
            <a:gdLst>
              <a:gd name="textAreaLeft" fmla="*/ 51120 w 381240"/>
              <a:gd name="textAreaRight" fmla="*/ 330120 w 38124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05:50:26Z</dcterms:created>
  <dc:creator>wutao</dc:creator>
  <dc:description/>
  <dc:language>en-US</dc:language>
  <cp:lastModifiedBy>wang</cp:lastModifiedBy>
  <dcterms:modified xsi:type="dcterms:W3CDTF">2004-01-01T02:39:14Z</dcterms:modified>
  <cp:revision>100</cp:revision>
  <dc:subject/>
  <dc:title>PowerPoint 演示文稿</dc:title>
</cp:coreProperties>
</file>