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8E8-790E-4187-9F5A-2035E8E5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A51F-D81E-4163-83F4-6B08ADCB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247-8EAB-49B1-9E53-6B40717F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66A-6CC8-405C-8E1F-B287F9D4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8D1-A4E3-4FEB-B886-E54744C6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8FB9-FD3D-46E7-8639-F6DBA7ED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11C-E7BF-495A-886F-B7B2DA46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55A-2133-4187-83C0-4AF3801C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4F6-B528-4673-AF01-AC8A20A4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D53-FA69-4876-8DE7-4599B164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170-AA26-4666-91C4-51B9E42B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FC4-702F-402F-AE78-BDB5ED18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4CAA-9AA4-4EDE-89B6-F83306CE29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023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38280" y="1371600"/>
            <a:ext cx="487692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我的信念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点纽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6019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71600" y="1600200"/>
            <a:ext cx="60958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我的生命只是一个简单而平凡的小故事。我出生于华沙的一个教师家庭，我和彼埃尔结婚并有了两个孩子。我在法国工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玛丽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居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点纽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59436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12960" y="2708280"/>
            <a:ext cx="59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深信，在科学方面我们有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对事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不是对财富的兴趣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点纽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6019920"/>
            <a:ext cx="53352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76520" y="2819520"/>
            <a:ext cx="57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我丈夫温和沉静的性格中我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获益匪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当他猝然长逝以后，我便学会了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逆来顺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点纽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867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19320" y="2819520"/>
            <a:ext cx="641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但是，人类也需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梦想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们受事业的强烈的吸引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没有闲暇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没有热情去谋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物质上的利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点纽" descr=""/>
          <p:cNvPicPr/>
          <p:nvPr/>
        </p:nvPicPr>
        <p:blipFill>
          <a:blip r:embed="rId2"/>
          <a:stretch/>
        </p:blipFill>
        <p:spPr>
          <a:xfrm>
            <a:off x="7772400" y="5867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19320" y="2819520"/>
            <a:ext cx="64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望着这些蚕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执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勤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工作，我感到我和它们非常相似。像它们一样，我总是耐心地把自己的努力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集中在一个目标上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点纽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23880" y="1828800"/>
            <a:ext cx="624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许是因为有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某种力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鞭策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——正如蚕被鞭策着去结茧一般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的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某种力量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8" descr=""/>
          <p:cNvPicPr/>
          <p:nvPr/>
        </p:nvPicPr>
        <p:blipFill>
          <a:blip r:embed="rId1"/>
          <a:stretch/>
        </p:blipFill>
        <p:spPr>
          <a:xfrm>
            <a:off x="-380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60520" y="2666880"/>
            <a:ext cx="1966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估量过在法国得到自由的代价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句话什么意思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点纽" descr=""/>
          <p:cNvPicPr/>
          <p:nvPr/>
        </p:nvPicPr>
        <p:blipFill>
          <a:blip r:embed="rId2"/>
          <a:stretch/>
        </p:blipFill>
        <p:spPr>
          <a:xfrm>
            <a:off x="7391520" y="5943600"/>
            <a:ext cx="34272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55120" y="2765520"/>
            <a:ext cx="459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他猝然长逝以后，我便学会了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逆来顺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逆来顺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否恰当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点纽" descr=""/>
          <p:cNvPicPr/>
          <p:nvPr/>
        </p:nvPicPr>
        <p:blipFill>
          <a:blip r:embed="rId2"/>
          <a:stretch/>
        </p:blipFill>
        <p:spPr>
          <a:xfrm>
            <a:off x="7772400" y="5791320"/>
            <a:ext cx="495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32560" y="2940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说科学家是一个小孩儿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点纽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41904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点纽" descr=""/>
          <p:cNvPicPr/>
          <p:nvPr/>
        </p:nvPicPr>
        <p:blipFill>
          <a:blip r:embed="rId2"/>
          <a:stretch/>
        </p:blipFill>
        <p:spPr>
          <a:xfrm>
            <a:off x="7772400" y="5867280"/>
            <a:ext cx="495360" cy="495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95280" y="2911320"/>
            <a:ext cx="11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信念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自己认为可以确信的看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作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432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hxmj_195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426708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228600" y="152280"/>
            <a:ext cx="8915400" cy="4883400"/>
            <a:chOff x="228600" y="152280"/>
            <a:chExt cx="8915400" cy="4883400"/>
          </a:xfrm>
        </p:grpSpPr>
        <p:sp>
          <p:nvSpPr>
            <p:cNvPr id="48" name=""/>
            <p:cNvSpPr/>
            <p:nvPr/>
          </p:nvSpPr>
          <p:spPr>
            <a:xfrm>
              <a:off x="3429000" y="15228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玛丽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·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居里（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67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－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34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），生于波兰。当时，波兰正处在沙俄统治下，妇女受歧视不能上大学。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9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她到法国进了巴黎大学，两年内连续获得物理和数学两个硕士学位。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94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，她和皮埃尔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·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居里结婚，从此夫妻共同致力于科学研究。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03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，居里夫人获得博士学位。同年，</a:t>
              </a:r>
              <a:r>
                <a:rPr b="1" lang="zh-CN" sz="2400" spc="-1" strike="noStrike" u="sng">
                  <a:solidFill>
                    <a:srgbClr val="ff3300"/>
                  </a:solidFill>
                  <a:uFillTx/>
                  <a:latin typeface="黑体"/>
                  <a:ea typeface="黑体"/>
                </a:rPr>
                <a:t>因对放射现象研究有突出贡献，居里夫妇获诺贝尔物理学奖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06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，皮埃尔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·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居里因车祸遇难。居里夫人忍受着巨大悲痛，仍然坚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8600" y="421020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工作。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10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她又分析出金属态的纯粹的镭，她还测定了氡及其他许多元素的半衰期，并在此基础上整理出放射性元素蜕变的关系。</a:t>
              </a:r>
              <a:r>
                <a:rPr b="1" lang="zh-CN" sz="2400" spc="-1" strike="noStrike" u="sng">
                  <a:solidFill>
                    <a:srgbClr val="ff3300"/>
                  </a:solidFill>
                  <a:uFillTx/>
                  <a:latin typeface="黑体"/>
                  <a:ea typeface="黑体"/>
                </a:rPr>
                <a:t>由于发现了钋、镭并提炼出纯镭，居里夫人于</a:t>
              </a:r>
              <a:r>
                <a:rPr b="1" lang="zh-CN" sz="2400" spc="-1" strike="noStrike" u="sng">
                  <a:solidFill>
                    <a:srgbClr val="ff3300"/>
                  </a:solidFill>
                  <a:uFillTx/>
                  <a:latin typeface="黑体"/>
                  <a:ea typeface="黑体"/>
                </a:rPr>
                <a:t>1911</a:t>
              </a:r>
              <a:r>
                <a:rPr b="1" lang="zh-CN" sz="2400" spc="-1" strike="noStrike" u="sng">
                  <a:solidFill>
                    <a:srgbClr val="ff3300"/>
                  </a:solidFill>
                  <a:uFillTx/>
                  <a:latin typeface="黑体"/>
                  <a:ea typeface="黑体"/>
                </a:rPr>
                <a:t>年又获得诺贝尔化学奖，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为世界上第一个两次获得诺贝尔奖的人。她是巴黎大学第一位女教授，是法国科学院第一位女院士，同时还被其他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国家聘为科学院院士。她被人们誉为世界科学女杰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点纽" descr=""/>
          <p:cNvPicPr/>
          <p:nvPr/>
        </p:nvPicPr>
        <p:blipFill>
          <a:blip r:embed="rId2"/>
          <a:stretch/>
        </p:blipFill>
        <p:spPr>
          <a:xfrm>
            <a:off x="4457880" y="3314880"/>
            <a:ext cx="49500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23880" y="685800"/>
          <a:ext cx="6096240" cy="51814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51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书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1447560" cy="1520640"/>
          </a:xfrm>
          <a:prstGeom prst="rect">
            <a:avLst/>
          </a:prstGeom>
          <a:ln w="0">
            <a:noFill/>
          </a:ln>
        </p:spPr>
      </p:pic>
      <p:pic>
        <p:nvPicPr>
          <p:cNvPr id="140" name="8" descr=""/>
          <p:cNvPicPr/>
          <p:nvPr/>
        </p:nvPicPr>
        <p:blipFill>
          <a:blip r:embed="rId3"/>
          <a:stretch/>
        </p:blipFill>
        <p:spPr>
          <a:xfrm>
            <a:off x="5867280" y="4495680"/>
            <a:ext cx="914400" cy="1600200"/>
          </a:xfrm>
          <a:prstGeom prst="rect">
            <a:avLst/>
          </a:prstGeom>
          <a:ln w="0">
            <a:noFill/>
          </a:ln>
        </p:spPr>
      </p:pic>
      <p:pic>
        <p:nvPicPr>
          <p:cNvPr id="141" name="点纽" descr=""/>
          <p:cNvPicPr/>
          <p:nvPr/>
        </p:nvPicPr>
        <p:blipFill>
          <a:blip r:embed="rId4"/>
          <a:stretch/>
        </p:blipFill>
        <p:spPr>
          <a:xfrm>
            <a:off x="7238880" y="487692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315680" y="215748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你学了课文后还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些什么疑问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80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信  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00200" y="1143000"/>
          <a:ext cx="6095880" cy="5335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041640" y="380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 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3276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近五十年来，我致力于科学研究，而研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究，就是对真理的探讨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8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91440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523880" y="5410080"/>
          <a:ext cx="6096240" cy="6606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5965920" y="114300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玛丽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居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37280" y="23828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把力量都用在某个方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267080" y="3048120"/>
          <a:ext cx="838440" cy="583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字词检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457200"/>
            <a:ext cx="55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字   词   检   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2800" y="1219320"/>
            <a:ext cx="532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一、给下列红字注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黑体"/>
              </a:rPr>
              <a:t>呵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黑体"/>
              </a:rPr>
              <a:t>责（     ）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黑体"/>
              </a:rPr>
              <a:t>、拖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黑体"/>
              </a:rPr>
              <a:t>累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黑体"/>
              </a:rPr>
              <a:t>（     ）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黑体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黑体"/>
              </a:rPr>
              <a:t>蹂躏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黑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黑体"/>
              </a:rPr>
              <a:t>猝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然长逝（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理解下列句中红色词语的意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或许是因为有某种力量在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鞭策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着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从我丈夫温和沉静的性格中我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获益匪浅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我一直居住在被占领和被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蹂躏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的波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当他猝然长逝以后，我便学会了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逆来顺受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4960" y="196056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8640" y="198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lè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19051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6040" y="26668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71400" y="3373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比喻督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57480" y="48769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践踏，比喻用暴力欺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37360" y="55627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恶劣的环境或无理的待遇采取忍受的态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点纽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324480"/>
            <a:ext cx="609480" cy="533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200560" y="41911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得到很多益处。匪，非、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点纽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6019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00200" y="1600200"/>
            <a:ext cx="582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对于任何人都非易事，我们必须有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坚韧不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精神。最要紧的，还是我们自己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有信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我们必须相信，我们对每一件事情都具有天赋的才能，并且，无论付出任何代价，都要把这件事完成。当事情结束的时候，你要能问心无愧地说：“我已经尽我所能了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点纽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9817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910240" y="2743200"/>
            <a:ext cx="32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永远追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安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工作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简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家庭生活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点纽" descr=""/>
          <p:cNvPicPr/>
          <p:nvPr/>
        </p:nvPicPr>
        <p:blipFill>
          <a:blip r:embed="rId2"/>
          <a:stretch/>
        </p:blipFill>
        <p:spPr>
          <a:xfrm>
            <a:off x="7848720" y="59436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66680" y="190512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皮埃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居里和我考虑要不要在我们的发现上取得经济利益时，我们都认为不能违背我们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纯粹研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观念。因而我们没有申请镭的专利，也就抛弃了一笔财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点纽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59436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47920" y="2438280"/>
            <a:ext cx="601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丈夫和我专心致志，像在梦幻中一般，坐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简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书房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艰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研究，后来我们就在那里发现了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点纽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6019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47920" y="30481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有许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美好快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记忆。少女时期我在巴黎大学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孤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过着求学的岁月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13:14:19Z</dcterms:created>
  <dc:creator>wutao</dc:creator>
  <dc:description/>
  <dc:language>en-US</dc:language>
  <cp:lastModifiedBy>周璟</cp:lastModifiedBy>
  <dcterms:modified xsi:type="dcterms:W3CDTF">2004-10-27T03:25:24Z</dcterms:modified>
  <cp:revision>100</cp:revision>
  <dc:subject/>
  <dc:title>封面</dc:title>
</cp:coreProperties>
</file>