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4D9-D42E-43D2-8789-EA952B13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A2B-4174-4A29-93A6-93A6960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B36-EF5A-4B9A-8BF5-15952EF2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C96-8EBD-4D91-8D56-F57A3E21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9A8-80E3-40D8-BF33-D856EC2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C3F-4775-4F74-8D04-4EADA839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302-0216-4C19-A853-5DBD44E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185-91BA-4D31-9EFB-E4D3F0C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8C5-1CE7-4121-9EA1-29503C9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257-CBF1-44E0-95F2-21CC204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C37-A54C-454C-ACFF-1555FEF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413-47C1-4899-8B2A-8E1E61E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D4C-74D1-4688-B56C-56B0785B4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f_0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7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2133720"/>
            <a:ext cx="5410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论语》十则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39625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5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补出文言文中的省略成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6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调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调整语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(4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就是删去文言文中某些虚词。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些文言虚词在句中只起其语法作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在翻译时不必也不能落实，只要不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响语气，就可以删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词句对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95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亦乐乎？人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不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君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” </a:t>
            </a: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7524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曰：“学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时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之，不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说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自远方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2819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古人对男子的尊称。《论语》中“子曰”的”子”都是对孔子的称呼，义同“先生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51460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按一定的时间温习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1460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悦的古字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，愉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14600"/>
            <a:ext cx="1447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志同道合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3341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533412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生气，发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5334120"/>
            <a:ext cx="2057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这里指道德上有修养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590920" y="1828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5029200" y="4572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447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曾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曰：“吾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日三省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吾身：为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133720"/>
            <a:ext cx="19810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曾子：孔子的学生，名参，字子舆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1337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每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2133720"/>
            <a:ext cx="23623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多次自我反省。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三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表示多次，不是实指三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2133720"/>
            <a:ext cx="914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谋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133720"/>
            <a:ext cx="1600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尽心竭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886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与朋友交而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信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传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习乎？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648320"/>
            <a:ext cx="1752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真诚、诚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572000"/>
            <a:ext cx="54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4648320"/>
            <a:ext cx="2438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老师传授的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57200" y="1371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905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温故而知新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可以为师矣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743200"/>
            <a:ext cx="29718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温习学过的知识，可得到新的理解与体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3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学而不思则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罔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思而不学则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4197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迷惑，意思是感到迷茫而无所适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4419720"/>
            <a:ext cx="8384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有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362320" y="1981080"/>
            <a:ext cx="2133360" cy="457200"/>
          </a:xfrm>
          <a:custGeom>
            <a:avLst/>
            <a:gdLst>
              <a:gd name="textAreaLeft" fmla="*/ 29520 w 2133360"/>
              <a:gd name="textAreaRight" fmla="*/ 2103840 w 2133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26" h="21600">
                <a:moveTo>
                  <a:pt x="0" y="0"/>
                </a:moveTo>
                <a:lnTo>
                  <a:pt x="100726" y="0"/>
                </a:lnTo>
                <a:lnTo>
                  <a:pt x="100726" y="21600"/>
                </a:lnTo>
                <a:lnTo>
                  <a:pt x="0" y="21600"/>
                </a:lnTo>
                <a:close/>
              </a:path>
              <a:path fill="lightenLess" w="100726" h="21600">
                <a:moveTo>
                  <a:pt x="0" y="0"/>
                </a:moveTo>
                <a:lnTo>
                  <a:pt x="100726" y="0"/>
                </a:lnTo>
                <a:lnTo>
                  <a:pt x="99326" y="1400"/>
                </a:lnTo>
                <a:lnTo>
                  <a:pt x="1400" y="1400"/>
                </a:lnTo>
                <a:close/>
              </a:path>
              <a:path fill="darken" w="100726" h="21600">
                <a:moveTo>
                  <a:pt x="100726" y="0"/>
                </a:moveTo>
                <a:lnTo>
                  <a:pt x="100726" y="21600"/>
                </a:lnTo>
                <a:lnTo>
                  <a:pt x="99326" y="20200"/>
                </a:lnTo>
                <a:lnTo>
                  <a:pt x="99326" y="1400"/>
                </a:lnTo>
                <a:close/>
              </a:path>
              <a:path fill="darkenLess" w="100726" h="21600">
                <a:moveTo>
                  <a:pt x="10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26" y="20200"/>
                </a:lnTo>
                <a:close/>
              </a:path>
              <a:path fill="lighten" w="10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523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子曰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由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诲女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知之乎？知之为知之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4038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知为不知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也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133720"/>
            <a:ext cx="1295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即仲由，孔子的学生，字子路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24382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诲，教诲，教导。女，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同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汝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，你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724280"/>
            <a:ext cx="16002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通“智”，聪明智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5638680" y="1523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2590920"/>
            <a:ext cx="7391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背诵、默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总结的方法，完成后五则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1567080"/>
          </a:xfrm>
          <a:prstGeom prst="rect">
            <a:avLst/>
          </a:prstGeom>
          <a:solidFill>
            <a:srgbClr val="ccccff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导入新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国是一个有着五千年文明史的礼仪之邦，在它源远流长的历史长河中，曾出现过不少光耀千古的文化巨人，为我们留下了极宝贵的文化遗产，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论语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《老子》、《孟子》、《庄子》等。这些著述对中华文化曾产生过深远的影响，直到今天仍光芒四射。下面我们就来共同探究学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论语》十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86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572000"/>
            <a:ext cx="8686800" cy="206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掌握常用的文言实词能用现代汉语翻译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理解课文内容，能流畅的朗读、背诵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积累文言文学习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z" descr=""/>
          <p:cNvPicPr/>
          <p:nvPr/>
        </p:nvPicPr>
        <p:blipFill>
          <a:blip r:embed="rId1"/>
          <a:stretch/>
        </p:blipFill>
        <p:spPr>
          <a:xfrm>
            <a:off x="0" y="0"/>
            <a:ext cx="38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990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孔子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1337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孔子（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51-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79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，名丘，字仲尼，鲁国人。中国春秋末期伟大的思想家和教育家，儒家学派的创始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，被尊称为“大成至圣”，联合国教科文组织把他列为世界十大名人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eike" descr=""/>
          <p:cNvPicPr/>
          <p:nvPr/>
        </p:nvPicPr>
        <p:blipFill>
          <a:blip r:embed="rId1"/>
          <a:stretch/>
        </p:blipFill>
        <p:spPr>
          <a:xfrm>
            <a:off x="0" y="0"/>
            <a:ext cx="3382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gate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23623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《论语》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1240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论语》是记录孔子和他的弟子言行的一部书，共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篇，是儒家经典著作之一。体例主要是语录体、对话体、叙事体。内容上以教育为主，从中可以看出孔子和他的弟子们的人格修养、治学态度、处世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atang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632448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21" descr=""/>
          <p:cNvPicPr/>
          <p:nvPr/>
        </p:nvPicPr>
        <p:blipFill>
          <a:blip r:embed="rId2"/>
          <a:stretch/>
        </p:blipFill>
        <p:spPr>
          <a:xfrm>
            <a:off x="0" y="1447920"/>
            <a:ext cx="2819520" cy="4495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438280"/>
            <a:ext cx="61722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指导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结合具体语言环境，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处理好停顿和语速、语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haobi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219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200400"/>
            <a:ext cx="6933960" cy="354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不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说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乎            学而不思则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罔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思而不学则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殆      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不知而不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吾日三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省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吾身 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传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诲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女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知之乎            是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知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666880"/>
            <a:ext cx="1828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正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080" y="1371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余     忆         童稚            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124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之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876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青云白鹤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286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   回忆    童年幼小   的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038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脖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6019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青云白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572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复习提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752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5812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720" y="457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学法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590920"/>
            <a:ext cx="883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就是保留文言文中一些基本词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专有名词。如人名、地名、 国名、朝代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官职名、年号、政区名、典章制度及度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衡名称等，均不必翻译，原样保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就是对译，逐字逐句落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0160" y="1905120"/>
            <a:ext cx="47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换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就是用现代词语替换古代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1:13:05Z</dcterms:created>
  <dc:creator>wutao</dc:creator>
  <dc:description/>
  <dc:language>en-US</dc:language>
  <cp:lastModifiedBy>周璟</cp:lastModifiedBy>
  <dcterms:modified xsi:type="dcterms:W3CDTF">2004-10-28T03:12:05Z</dcterms:modified>
  <cp:revision>100</cp:revision>
  <dc:subject/>
  <dc:title>PowerPoint 演示文稿</dc:title>
</cp:coreProperties>
</file>