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AB5-4A44-404F-83C1-E56B81C9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2D6-5E17-4C68-BA09-6AC36B53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E6E-8A12-414A-AD0F-A897A167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95C-0945-46DD-B39F-B107C0B2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840A-AAA3-49B3-B7A0-237F8187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E9E0-DAE1-4C22-BD5B-0949F6B1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E671-CDF1-407F-905E-9F479DEB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6012-7797-4E43-B17E-160104D6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F6F4-11B5-43AF-A631-080B13F4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8128-B728-4D89-8512-2630DBD4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2391-15F2-4B55-ACA7-304CF671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CFB-1CEF-4DF5-B2C8-02AD2E0A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978D-1B20-4CDB-93F7-DBC0B545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453E-717A-4FA9-A132-CE3CDABE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3E83-40BC-42AB-AB97-E1610A37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A30F-7352-44B7-8C70-68AF433F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4B29-6C91-417F-B0BA-97915D04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B48-53AC-4CFF-9C9F-C1CFBD6D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D13-E17C-4E50-B682-1ED99642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A81-E13C-42AA-B3EF-F191E93D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708-77EB-4633-80EA-7EE4DFD6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510-CA42-470F-BE06-1E83EDD8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39D-A66D-42D8-8B5F-97A6ABE5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41A-8FB8-43DF-BAD8-B939566D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E507-4646-44B3-8695-2414DB2FEBC0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B6A0-2A19-427A-B829-DECC8BE0C3F2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373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名丘   字仲尼    春秋时期鲁国人。 儒家学派创始人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周游列国，主张行仁政 ，以得服人，反对残暴的统治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我国致力于教育事业的第一人，首创私人讲学之风，相传弟子三千，贤者七十二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0" name="pic_3772" descr=""/>
          <p:cNvPicPr/>
          <p:nvPr/>
        </p:nvPicPr>
        <p:blipFill>
          <a:blip r:embed="rId1"/>
          <a:stretch/>
        </p:blipFill>
        <p:spPr>
          <a:xfrm>
            <a:off x="4707000" y="228600"/>
            <a:ext cx="4068720" cy="64008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1752480" y="609480"/>
            <a:ext cx="2667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孔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《论语》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85840" y="251424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方正舒体"/>
              </a:rPr>
              <a:t>记录孔子和他弟子言行的一部书，儒家学派的重要著作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方正舒体"/>
              </a:rPr>
              <a:t>你听说过“半部《论语》治天下”的故事吗？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kz" descr=""/>
          <p:cNvPicPr/>
          <p:nvPr/>
        </p:nvPicPr>
        <p:blipFill>
          <a:blip r:embed="rId1"/>
          <a:stretch/>
        </p:blipFill>
        <p:spPr>
          <a:xfrm>
            <a:off x="762120" y="1452600"/>
            <a:ext cx="27432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SO01862_" descr=""/>
          <p:cNvPicPr/>
          <p:nvPr/>
        </p:nvPicPr>
        <p:blipFill>
          <a:blip r:embed="rId1"/>
          <a:stretch/>
        </p:blipFill>
        <p:spPr>
          <a:xfrm>
            <a:off x="0" y="-533520"/>
            <a:ext cx="9601200" cy="79646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2133720" y="1676520"/>
            <a:ext cx="5029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朗读课文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73785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9966"/>
                </a:solidFill>
                <a:latin typeface="Times New Roman"/>
                <a:ea typeface="方正舒体"/>
              </a:rPr>
              <a:t>易读错的字</a:t>
            </a:r>
            <a:r>
              <a:rPr b="0" lang="zh-CN" sz="6600" spc="-1" strike="noStrike">
                <a:solidFill>
                  <a:srgbClr val="003366"/>
                </a:solidFill>
                <a:latin typeface="Times New Roman"/>
                <a:ea typeface="方正舒体"/>
              </a:rPr>
              <a:t>         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52680" y="1905120"/>
            <a:ext cx="5562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学而时习之，不亦说乎？   （“说” 读 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yuè  “</a:t>
            </a: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悦”的古字，译   为愉快。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吾日三省吾身。                    （“省”读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xǐng  </a:t>
            </a: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译为反省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学而不思则罔，思而不学则殆。（“罔”读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wǎng   “</a:t>
            </a: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殆”读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d</a:t>
            </a:r>
            <a:r>
              <a:rPr b="1" lang="en-US" sz="2800" spc="-1" strike="noStrike">
                <a:solidFill>
                  <a:srgbClr val="003366"/>
                </a:solidFill>
                <a:latin typeface="zypyyb"/>
                <a:ea typeface="zypyyb"/>
              </a:rPr>
              <a:t>4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i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诲女知之乎！知之为知之，不知为不知，是知也。               （“女”读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rǔ </a:t>
            </a: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同“汝”，人称代词，你。  “知”读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zhì  </a:t>
            </a: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通“智”，译为聪明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HH01669_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28954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n_ml01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Times New Roman"/>
                <a:ea typeface="隶书"/>
              </a:rPr>
              <a:t>文言翻译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华文细黑"/>
              </a:rPr>
              <a:t>步骤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一    各人思考，尝试翻译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   </a:t>
            </a:r>
            <a:r>
              <a:rPr b="0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二    四人一组，合作完成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   </a:t>
            </a:r>
            <a:r>
              <a:rPr b="0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三    提出质疑，共同解决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cc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01" descr=""/>
          <p:cNvPicPr/>
          <p:nvPr/>
        </p:nvPicPr>
        <p:blipFill>
          <a:blip r:embed="rId1"/>
          <a:stretch/>
        </p:blipFill>
        <p:spPr>
          <a:xfrm>
            <a:off x="4097160" y="3479760"/>
            <a:ext cx="5046840" cy="3378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09120" y="2214720"/>
            <a:ext cx="8534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而  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学而时习之        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人不知而不愠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思而不学则殆    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则其善者而从之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其  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其不善者而改之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其恕乎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知  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知之为知之        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是知也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解释下列句子及横线的字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学而</a:t>
            </a:r>
            <a:r>
              <a:rPr b="0" lang="zh-CN" sz="2800" spc="-1" strike="noStrike" u="sng">
                <a:solidFill>
                  <a:srgbClr val="003366"/>
                </a:solidFill>
                <a:uFillTx/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习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吾日</a:t>
            </a:r>
            <a:r>
              <a:rPr b="0" lang="zh-CN" sz="2800" spc="-1" strike="noStrike" u="sng">
                <a:solidFill>
                  <a:srgbClr val="003366"/>
                </a:solidFill>
                <a:uFillTx/>
                <a:latin typeface="Times New Roman"/>
              </a:rPr>
              <a:t>三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省吾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</a:t>
            </a:r>
            <a:r>
              <a:rPr b="0" lang="zh-CN" sz="2800" spc="-1" strike="noStrike" u="sng">
                <a:solidFill>
                  <a:srgbClr val="003366"/>
                </a:solidFill>
                <a:uFillTx/>
                <a:latin typeface="Times New Roman"/>
              </a:rPr>
              <a:t>传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不习乎？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438280" y="609480"/>
            <a:ext cx="38862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反馈练习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温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故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而知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学而不思则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罔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，思而不学则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殆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见贤思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齐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焉，见不贤而内自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省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也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择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其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善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者而从之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士不可以不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弘毅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己所不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欲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，勿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施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于人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5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《论语》中的许多内容逐渐演化固定为        成语，请你找出来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304920"/>
            <a:ext cx="4800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反馈练习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08" name="PE01605_" descr=""/>
          <p:cNvPicPr/>
          <p:nvPr/>
        </p:nvPicPr>
        <p:blipFill>
          <a:blip r:embed="rId1"/>
          <a:stretch/>
        </p:blipFill>
        <p:spPr>
          <a:xfrm>
            <a:off x="6159600" y="3276720"/>
            <a:ext cx="29844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n_0036" descr=""/>
          <p:cNvPicPr/>
          <p:nvPr/>
        </p:nvPicPr>
        <p:blipFill>
          <a:blip r:embed="rId1"/>
          <a:stretch/>
        </p:blipFill>
        <p:spPr>
          <a:xfrm>
            <a:off x="-838080" y="-304920"/>
            <a:ext cx="11430000" cy="76057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533520" y="456840"/>
            <a:ext cx="967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ff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ffccff"/>
                </a:solidFill>
                <a:latin typeface="Times New Roman"/>
              </a:rPr>
              <a:t>针对一则《论语》，谈谈你的体会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057040" y="20570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求知态度      认真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谦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取长补短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学习方法      学而时习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温故而知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思与学的结合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修身做人      人不知而不愠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日三省吾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己所不欲  勿施于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n_ml35" descr=""/>
          <p:cNvPicPr/>
          <p:nvPr/>
        </p:nvPicPr>
        <p:blipFill>
          <a:blip r:embed="rId1"/>
          <a:stretch/>
        </p:blipFill>
        <p:spPr>
          <a:xfrm>
            <a:off x="-685800" y="-533520"/>
            <a:ext cx="10363320" cy="94932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990720" y="22860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华文新魏"/>
                <a:ea typeface="华文新魏"/>
              </a:rPr>
              <a:t>一  “温故章”   有些老师知道世上许多 事情讲起来娓娓动听，这样的老师能算好老师吗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华文新魏"/>
                <a:ea typeface="华文新魏"/>
              </a:rPr>
              <a:t>二   “己所不欲，勿施于人”对吗？怎样理解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523880" y="304920"/>
            <a:ext cx="63248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a50021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探讨问题</a:t>
            </a:r>
            <a:endParaRPr b="0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a50021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7:30:53Z</dcterms:created>
  <dc:creator>wutao</dc:creator>
  <dc:description/>
  <dc:language>en-US</dc:language>
  <cp:lastModifiedBy>周璟</cp:lastModifiedBy>
  <dcterms:modified xsi:type="dcterms:W3CDTF">2004-10-28T03:20:33Z</dcterms:modified>
  <cp:revision>100</cp:revision>
  <dc:subject/>
  <dc:title>PowerPoint 演示文稿</dc:title>
</cp:coreProperties>
</file>