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E37-CFAC-4423-90E9-78E00A34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25A-1B65-475B-97B1-399695E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F82-9CC2-42B5-A1A2-435640C6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BE6-6C0A-4E8D-B6ED-FBBE61E9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F09-4DB9-4D6D-BA2C-6A15B82A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B3BA-7CAF-4169-9C3D-39915698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0A28-FD0F-4540-8873-C524FBC4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A6F-A029-44A7-B905-75CE5CC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C253-D756-496C-9956-C7A34869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7F7C-B859-4940-9E4E-2222016A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812E-E4F0-4209-BEED-CB10CB5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422-A508-413D-B5E5-4504686A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6A7-F90F-40C3-B403-817B11D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CD9B-36FA-4C3E-B9AA-19C5EF4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C313-4A21-4268-94EE-246FCC55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98AF-C117-4702-B02F-09BA8A8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9CEF-C33F-4336-AF32-F9912F5B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8E3-A5CF-4AAF-AC10-A0675E5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D22-E7A4-406B-A4E9-B8C4BDB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2C1-1249-4FB3-B4A8-5F783C9E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43-EACC-444F-9AE9-3F8A8E04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766-8CD8-49A7-844E-56AECE6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7C5-E8DF-4768-BB06-8A8A0D0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C09-F438-4B86-9047-57A334E7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EFA-0786-463C-B822-57E0E1291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CDC-2D11-4147-A18E-B6B0F97D7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8600"/>
            <a:ext cx="4496040" cy="14479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457200"/>
            <a:ext cx="380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第二单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2895480"/>
            <a:ext cx="815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《论语》十则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013360"/>
            <a:ext cx="2880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孔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06768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子曰：“士不可以不弘毅，任重而道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仁以为己任，不亦重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死而后已，不亦远乎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泰伯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362320" y="914400"/>
            <a:ext cx="4876560" cy="228600"/>
            <a:chOff x="2362320" y="914400"/>
            <a:chExt cx="4876560" cy="228600"/>
          </a:xfrm>
        </p:grpSpPr>
        <p:sp>
          <p:nvSpPr>
            <p:cNvPr id="228" name=""/>
            <p:cNvSpPr/>
            <p:nvPr/>
          </p:nvSpPr>
          <p:spPr>
            <a:xfrm>
              <a:off x="6934320" y="914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83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055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99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38080" y="2971800"/>
            <a:ext cx="3276720" cy="228600"/>
            <a:chOff x="838080" y="2971800"/>
            <a:chExt cx="3276720" cy="228600"/>
          </a:xfrm>
        </p:grpSpPr>
        <p:sp>
          <p:nvSpPr>
            <p:cNvPr id="235" name=""/>
            <p:cNvSpPr/>
            <p:nvPr/>
          </p:nvSpPr>
          <p:spPr>
            <a:xfrm>
              <a:off x="838080" y="29718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29718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29718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4876920"/>
            <a:ext cx="3352680" cy="228600"/>
            <a:chOff x="685800" y="4876920"/>
            <a:chExt cx="3352680" cy="228600"/>
          </a:xfrm>
        </p:grpSpPr>
        <p:sp>
          <p:nvSpPr>
            <p:cNvPr id="239" name=""/>
            <p:cNvSpPr/>
            <p:nvPr/>
          </p:nvSpPr>
          <p:spPr>
            <a:xfrm>
              <a:off x="685800" y="48769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8769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48769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33520" y="1219320"/>
            <a:ext cx="3429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抱负或有特殊社会地位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1219320"/>
            <a:ext cx="609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1219320"/>
            <a:ext cx="1905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意志坚定果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219320"/>
            <a:ext cx="10666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负荷担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121932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3230640"/>
            <a:ext cx="2438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看作，作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323064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518148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518148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遥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219320"/>
            <a:ext cx="8153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抱负的人不可以不胸怀宽广，意志坚定，肩负重大使命，路程又很遥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3064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实现“仁”的理想作为自己的使命，不也重要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181480"/>
            <a:ext cx="4343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死为止，不也很遥远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380880"/>
            <a:ext cx="82296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岁寒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然后知松柏之后凋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罕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129528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4038480"/>
            <a:ext cx="1143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样，那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403848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知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038480"/>
            <a:ext cx="6094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最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038480"/>
            <a:ext cx="6094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凋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1981080"/>
            <a:ext cx="2286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冷的冬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5181480"/>
            <a:ext cx="5029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知道松柏是最后落叶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8380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贡问曰：“有一言而可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终身行之者乎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4479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1752480"/>
            <a:ext cx="14479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句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4495680"/>
            <a:ext cx="10670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奉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288040"/>
            <a:ext cx="5943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没有一句可以终身奉行的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7524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600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33520"/>
            <a:ext cx="8458200" cy="61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其恕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己所不欲，勿施于人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卫灵公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11430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11430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447920"/>
            <a:ext cx="14475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概、也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1447920"/>
            <a:ext cx="38098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恕，指儒家的推己及人，仁爱待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1450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想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41450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4800600"/>
            <a:ext cx="2209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，施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145040"/>
            <a:ext cx="6098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41148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620800"/>
            <a:ext cx="3657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概就是“恕”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4145040"/>
            <a:ext cx="7086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不想要的，不要施加在别人身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23760" y="609480"/>
            <a:ext cx="3071880" cy="594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457200"/>
            <a:ext cx="6019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孔子（前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551——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479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孔子是我国历史上伟大的思想家和教育家，也是春秋末期儒家学派的创始人。他在政治上特别强调“仁”，反对苛政。孔子对我国古代教育事业作出了重大的贡献。他开创的私人学堂，注意“因材施教”，主张学习知识要“温故而知新”。孔子的言论，主要记载在《论语》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6028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1280" y="260280"/>
            <a:ext cx="86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320" y="0"/>
            <a:ext cx="8534160" cy="80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学而时习之，不亦说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朋自远方来，不亦乐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不知而不愠，不亦君子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而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762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066680"/>
            <a:ext cx="1905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一定的时间复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106668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1066680"/>
            <a:ext cx="19051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悦”的古字，愉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038480"/>
            <a:ext cx="1143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038480"/>
            <a:ext cx="2286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气，发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733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038480"/>
            <a:ext cx="266724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指道德上有修养的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762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153640" cy="73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子曰：“吾日三省吾身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人谋而不忠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朋友交而不信乎？传不习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而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762120"/>
            <a:ext cx="1600200" cy="228600"/>
            <a:chOff x="2438280" y="762120"/>
            <a:chExt cx="1600200" cy="228600"/>
          </a:xfrm>
        </p:grpSpPr>
        <p:sp>
          <p:nvSpPr>
            <p:cNvPr id="109" name=""/>
            <p:cNvSpPr/>
            <p:nvPr/>
          </p:nvSpPr>
          <p:spPr>
            <a:xfrm>
              <a:off x="24382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9880" y="762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52480" y="4572000"/>
            <a:ext cx="3886200" cy="228600"/>
            <a:chOff x="1752480" y="4572000"/>
            <a:chExt cx="3886200" cy="228600"/>
          </a:xfrm>
        </p:grpSpPr>
        <p:sp>
          <p:nvSpPr>
            <p:cNvPr id="114" name=""/>
            <p:cNvSpPr/>
            <p:nvPr/>
          </p:nvSpPr>
          <p:spPr>
            <a:xfrm>
              <a:off x="17524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956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45720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990720" y="1066680"/>
            <a:ext cx="16761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称代词，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066680"/>
            <a:ext cx="6094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066680"/>
            <a:ext cx="3962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次进行自我检查，反省。三，泛指多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3048120"/>
            <a:ext cx="76176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给，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2743200"/>
            <a:ext cx="2514600" cy="228600"/>
            <a:chOff x="380880" y="2743200"/>
            <a:chExt cx="2514600" cy="228600"/>
          </a:xfrm>
        </p:grpSpPr>
        <p:sp>
          <p:nvSpPr>
            <p:cNvPr id="123" name=""/>
            <p:cNvSpPr/>
            <p:nvPr/>
          </p:nvSpPr>
          <p:spPr>
            <a:xfrm>
              <a:off x="380880" y="27432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27432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27432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990720" y="3048120"/>
            <a:ext cx="121896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谋划，商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048120"/>
            <a:ext cx="1828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尽心竭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48308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交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876920"/>
            <a:ext cx="12193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诚，诚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846680"/>
            <a:ext cx="106704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师传授的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4800600"/>
            <a:ext cx="1828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反复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7432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44956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83808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温故而知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         为师矣。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为政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4479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565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41911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706400"/>
            <a:ext cx="10670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温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1706400"/>
            <a:ext cx="3124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旧有的，原来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392200"/>
            <a:ext cx="8001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温习学过的知识，可得到新的理解与体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4960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449600"/>
            <a:ext cx="1143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449600"/>
            <a:ext cx="2286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为，当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41911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91320"/>
            <a:ext cx="3962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ǐ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 “了”，语气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14479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990720"/>
            <a:ext cx="792504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曰：“学而不思则罔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而不学则殆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为政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6765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4197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676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419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81080"/>
            <a:ext cx="15238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，指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1981080"/>
            <a:ext cx="1143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思考，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01132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981080"/>
            <a:ext cx="35812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迷惑。意思是感到迷茫而无所适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724280"/>
            <a:ext cx="2361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疑惑，有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124080"/>
            <a:ext cx="800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读书而不思考，就会感到迷茫而无所适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5334120"/>
            <a:ext cx="4800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空想而不读书就会有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380880"/>
            <a:ext cx="7696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由，诲女知之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知之为知之，不知为不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知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政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8195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46483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6483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1295280"/>
            <a:ext cx="12193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教导，指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1295280"/>
            <a:ext cx="27432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同“汝”，人称代词，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99072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3078000"/>
            <a:ext cx="1143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078000"/>
            <a:ext cx="685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952880"/>
            <a:ext cx="990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此、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095880"/>
            <a:ext cx="2590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聪明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952880"/>
            <a:ext cx="2286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“智”，聪明，智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95280"/>
            <a:ext cx="5791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给你对待知与不知的态度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3078000"/>
            <a:ext cx="7467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就是知道，  不知道就是不知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228600"/>
            <a:ext cx="8077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曰：“见贤思齐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不贤而内自省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论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里仁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8862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9144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886200"/>
            <a:ext cx="228600" cy="228600"/>
          </a:xfrm>
          <a:prstGeom prst="flowChartConnector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看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1173240"/>
            <a:ext cx="609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419112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191120"/>
            <a:ext cx="53316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419112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反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09680" y="1219320"/>
            <a:ext cx="2362320" cy="1754640"/>
            <a:chOff x="2209680" y="1219320"/>
            <a:chExt cx="2362320" cy="1754640"/>
          </a:xfrm>
        </p:grpSpPr>
        <p:sp>
          <p:nvSpPr>
            <p:cNvPr id="200" name=""/>
            <p:cNvSpPr/>
            <p:nvPr/>
          </p:nvSpPr>
          <p:spPr>
            <a:xfrm>
              <a:off x="2209680" y="1905120"/>
              <a:ext cx="2362320" cy="1068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有道德有才能的（人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121932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280" y="2239920"/>
            <a:ext cx="7696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到贤人就向他学习，希望能和他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80060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228600"/>
            <a:ext cx="815364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子曰：“三人行，必有我师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择其善者而从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不善者而改之。”（《述而》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914400"/>
            <a:ext cx="2286000" cy="228600"/>
            <a:chOff x="2209680" y="914400"/>
            <a:chExt cx="2286000" cy="228600"/>
          </a:xfrm>
        </p:grpSpPr>
        <p:sp>
          <p:nvSpPr>
            <p:cNvPr id="206" name=""/>
            <p:cNvSpPr/>
            <p:nvPr/>
          </p:nvSpPr>
          <p:spPr>
            <a:xfrm>
              <a:off x="220968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04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91440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3048120"/>
            <a:ext cx="2819160" cy="228600"/>
            <a:chOff x="380880" y="3048120"/>
            <a:chExt cx="2819160" cy="228600"/>
          </a:xfrm>
        </p:grpSpPr>
        <p:sp>
          <p:nvSpPr>
            <p:cNvPr id="210" name=""/>
            <p:cNvSpPr/>
            <p:nvPr/>
          </p:nvSpPr>
          <p:spPr>
            <a:xfrm>
              <a:off x="2438280" y="30481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56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476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440" y="30481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38280" y="5105520"/>
            <a:ext cx="761760" cy="228600"/>
            <a:chOff x="2438280" y="5105520"/>
            <a:chExt cx="761760" cy="228600"/>
          </a:xfrm>
        </p:grpSpPr>
        <p:sp>
          <p:nvSpPr>
            <p:cNvPr id="216" name=""/>
            <p:cNvSpPr/>
            <p:nvPr/>
          </p:nvSpPr>
          <p:spPr>
            <a:xfrm>
              <a:off x="2438280" y="51055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1440" y="5105520"/>
              <a:ext cx="228600" cy="228600"/>
            </a:xfrm>
            <a:prstGeom prst="flowChartConnector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2280" y="1173240"/>
            <a:ext cx="27432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，泛指多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173240"/>
            <a:ext cx="1066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352680"/>
            <a:ext cx="12952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，挑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352680"/>
            <a:ext cx="22860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的地方，指优点长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2849400"/>
            <a:ext cx="26672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跟随，指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5410080"/>
            <a:ext cx="24382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，更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30481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08:06:19Z</dcterms:created>
  <dc:creator>wutao</dc:creator>
  <dc:description/>
  <dc:language>en-US</dc:language>
  <cp:lastModifiedBy>bee</cp:lastModifiedBy>
  <dcterms:modified xsi:type="dcterms:W3CDTF">2004-05-01T09:45:21Z</dcterms:modified>
  <cp:revision>100</cp:revision>
  <dc:subject/>
  <dc:title>没有幻灯片标题</dc:title>
</cp:coreProperties>
</file>