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7746-1F0C-4E47-829A-CF1F9AB67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9ABF-61FF-4B9F-BCB7-9FF70B9BB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23EA-2D61-4E17-BDCA-0A442DDF2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5514-B85F-4D01-8DBE-19A33E0D4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894C4-10FB-4B00-9AE9-2F6A5C0DE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A9ACD-AD89-4A8F-B307-5A21585BD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3E4D5-20A7-4874-9C56-994A49FE6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D5160-8B62-4C5F-A7B5-710F34F17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CFB73-4E25-4844-94DF-11DB7AA61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8B6F2-8053-45B3-A64B-AA80F3412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A6785-1115-40D7-BED7-78E5AF6A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CB7B-E924-4C16-B43C-E925C9A6B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792C2-0EC2-4BD0-B0F4-D15F837A7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2FB84-542A-43E7-B85F-07CB55F8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CF880-F9B6-4810-9979-7F7AA3E9E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8A19F-29A5-45FA-8117-FE6150AD3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D8EEB-4A39-46CD-A7CB-A47402E2B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F6D5-0266-42C8-A1B9-533D12E86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C42F-0193-4BA0-A247-24E7C1900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037D-94C3-4482-8BBA-A1D0483F9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40D3-0BAC-41BD-A836-6489383DA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99AF-4E8F-4045-9869-E8A3E3FBA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D189-D390-445B-9576-97FABF8A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6ECB-D9D1-475B-BE70-2FA4486D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ECEF2-3FE3-4079-8FA3-C72C4648E1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21C0E-2FEE-445A-84B2-DBA2291A4C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confuciusta.com/rujiawenhua/index.htm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" Target="slide11.xml"/><Relationship Id="rId6" Type="http://schemas.openxmlformats.org/officeDocument/2006/relationships/slide" Target="slide12.xml"/><Relationship Id="rId7" Type="http://schemas.openxmlformats.org/officeDocument/2006/relationships/slide" Target="slide13.xml"/><Relationship Id="rId8" Type="http://schemas.openxmlformats.org/officeDocument/2006/relationships/slide" Target="slide14.xml"/><Relationship Id="rId9" Type="http://schemas.openxmlformats.org/officeDocument/2006/relationships/slide" Target="slide15.xml"/><Relationship Id="rId10" Type="http://schemas.openxmlformats.org/officeDocument/2006/relationships/slide" Target="slide16.xml"/><Relationship Id="rId11" Type="http://schemas.openxmlformats.org/officeDocument/2006/relationships/slide" Target="slide17.xml"/><Relationship Id="rId12" Type="http://schemas.openxmlformats.org/officeDocument/2006/relationships/slide" Target="slide18.xml"/><Relationship Id="rId13" Type="http://schemas.openxmlformats.org/officeDocument/2006/relationships/slide" Target="slide19.xml"/><Relationship Id="rId14" Type="http://schemas.openxmlformats.org/officeDocument/2006/relationships/slide" Target="slide20.xml"/><Relationship Id="rId1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宋体"/>
              </a:rPr>
              <a:t>《论语》十则</a:t>
            </a:r>
            <a:r>
              <a:rPr b="1" lang="zh-CN" sz="46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80880" y="2971440"/>
            <a:ext cx="830592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ccffcc"/>
                </a:solidFill>
                <a:latin typeface="宋体"/>
              </a:rPr>
              <a:t>  </a:t>
            </a:r>
            <a:r>
              <a:rPr b="0" lang="zh-CN" sz="3400" spc="-1" strike="noStrike">
                <a:solidFill>
                  <a:srgbClr val="ccffcc"/>
                </a:solidFill>
                <a:latin typeface="宋体"/>
              </a:rPr>
              <a:t>本课有的谈求知态度，有的谈学习方法，有的谈修身做人。语言简练，含义深远。学习时要熟读，深思，牢记。</a:t>
            </a:r>
            <a:r>
              <a:rPr b="0" lang="zh-CN" sz="3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2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0880" y="304920"/>
            <a:ext cx="1602000" cy="2133360"/>
          </a:xfrm>
          <a:prstGeom prst="rect">
            <a:avLst/>
          </a:prstGeom>
          <a:ln w="0">
            <a:noFill/>
          </a:ln>
        </p:spPr>
      </p:pic>
      <p:pic>
        <p:nvPicPr>
          <p:cNvPr id="85" name="kongzi" descr=""/>
          <p:cNvPicPr/>
          <p:nvPr/>
        </p:nvPicPr>
        <p:blipFill>
          <a:blip r:embed="rId4"/>
          <a:stretch/>
        </p:blipFill>
        <p:spPr>
          <a:xfrm>
            <a:off x="7086600" y="304920"/>
            <a:ext cx="1517760" cy="20574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133720" y="5410080"/>
            <a:ext cx="464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2 </a:t>
            </a: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4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5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  <a:hlinkClick r:id="rId10" action="ppaction://hlinksldjump"/>
              </a:rPr>
              <a:t>6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  <a:hlinkClick r:id="rId11" action="ppaction://hlinksldjump"/>
              </a:rPr>
              <a:t>7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8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9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  <a:hlinkClick r:id="rId14" action="ppaction://hlinksldjump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52280" y="685440"/>
            <a:ext cx="47246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子游（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06~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？），姓言，名偃，字子游，亦称言游、叔氏。春秋末年吴国人。约生于公元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0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，卒年不详。小孔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岁。和子真、子张、曾子等同年辈，，是孔门中的少年弟子。子游在孔子周游列国后期入学孔门，虽然从师较晚，但能学而又称。孔门有四科，“德行：颜渊、闵子骞、冉伯牛、仲弓；言语：宰我、子贡；政事：冉有、季路；文学：子游、 子夏。”（《论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先进》），在文学一科中他占第一位。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971800" y="395280"/>
            <a:ext cx="8686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ziyou" descr=""/>
          <p:cNvPicPr/>
          <p:nvPr/>
        </p:nvPicPr>
        <p:blipFill>
          <a:blip r:embed="rId2"/>
          <a:stretch/>
        </p:blipFill>
        <p:spPr>
          <a:xfrm>
            <a:off x="5334120" y="685800"/>
            <a:ext cx="3352680" cy="55627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8408880" y="64612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04920" y="685800"/>
            <a:ext cx="85341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子曰：“学而时习之，不亦说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ｙｕ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è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朋自远方来，不亦乐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人不知而不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不亦君子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?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4343400"/>
            <a:ext cx="830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孔子说：“学习了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知识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然后按一定的时间去实习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温习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它，不也高兴吗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志同道合的人从远处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到这里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来，不也快乐吗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家不了解我，我却不怨恨，不也是君子吗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408880" y="64548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533520" y="4724280"/>
            <a:ext cx="807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曾子说：“我每天多次地反省自己：替别人办事是不是尽心竭力呢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跟朋友往来是不是诚实呢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师传授的学业是不是复习过呢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762120"/>
            <a:ext cx="73911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曾子曰：“吾日三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ｎ</a:t>
            </a:r>
            <a:r>
              <a:rPr b="1" lang="en-US" sz="3200" spc="-1" strike="noStrike">
                <a:solidFill>
                  <a:srgbClr val="000000"/>
                </a:solidFill>
                <a:latin typeface="zypyyb"/>
                <a:ea typeface="zypyyb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吾身：为人谋而不忠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与朋友交而不信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不习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?”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08880" y="64548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762120" y="510552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孔子说：“在温习旧知识后，能有新体会、新发现，就可以当老师了。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762120"/>
            <a:ext cx="7162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温故而知新，可以为师矣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408880" y="64548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33520" y="487692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孔子说：“只读书却不思考，就会迷惑而无所得；只是空想却不读书，就有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陷入邪说的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危险。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762120"/>
            <a:ext cx="784872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子曰：“学而不思则罔，思而不学则殆。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408880" y="64548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57200" y="518148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孔子说：“由，教给你对待知与不知的态度吧：知道就是知道，不知道就是不知道这就是聪明智慧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762120"/>
            <a:ext cx="769644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子曰：“由，诲女知之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!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知之为知之，不知为不知，是知也。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408880" y="64548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80880" y="51814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孔子说：“看见贤人要想着向他看齐，看见不贤的人要反省自己有没有跟他相似的毛病。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838080"/>
            <a:ext cx="830592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子曰：“见贤思齐焉，见不贤而内自省也。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408880" y="64548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57200" y="472428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7.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孔子说：“几个人一同走路，其中必定有我的老师，我要选择他们的长处来学习，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到自己也有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们那些短处就要改正。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762120"/>
            <a:ext cx="7924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7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子曰：“三人行，必有我师焉；择其善者而从之，其不善者而改之。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408880" y="64548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4724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.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曾子说：“士人不可以不胸怀宽广、意志坚定，因为他肩负着重大的使命，路程又很遥远。把实现‘仁’的理想看作自己的使命，不也很重大吗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到死为止，不也很遥远吗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2280" y="762120"/>
            <a:ext cx="868680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8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曾子曰：“士不可以不弘毅，任重而道远。仁以为己任，不亦重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死而后已，不亦远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?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408880" y="64548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80880" y="50292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9.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孔子说：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碰上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寒冷的冬天，才知道松柏树是最后落叶的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" y="838080"/>
            <a:ext cx="769608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9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子曰：“岁寒，然后知松柏之后凋也。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08880" y="64548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657600" y="1628640"/>
            <a:ext cx="8686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kongzi" descr=""/>
          <p:cNvPicPr/>
          <p:nvPr/>
        </p:nvPicPr>
        <p:blipFill>
          <a:blip r:embed="rId2"/>
          <a:stretch/>
        </p:blipFill>
        <p:spPr>
          <a:xfrm>
            <a:off x="4495680" y="838080"/>
            <a:ext cx="3822840" cy="5181840"/>
          </a:xfrm>
          <a:prstGeom prst="rect">
            <a:avLst/>
          </a:prstGeom>
          <a:ln w="0">
            <a:noFill/>
          </a:ln>
        </p:spPr>
      </p:pic>
      <p:pic>
        <p:nvPicPr>
          <p:cNvPr id="89" name="21" descr=""/>
          <p:cNvPicPr/>
          <p:nvPr/>
        </p:nvPicPr>
        <p:blipFill>
          <a:blip r:embed="rId3"/>
          <a:stretch/>
        </p:blipFill>
        <p:spPr>
          <a:xfrm>
            <a:off x="152280" y="838080"/>
            <a:ext cx="3888000" cy="51818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8153280" y="6477120"/>
            <a:ext cx="8384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ccccff"/>
                </a:solidFill>
                <a:uFillTx/>
                <a:latin typeface="Times New Roman"/>
                <a:ea typeface="华文行楷"/>
                <a:hlinkClick r:id="rId4" action="ppaction://hlinksldjump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533520" y="472428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0.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贡问道：“有没有一句可以终身奉行的话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”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孔子说：“那大概是‘恕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道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’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吧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己所讨厌的事情，不要施加在别人身上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762120"/>
            <a:ext cx="815364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0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子贡问曰：“有一言而可以终身行之者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?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子曰：“其恕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!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己所不欲，勿施于人。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408880" y="64548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2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7620120" cy="56674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809880" y="48769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新宋体"/>
                <a:ea typeface="新宋体"/>
              </a:rPr>
              <a:t>孔庙，是中国历代封建王朝祭祀春秋时期思想家、政治家、教育家孔子的庙宇</a:t>
            </a:r>
            <a:r>
              <a:rPr b="0" lang="zh-CN" sz="2400" spc="-1" strike="noStrike">
                <a:solidFill>
                  <a:srgbClr val="ffffff"/>
                </a:solidFill>
                <a:latin typeface="新宋体"/>
                <a:ea typeface="新宋体"/>
              </a:rPr>
              <a:t>.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408880" y="64548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xin4" descr=""/>
          <p:cNvPicPr/>
          <p:nvPr/>
        </p:nvPicPr>
        <p:blipFill>
          <a:blip r:embed="rId2"/>
          <a:stretch/>
        </p:blipFill>
        <p:spPr>
          <a:xfrm>
            <a:off x="533520" y="609480"/>
            <a:ext cx="8153280" cy="5715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648320" y="5181480"/>
            <a:ext cx="373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新宋体"/>
                <a:ea typeface="新宋体"/>
              </a:rPr>
              <a:t>孔林亦称至圣林， 是埋葬孔子及其家族的墓地</a:t>
            </a:r>
            <a:r>
              <a:rPr b="0" lang="zh-CN" sz="2400" spc="-1" strike="noStrike">
                <a:solidFill>
                  <a:srgbClr val="ffffff"/>
                </a:solidFill>
                <a:latin typeface="新宋体"/>
                <a:ea typeface="新宋体"/>
              </a:rPr>
              <a:t>...</a:t>
            </a:r>
            <a:r>
              <a:rPr b="0" lang="zh-CN" sz="2400" spc="-1" strike="noStrike">
                <a:solidFill>
                  <a:srgbClr val="000000"/>
                </a:solidFill>
                <a:latin typeface="新宋体"/>
                <a:ea typeface="新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408880" y="64548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3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152280" y="685800"/>
            <a:ext cx="8763120" cy="55278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228600" y="9907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新宋体"/>
                <a:ea typeface="新宋体"/>
              </a:rPr>
              <a:t>孔府是孔子嫡长孙世袭衍圣公的衙署和府第，有“天下第一家”之称</a:t>
            </a:r>
            <a:r>
              <a:rPr b="0" lang="zh-CN" sz="2400" spc="-1" strike="noStrike">
                <a:solidFill>
                  <a:srgbClr val="ffffff"/>
                </a:solidFill>
                <a:latin typeface="新宋体"/>
                <a:ea typeface="新宋体"/>
              </a:rPr>
              <a:t>...</a:t>
            </a:r>
            <a:r>
              <a:rPr b="0" lang="zh-CN" sz="2400" spc="-1" strike="noStrike">
                <a:solidFill>
                  <a:srgbClr val="336633"/>
                </a:solidFill>
                <a:latin typeface="新宋体"/>
                <a:ea typeface="新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408880" y="64548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28600" y="685800"/>
            <a:ext cx="86868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孔子简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《史记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孔子世家》摘录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孔子“生而首上圩顶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四边高，中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因名曰丘，字仲尼，姓孔氏”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2)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孔子贫且贱，及长，尝为季氏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仓库管理员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料量平。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3)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孔子长九尺有六寸，人皆谓之‘长人’而异之。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4)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定公以孔子为中都宰，一年，四方皆则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效法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之，由中都宰为司空，由司空为大司寇。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5)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已而去鲁，斥乎齐，逐乎宋、卫，困于陈蔡之间，于是反鲁”“孔子之去鲁凡十四岁而反乎鲁”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6)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孔子以诗书礼乐教，弟子盖三千焉，身通六艺者七十有二人。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7)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乃因史记作《春秋》”“《春秋》之义行，则天下乱臣贼子惧焉”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8)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孔子葬鲁城北泗上，弟子皆服三年。三年心丧毕，相诀而志，则哭，各复尽哀；或复留。唯子贡庐于冢上，凡六年，然后去。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408880" y="6461280"/>
            <a:ext cx="4856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ccccff"/>
                </a:solidFill>
                <a:uFillTx/>
                <a:latin typeface="Times New Roman"/>
                <a:ea typeface="华文行楷"/>
                <a:hlinkClick r:id="rId2" action="ppaction://hlinksldjump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80880" y="1066680"/>
            <a:ext cx="85345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论语》简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《论语》是一部记录孔子和他若干弟子的言行的书，由若干篇章组成，前后两章之间不一定有什么关联。各章的体式也不尽相同，归纳起来，有以下几种：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种是语录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也可称格言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仅指明是孔子的话，不写出说话的环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包括说话的对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内容大多是关于学习、道德修养、为人处事的一般原则，这篇课文中的第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则都属于这种体式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408880" y="6454800"/>
            <a:ext cx="4856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ccccff"/>
                </a:solidFill>
                <a:uFillTx/>
                <a:latin typeface="Times New Roman"/>
                <a:ea typeface="华文行楷"/>
                <a:hlinkClick r:id="rId2" action="ppaction://hlinksldjump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28600" y="685800"/>
            <a:ext cx="891540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种是对话体，记录孔子对弟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或其他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问题所作的回答。这种体式的写法很灵活：有时写出提问者的原话，有时只写某人问什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例如“孟武伯问孝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；有时写出对话的环境或背景，有时不写。课文中的第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则属于这种体式，它写出了提问者的原话，但没有写谈话的背景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种是叙事体，其中多少有一点情节，但也往往是以记录孔子的话为主。这种体式我们以后才能学到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《论语》是研究孔子思想的主要资料。从汉朝初年到五四运动以前的两千年间，它一直是学童们的一本必读书，影响很大，书中有不少语句都作为成语保留在现代语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408880" y="6454800"/>
            <a:ext cx="4856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ccccff"/>
                </a:solidFill>
                <a:uFillTx/>
                <a:latin typeface="Times New Roman"/>
                <a:ea typeface="华文行楷"/>
                <a:hlinkClick r:id="rId2" action="ppaction://hlinksldjump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52280" y="914400"/>
            <a:ext cx="838224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孔门弟子简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引号中语皆出自《史记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宋体"/>
                <a:hlinkClick r:id="rId2" action="ppaction://hlinksldjump"/>
              </a:rPr>
              <a:t>子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“仲由字子路，卞人也。少孔子九岁。子路性鄙，好勇力，志伉直，冠雄鸡，佩豚，陵暴孔子。孔子设礼稍诱子路，子路后儒服委质，因门人请为弟子。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子贡：“端木赐，卫人，字子贡。少孔子三十一岁。”“子贡利口巧辞”。齐田常欲伐鲁，孔子思求他国援兵，诸弟子皆请行，孔子独许子贡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曾参：“孔子以为能通孝道，故授之业，作《孝经》”。颜回死后，他成为孔子的继承人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408880" y="6454800"/>
            <a:ext cx="4856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ccccff"/>
                </a:solidFill>
                <a:uFillTx/>
                <a:latin typeface="Times New Roman"/>
                <a:ea typeface="华文行楷"/>
                <a:hlinkClick r:id="rId3" action="ppaction://hlinksldjump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-360" y="609120"/>
            <a:ext cx="47242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子路（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42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8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，姓仲名由，字子路，又称季路。春秋末年鲁国卞（今山东泗水县人）。生于鲁襄公十一年，卒于鲁哀公十五年，小孔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岁，是孔子门中年龄较大的弟子。出身寒微，其性耿直好勇，为人爽直、粗莽。从师以后先后在鲁、卫两国当官，后随孔子游学于列国。鲁哀公十一年，（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8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，随孔子结束游历回到鲁国，，继续参与一些政治活动。鲁哀公十五年（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8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，卫国发生内乱，子路不顾安危挺身入险，死于乱中，时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岁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971800" y="542880"/>
            <a:ext cx="8686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zilu" descr=""/>
          <p:cNvPicPr/>
          <p:nvPr/>
        </p:nvPicPr>
        <p:blipFill>
          <a:blip r:embed="rId2"/>
          <a:stretch/>
        </p:blipFill>
        <p:spPr>
          <a:xfrm>
            <a:off x="5029200" y="685800"/>
            <a:ext cx="3782880" cy="5486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8408880" y="6461280"/>
            <a:ext cx="4856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ccccff"/>
                </a:solidFill>
                <a:uFillTx/>
                <a:latin typeface="Times New Roman"/>
                <a:ea typeface="华文行楷"/>
                <a:hlinkClick r:id="rId3" action="ppaction://hlinksldjump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80880" y="838080"/>
            <a:ext cx="4572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冉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22-?)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姓冉名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字子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亦称冉有、冉子、有子。春秋末年鲁国人（今山东曲阜）。生于鲁昭公二十年，卒年不详。小孔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岁。出身微贱，与仲弓、冉伯牛同宗。青年时作过鲁季氏家臣，后拜师孔子，并辞官随孔子周游列国。鲁哀公五年（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9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秋，经公之鲁推荐，回鲁当上季氏家族的总管。期间曾率鲁军击退齐军的侵犯，立下赫赫战功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86280" y="588960"/>
            <a:ext cx="8686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ranqiu" descr=""/>
          <p:cNvPicPr/>
          <p:nvPr/>
        </p:nvPicPr>
        <p:blipFill>
          <a:blip r:embed="rId2"/>
          <a:stretch/>
        </p:blipFill>
        <p:spPr>
          <a:xfrm>
            <a:off x="5562720" y="838080"/>
            <a:ext cx="3174840" cy="52578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8408880" y="6461280"/>
            <a:ext cx="4856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ccccff"/>
                </a:solidFill>
                <a:uFillTx/>
                <a:latin typeface="Times New Roman"/>
                <a:ea typeface="华文行楷"/>
                <a:hlinkClick r:id="rId3" action="ppaction://hlinksldjump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-228600" y="761760"/>
            <a:ext cx="59436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颜回（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21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8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，是孔子最得意的门生。姓颜，名回，字子渊，亦称颜渊后世也称作“颜叔”，“颜生”。春秋末年鲁国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今山东曲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生于鲁昭公二十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21)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卒于鲁哀公十四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比孔子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孔门弟子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颜回以突出的德行修养而著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于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仰之弥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孔门哲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他坚守先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耻下问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教会，一起毕生精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研之弥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欲罢不能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深得孔子的赞赏。 自汉代起，颜回被列为七十二贤之首，有时祭孔时独以颜回配享。此后历代统治者不断追加谥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唐太宗尊之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先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唐玄宗尊之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兖公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宋真宗加封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兖国公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元文宗又尊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兖国复圣公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明嘉靖九年改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复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山东曲阜还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复圣庙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971800" y="395280"/>
            <a:ext cx="8686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yanzi" descr=""/>
          <p:cNvPicPr/>
          <p:nvPr/>
        </p:nvPicPr>
        <p:blipFill>
          <a:blip r:embed="rId2"/>
          <a:stretch/>
        </p:blipFill>
        <p:spPr>
          <a:xfrm>
            <a:off x="5837400" y="838080"/>
            <a:ext cx="3076560" cy="51055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8408880" y="6461280"/>
            <a:ext cx="4856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ccccff"/>
                </a:solidFill>
                <a:uFillTx/>
                <a:latin typeface="Times New Roman"/>
                <a:ea typeface="华文行楷"/>
                <a:hlinkClick r:id="rId3" action="ppaction://hlinksldjump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13:03:36Z</dcterms:created>
  <dc:creator>wutao</dc:creator>
  <dc:description/>
  <dc:language>en-US</dc:language>
  <cp:lastModifiedBy>周璟</cp:lastModifiedBy>
  <dcterms:modified xsi:type="dcterms:W3CDTF">2004-10-28T03:31:46Z</dcterms:modified>
  <cp:revision>100</cp:revision>
  <dc:subject/>
  <dc:title>PowerPoint 演示文稿</dc:title>
</cp:coreProperties>
</file>