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6DB-744E-439A-99FB-2137DC50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B7F-CD2C-4D91-B5B7-6E6BAE53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2D2-991B-48CF-868B-D740406C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5AE-375C-4DD2-8F05-074866EA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398-CFE1-4EB5-A967-1FD56055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AF3-DED3-4D6B-A27C-C8ACF354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7D3-87E3-4653-B162-84FFB1A3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0BFB-9665-4E9D-AFCC-FB093F7B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58E-E828-4F8A-9954-976B3B3C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45F-DAF0-45D7-A36E-952091B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1AC-7500-4AB8-BC23-54EEA6ED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2FE-C19A-47EC-A0A7-FBA84B3C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AB54-1FBC-4F52-8035-EB586D6BDB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447920"/>
            <a:ext cx="64008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《论语》十则</a:t>
            </a:r>
            <a:r>
              <a:rPr b="0" lang="zh-CN" sz="7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762120"/>
            <a:ext cx="84582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7194b"/>
                </a:solidFill>
                <a:latin typeface="华文彩云"/>
                <a:ea typeface="华文彩云"/>
              </a:rPr>
              <a:t>作业 </a:t>
            </a:r>
            <a:r>
              <a:rPr b="1" i="1" lang="zh-CN" sz="5400" spc="-1" strike="noStrike">
                <a:solidFill>
                  <a:srgbClr val="c7194b"/>
                </a:solidFill>
                <a:latin typeface="华文彩云"/>
                <a:ea typeface="华文彩云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搜集整理《论语》其他篇章中出现的成语、格言、警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—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个，要求注明出处、含义，并制作资料卡在班上交流展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kz" descr=""/>
          <p:cNvPicPr/>
          <p:nvPr/>
        </p:nvPicPr>
        <p:blipFill>
          <a:blip r:embed="rId1"/>
          <a:stretch/>
        </p:blipFill>
        <p:spPr>
          <a:xfrm>
            <a:off x="2610000" y="0"/>
            <a:ext cx="392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447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名丘，字仲尼，春秋时期鲁国陬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今山东曲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，是我国历史上伟大的思想家、教育家，儒家学派的创始人，被尊称为“大成至圣”。他对我国古代文化的整理、研究和传播，他的思想和学说，为中国文化乃至世界文明做出了不朽的贡献，联合国教科文组织把他列为世界十大名人之一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860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5400" spc="-1" strike="noStrike">
                <a:solidFill>
                  <a:srgbClr val="c7194b"/>
                </a:solidFill>
                <a:latin typeface="Times New Roman"/>
                <a:ea typeface="华文彩云"/>
              </a:rPr>
              <a:t>关于孔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c7194b"/>
                </a:solidFill>
                <a:latin typeface="Times New Roman"/>
                <a:ea typeface="华文彩云"/>
              </a:rPr>
              <a:t>《论语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“语言的论纂”，也就是语录的意思，是记录孔子和他的弟子言行的一部书，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篇，是儒家经典著作之一。体例主要是语录体、对话体、叙事体。内容上以教育为主，包括哲学、历史、政治、经济、艺术、宗教等方面。从中可以看出许多当时社会的政治生活情况，看出孔子和他的弟子们的人格修养、治学态度和处世方法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71720"/>
            <a:ext cx="9144000" cy="58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人不知而不愠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学而不思则罔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  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思而不学则殆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不亦说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 )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乎      三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  )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吾身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传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   )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不习乎  诲女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)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知之乎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不知为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 )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不知 是知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ù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2057400"/>
            <a:ext cx="152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ǎn</a:t>
            </a:r>
            <a:r>
              <a:rPr b="1" lang="zh-CN" sz="4400" spc="-1" strike="noStrike">
                <a:solidFill>
                  <a:srgbClr val="ffffff"/>
                </a:solidFill>
                <a:latin typeface="zypyyb"/>
                <a:ea typeface="zypyyb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312408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ffffff"/>
                </a:solidFill>
                <a:latin typeface="zypyyb"/>
                <a:ea typeface="zypyyb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41148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yu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41148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xǐn</a:t>
            </a:r>
            <a:r>
              <a:rPr b="1" lang="zh-CN" sz="4400" spc="-1" strike="noStrike">
                <a:solidFill>
                  <a:srgbClr val="ffffff"/>
                </a:solidFill>
                <a:latin typeface="zypyyb"/>
                <a:ea typeface="zypyyb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029200"/>
            <a:ext cx="167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u</a:t>
            </a:r>
            <a:r>
              <a:rPr b="1" lang="en-US" sz="4400" spc="-1" strike="noStrike">
                <a:solidFill>
                  <a:srgbClr val="ffffff"/>
                </a:solidFill>
                <a:latin typeface="zypyyb"/>
                <a:ea typeface="zypyyb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105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é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609588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zh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c7194b"/>
                </a:solidFill>
                <a:latin typeface="Times New Roman"/>
                <a:ea typeface="华文彩云"/>
              </a:rPr>
              <a:t>读一读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057400"/>
            <a:ext cx="83055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结合具体语言环境，读准字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处理好停顿和语速、语调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朗读文言文要注意的问题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883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了这篇课文，你认为哪些内容使你收获最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谈感想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课文自相对照，谈谈自己在哪些方面做得好些，在哪些方面还有欠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怎样改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③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温故而知新”对于指导我们的学习有什么重要意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透过表面文字，理解“岁寒，然后知松柏之后凋也”的深刻含义。试着模仿这种写法，也写几句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c7194b"/>
                </a:solidFill>
                <a:latin typeface="Times New Roman"/>
                <a:ea typeface="华文彩云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4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学而时习之，不亦说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人不知而不愠，不亦君子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学而不思则罔，思而不学则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诲女知之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之为知之，不知为不知，是知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吾日三省吾身。  ◆温故而知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见贤思齐焉。       ◆士不可以不弘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死而后已。           ◆知松柏之后凋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其恕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                 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己所不欲，勿施于人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00200"/>
            <a:ext cx="8686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示： ●温故知新         ●死而后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●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任重道远        ●见贤思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择善而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人行， 必有我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己所不欲，勿施于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知之为知之，不知为不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8600"/>
            <a:ext cx="510552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归纳成语、格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0:16:50Z</dcterms:created>
  <dc:creator>wutao</dc:creator>
  <dc:description/>
  <dc:language>en-US</dc:language>
  <cp:lastModifiedBy>周璟</cp:lastModifiedBy>
  <dcterms:modified xsi:type="dcterms:W3CDTF">2004-10-28T03:35:58Z</dcterms:modified>
  <cp:revision>100</cp:revision>
  <dc:subject/>
  <dc:title>PowerPoint 演示文稿</dc:title>
</cp:coreProperties>
</file>