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5"/>
      </p:sldLst>
    </p:custShow>
    <p:custShow name="自定义放映2" id="1">
      <p:sldLst>
        <p:sld r:id="rId15"/>
      </p:sldLst>
    </p:custShow>
    <p:custShow name="自定义放映3" id="2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206-AD99-433A-AC39-4214168A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E64-9356-4A9C-9957-FD693069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C13-2A0B-4D23-81B3-AAEDD550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6D0-329A-4FE4-94DD-6E4C3F4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0BD5-2B87-449B-B8B0-87367CE4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90B5-EAEE-4782-A101-537E4A9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6AB6-B2B4-49EB-A421-DBD3D92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D44F-49A2-4634-97FA-9164F97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B3A1-735A-411A-BF97-4271AD9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29E-6E48-4040-8FE4-6743EFB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7F79-3F8B-42F8-AE4C-49A2EF7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F7D-458E-45CE-B30C-5FDAD8E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5859-3544-469A-A48D-18281F5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963D-9729-4C17-924D-DFD5660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0B8-64C3-4C60-A662-4AE90BC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5161-531D-44C1-BA7E-45F8D3E1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F92-7EE1-4AB4-A922-64272DBB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96C-DC43-4440-B92A-86C69F1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1E7-78F3-4579-BA80-C2416803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E85-2063-406E-A6BC-0055DDBE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C4E-9379-4E3F-8901-2023B9CF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E59-097C-4F5D-B6BE-6ABFAEC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3F-9B3C-4A9D-9CF5-D51B785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AE2-5642-4565-8419-6AAB206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E73-74B2-45C4-8ECA-A9BF55D3FF61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66F-8E7A-4179-BDC7-6CB63A987B11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e9"/>
                </a:solidFill>
                <a:latin typeface="Times New Roman"/>
                <a:ea typeface="隶书"/>
              </a:rPr>
              <a:t>《论语》十则</a:t>
            </a:r>
            <a:endParaRPr b="0" lang="en-US" sz="6000" spc="-1" strike="noStrike">
              <a:solidFill>
                <a:srgbClr val="ffffe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朗读课文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人不知而不愠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ùn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学而不思则罔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w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思而不学则殆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i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 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亦说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uè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乎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三省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xǐn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吾身 传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chu</a:t>
            </a:r>
            <a:r>
              <a:rPr b="0" lang="zh-CN" sz="2800" spc="-1" strike="noStrike">
                <a:solidFill>
                  <a:srgbClr val="ff0000"/>
                </a:solidFill>
                <a:latin typeface="zypyyb"/>
                <a:ea typeface="zypyyb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习乎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诲女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rǔ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知之乎 不知为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wéi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不知 是知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zhì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也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95288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合具体语言环境，读准字音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理好停顿和语速、语调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质疑交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曰：“学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时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有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远方来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人不知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君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”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子曰：“吾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日三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吾身：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与朋友交而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？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温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知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可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师矣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思则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思而不学则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由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诲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乎！知之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之，不知为不知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是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给原文加上标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而时习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说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朋自远方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乐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不知而不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亦君子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吾日三省吾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人谋而不忠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朋友交而不信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不习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温故而知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为师矣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学而不思则罔，思而不学则殆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曰：“由，诲女知之乎！知之为知之，不知为不知，是知也。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27080" y="6094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分类式学习笔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8800" y="185256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家作品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743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74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000" y="28432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成语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636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温故知新；不亦乐乎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286000"/>
            <a:ext cx="66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孔子，名丘，字仲尼，春秋时鲁国陬邑人，我国伟大的思想家、教育家。《论语》是记录孔子和他弟子言行的书，是儒家经典著作之一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2760" y="330048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警句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080" y="37339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学习方法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7339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学而时习之；温故而知新；学而不思则罔，思而不学则殆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080" y="411480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学习态度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知之为知之，不知为不知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080" y="449568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为人态度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9800" y="5562720"/>
            <a:ext cx="15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难句翻译类：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55200" y="4495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不知而不愠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4320" y="48769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品德修养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0160" y="4749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05360" y="487692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imes New Roman"/>
              </a:rPr>
              <a:t>为人谋而不忠乎？与朋友交而不信乎？传不习乎？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98560" y="202572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4880" y="2940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302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88620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6680" y="385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7242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5486400"/>
            <a:ext cx="46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8c0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3520" y="685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体验与反思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666880"/>
            <a:ext cx="807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本文论述的教育思想中，你认为最有价值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哪一点？为什么？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598b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学习生活中，你在哪一方面做得最不够，今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有何打算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1" name="tuhai_888gj9" descr=""/>
          <p:cNvPicPr/>
          <p:nvPr/>
        </p:nvPicPr>
        <p:blipFill>
          <a:blip r:embed="rId3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657600" y="2792520"/>
            <a:ext cx="2438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谢谢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split dir="in" orient="vert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说孔子和《论语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63504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导入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flipH="1" rot="10800000">
            <a:off x="1676520" y="1752120"/>
            <a:ext cx="61722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1722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  <a:ea typeface="隶书"/>
              </a:rPr>
              <a:t>孔子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孔子" descr="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90512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孔子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51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9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名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丘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字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仲尼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我国古代伟大的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思想家</a:t>
            </a:r>
            <a:r>
              <a:rPr b="0" lang="zh-CN" sz="3200" spc="-1" strike="noStrike">
                <a:solidFill>
                  <a:srgbClr val="00264c"/>
                </a:solidFill>
                <a:latin typeface="仿宋_GB2312"/>
                <a:ea typeface="仿宋_GB2312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教育家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儒家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派的创始人，被誉为“万世师表”、“千古圣人”，世界十大思想家，儒家之首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a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26080" y="5867280"/>
            <a:ext cx="51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孔府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886200" cy="4334040"/>
          </a:xfrm>
          <a:prstGeom prst="rect">
            <a:avLst/>
          </a:prstGeom>
          <a:ln w="0">
            <a:noFill/>
          </a:ln>
        </p:spPr>
      </p:pic>
      <p:pic>
        <p:nvPicPr>
          <p:cNvPr id="104" name="孔庙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4570560" cy="3763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5840" y="380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1844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林：孔子墓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54864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23840" y="6858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《论语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81080"/>
            <a:ext cx="7315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论语》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属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语录体散文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是记录孔子和他的弟子言行的一部书，共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之一，成为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儒家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重要经典。宋朝宰相赵普曾赞颂说“半部《论语》治天下”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6240" y="563868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书，《大学》《中庸》《论语》《孟子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696080" cy="106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e9"/>
                </a:solidFill>
                <a:latin typeface="隶书"/>
                <a:ea typeface="隶书"/>
              </a:rPr>
              <a:t>探究学习课文前五则</a:t>
            </a:r>
            <a:r>
              <a:rPr b="0" lang="zh-CN" sz="4400" spc="-1" strike="noStrike">
                <a:solidFill>
                  <a:srgbClr val="ffffe9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3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00:55Z</dcterms:created>
  <dc:creator>wutao</dc:creator>
  <dc:description/>
  <dc:language>en-US</dc:language>
  <cp:lastModifiedBy>周璟</cp:lastModifiedBy>
  <dcterms:modified xsi:type="dcterms:W3CDTF">2004-10-28T03:38:44Z</dcterms:modified>
  <cp:revision>100</cp:revision>
  <dc:subject/>
  <dc:title>《论语》十则</dc:title>
</cp:coreProperties>
</file>