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039-0902-4D57-8FBC-04E446B8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6B3-2747-4E5A-ADA5-297FDFEE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A05-9367-4393-A014-57F20FA5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8B4-AA23-4665-8DEB-5EC0897F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7AD7-30DA-45EE-858D-75202A46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C0B5-5B35-4F5A-A35F-4EABD195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C8A9-82F2-4AF0-B37F-1E9152B1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4EB8-6D70-42C0-B2BC-ADABC7BA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0697-E522-49C5-B77A-8DFB0EAD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842A-F839-45FF-9D67-984CD7C2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D619-8AB3-4F1C-8734-7EA072C6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21C-EAEC-48DA-B9ED-14A84C6A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E636-FAB1-4D67-894E-9A8D112E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E157-F1F7-464E-ABE6-A4318C4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2261-D1AF-439B-9A35-7DD2537A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95DA-AA91-42AC-910A-C6F14643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EA47-0F83-414A-B2CE-FB14A19F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9FC-E7E6-4163-B6C8-5697864B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7D8-4065-4CF9-A387-A265C18A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E3D-2BAC-4DD2-8C65-AEE1C16A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504-C00A-459C-940F-389B9AC0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44B-77CF-412D-A5B7-F0442B8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4C5-D834-4737-ADBF-73CEB26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7AC-EEDA-46BA-B838-55ED5C3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ADD7-F91F-4B99-AB8E-BFA7F5A753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928-E79D-4246-8E61-4A0FF97DF2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336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g155009_1" descr="image/img151070_1.gif"/>
          <p:cNvPicPr/>
          <p:nvPr/>
        </p:nvPicPr>
        <p:blipFill>
          <a:blip r:embed="rId1"/>
          <a:stretch/>
        </p:blipFill>
        <p:spPr>
          <a:xfrm>
            <a:off x="1219320" y="609480"/>
            <a:ext cx="287316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66320" y="990720"/>
            <a:ext cx="1094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《论语》十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9144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694b6"/>
                </a:solidFill>
                <a:latin typeface="Times New Roman"/>
                <a:ea typeface="华文彩云"/>
              </a:rPr>
              <a:t>四书</a:t>
            </a:r>
            <a:r>
              <a:rPr b="1" lang="zh-CN" sz="4400" spc="-1" strike="noStrike">
                <a:solidFill>
                  <a:srgbClr val="378aa7"/>
                </a:solidFill>
                <a:latin typeface="Times New Roman"/>
                <a:ea typeface="华文彩云"/>
              </a:rPr>
              <a:t>五经</a:t>
            </a:r>
            <a:r>
              <a:rPr b="1" lang="zh-CN" sz="4400" spc="-1" strike="noStrike">
                <a:solidFill>
                  <a:srgbClr val="3694b6"/>
                </a:solidFill>
                <a:latin typeface="Times New Roman"/>
                <a:ea typeface="华文彩云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98108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书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论语》、《大学》、《中庸》、《孟子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书之称始于南宋朱熹的《四书章句集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581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经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诗经》、《尚书》、《礼记》、《周易》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春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经之称始于汉武帝时置五经博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12640" y="914400"/>
            <a:ext cx="43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子曰：“学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时</a:t>
            </a:r>
            <a:r>
              <a:rPr b="0" lang="zh-CN" sz="3200" spc="-1" strike="noStrike" u="sng">
                <a:solidFill>
                  <a:srgbClr val="666699"/>
                </a:solidFill>
                <a:uFillTx/>
                <a:latin typeface="Times New Roman"/>
                <a:ea typeface="隶书"/>
              </a:rPr>
              <a:t>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之，不亦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4479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按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5238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悦”，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5000" y="2209680"/>
            <a:ext cx="38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有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自远方来，不亦乐乎？人不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94120" y="2743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同道合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52200" y="2666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35040" y="342900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而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       不亦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君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6360" y="3886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9080" y="3962520"/>
            <a:ext cx="14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怨恨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恼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76960" y="3962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道德修养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3840" y="51814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固定句式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亦……乎？”译作“不也……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62520" y="1447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560" y="175248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6699"/>
                </a:solidFill>
                <a:latin typeface="Times New Roman"/>
              </a:rPr>
              <a:t>本义是“鸟数飞”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6699"/>
                </a:solidFill>
                <a:latin typeface="Times New Roman"/>
              </a:rPr>
              <a:t>引申为“实习”“演习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01400" y="914400"/>
            <a:ext cx="14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理解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讨论学习方法、态度与个人修养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28680" y="167652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不断实习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方能牢固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学习之乐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05000" y="2362320"/>
            <a:ext cx="38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远道而来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切磋促进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人生之乐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28680" y="3048120"/>
            <a:ext cx="38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自求长进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不怨他人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提高修养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71800" y="4038480"/>
            <a:ext cx="56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注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孔子讲的学习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包括礼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礼节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乐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音乐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10920" y="4724280"/>
            <a:ext cx="34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射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射箭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御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驾车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诗、书。既要学书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18640" y="5410080"/>
            <a:ext cx="50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知识，又要实习各种技能，还要跟德育结合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曾子曰：“吾</a:t>
            </a:r>
            <a:r>
              <a:rPr b="1" lang="zh-CN" sz="3600" spc="-1" strike="noStrike" u="sng">
                <a:solidFill>
                  <a:srgbClr val="996633"/>
                </a:solidFill>
                <a:uFillTx/>
                <a:latin typeface="Times New Roman"/>
              </a:rPr>
              <a:t>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三</a:t>
            </a:r>
            <a:r>
              <a:rPr b="1" lang="zh-CN" sz="3600" spc="-1" strike="noStrike" u="sng">
                <a:solidFill>
                  <a:srgbClr val="378aa7"/>
                </a:solidFill>
                <a:uFillTx/>
                <a:latin typeface="Times New Roman"/>
              </a:rPr>
              <a:t>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吾身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朋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不</a:t>
            </a:r>
            <a:r>
              <a:rPr b="1" lang="zh-CN" sz="3600" spc="-1" strike="noStrike" u="sng">
                <a:solidFill>
                  <a:srgbClr val="378aa7"/>
                </a:solidFill>
                <a:uFillTx/>
                <a:latin typeface="Times New Roman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600" spc="-1" strike="noStrike" u="sng">
                <a:solidFill>
                  <a:srgbClr val="378aa7"/>
                </a:solidFill>
                <a:uFillTx/>
                <a:latin typeface="Times New Roman"/>
              </a:rPr>
              <a:t>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25146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1752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泛指多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4479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8aa7"/>
                </a:solidFill>
                <a:latin typeface="Times New Roman"/>
              </a:rPr>
              <a:t>反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81280" y="14479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72800" y="141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68200" y="3200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7936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办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42320" y="3200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尽心竭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004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交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66400" y="457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8aa7"/>
                </a:solidFill>
                <a:latin typeface="Times New Roman"/>
              </a:rPr>
              <a:t>真诚，诚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23200" y="457200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老师传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63920" y="4464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8aa7"/>
                </a:solidFill>
                <a:latin typeface="Times New Roman"/>
              </a:rPr>
              <a:t>复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914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本文出现的成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12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三省吾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22640" y="2098800"/>
            <a:ext cx="19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温故知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见贤思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13160" y="2708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三人行必有我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09840" y="3276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择善而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55960" y="32418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任重道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5800" y="38862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死而后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33920" y="38862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己所不欲，勿施于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62120" y="4419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亦悦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1828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曰：“默而识之，学而不厌，诲人不倦，何有于我哉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7440" y="2438280"/>
            <a:ext cx="27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曰：“君子坦荡荡，小人长戚戚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63960" y="3124080"/>
            <a:ext cx="243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曰：“不在其位，不谋其政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11120" y="380988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在川上曰：“逝者如斯夫，不舍昼夜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72840" y="4495680"/>
            <a:ext cx="33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080"/>
                </a:solidFill>
                <a:latin typeface="Times New Roman"/>
              </a:rPr>
              <a:t>子曰：“知者不惑，仁者不忧，勇者不惧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181480"/>
            <a:ext cx="7467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4080"/>
                </a:solidFill>
                <a:latin typeface="Times New Roman"/>
              </a:rPr>
              <a:t> </a:t>
            </a:r>
            <a:r>
              <a:rPr b="1" lang="zh-CN" sz="2000" spc="-1" strike="noStrike">
                <a:solidFill>
                  <a:srgbClr val="004080"/>
                </a:solidFill>
                <a:latin typeface="Times New Roman"/>
              </a:rPr>
              <a:t>司马牛忧曰：“人皆有兄弟，我独亡！”子夏曰：“商闻之矣，死生有命，富贵在天。君子敬而无失，与人恭而有礼。四海之内皆兄弟也，君子何患乎无兄弟也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7621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课外知识积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孔子" descr=""/>
          <p:cNvPicPr/>
          <p:nvPr/>
        </p:nvPicPr>
        <p:blipFill>
          <a:blip r:embed="rId1"/>
          <a:stretch/>
        </p:blipFill>
        <p:spPr>
          <a:xfrm>
            <a:off x="4840200" y="0"/>
            <a:ext cx="43038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76520" y="838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子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82088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孔子（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51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7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，名丘，字仲尼，春秋时鲁国   邑（现在山东曲阜）人。我国古代伟大的思想家、教育家。儒家学派的创始人。被誉为“万世师表”、“千古圣人”，世界十大思想家之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7a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4400" y="5791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相传孔子出生地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----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尼山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全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孔府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825720" cy="4267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3000" y="457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“三孔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4864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孔子嫡系子孙居住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孔庙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267080" cy="3514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4120" y="685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孔林：孔子墓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5270400"/>
            <a:ext cx="3124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祭祀孔子的地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0400" y="914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孔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6858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孔子发愤为学，博学多能。开创了私人讲学的风气，广收门徒。据说他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弟子，其中优秀的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孔子学说的核心思想是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“仁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他教导人们积极奉行“己欲立而立人，己欲达而达人”，“己所不欲，勿施于人”的忠恕之道。他还倡明“天人合一”之教，用以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处人与自然的关系。同时还阐述和弘扬了人不仅要“仁民”，也要“爱物”的道理。孔子坚决主张国家要实行“富之教之”的德政，使社会与文化得到发展。孔子认为</a:t>
            </a:r>
            <a:r>
              <a:rPr b="1" lang="zh-CN" sz="2000" spc="-1" strike="noStrike">
                <a:solidFill>
                  <a:srgbClr val="3694b6"/>
                </a:solidFill>
                <a:latin typeface="宋体"/>
              </a:rPr>
              <a:t>文明的最高成就在于造就理想人格以创立理想社会，通过潜志躬行“内圣外王之道”，以达到“天下为公”、“大同世界” 之境界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总地来说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其理论从修身齐家，到治国平天下，政治、经济、军事、伦理、教育，几乎无所不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由于孔子的卓越贡献和思想影响深远，他才被中国人尊为至圣先师，万世师表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7621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“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828800"/>
            <a:ext cx="72388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仁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是孔子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思想学说的核心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。孔子明确提出，“仁”即“爱人”（《颜渊》），并进一步阐明“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夫仁者，己欲立而立人，己欲达而达人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（《雍也》）。为“仁”，应该做到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“己所不欲，勿施于人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（《颜渊》）。这是一种深刻的人本主义哲学思想，这种思想贯穿于孔子思想学说的各个方面。他崇尚“礼”，而又说：“克己复礼为仁。一日克己复礼，天下归仁焉。”（《颜渊》）他倡导以“孝悌”为基础的伦理观念，指出“孝弟也者，其为仁之本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·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（《学而》）。甚至“仁”的精神也渗透到他的教育思想当中，提出“当仁，不让于师”（《卫灵公》），指出“博学而笃志，切问而近思，仁在其中矣”（《子张》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他在倡导</a:t>
            </a:r>
            <a:r>
              <a:rPr b="1" lang="zh-CN" sz="1800" spc="-1" strike="noStrike">
                <a:solidFill>
                  <a:srgbClr val="ff0000"/>
                </a:solidFill>
                <a:latin typeface="_x000b__x000c_"/>
              </a:rPr>
              <a:t>“仁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、“德”的基础上，进而提出了一种“大同”的社会理想，即：“大道之行也，天下为公，选贤与能，讲信修睦，故人不独亲其亲，不独子其子，使老有所终，壮有所用，幼有所长，鳏寡孤独废疾者皆有所养……是故谋闭而不兴，盗窃乱贼而不作，故外户而不闭，是谓大同。”（《礼记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</a:rPr>
              <a:t>礼运》）这种“大同”的社会，实际上就是“仁”的精神得到充分而全面体现的社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24080" y="838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礼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752480"/>
            <a:ext cx="74674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礼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孔子思想学说的一个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重要范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“礼”作为一种社会行为规范，由来已久。孔子认为，到了周代，“礼”发展得最完备，因此，他最为崇奉的是周礼。在孔子看来，“礼”是从天子到庶人，人人必须遵守的行为规范。孔子所谓的“礼”，包含内在精神和外在形式两方面。其内在精神是维护当时的宗法等级制度及相应的各种伦理关系。在《礼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哀公问》中，他明确指出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：“非礼，无以节事天地之神也；非礼，无以辨君臣上下长幼之位也；非礼，无以别男女父子兄弟之亲，婚姻疏数之交也。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所以，他认为讲礼，更重要的不在于形式，而在贯彻其内在精神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礼”的外在形式，包括祭祀、军旅、冠婚丧葬、朝聘、会盟等等方面的礼节仪式。孔子认为，注重“礼”的内在精神固然重要，而内在精神终究还要靠外在形式来体现。所以对这些礼节仪式，孔子不但认真学习，亲履亲行，而且要求弟子们严格遵守。他教育颜渊要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“非礼勿视，非礼勿听，非礼勿言，非礼勿动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《颜渊》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66880" y="8380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教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学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60020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_x000b__x000c_"/>
                <a:ea typeface="Times New Roman"/>
              </a:rPr>
              <a:t>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孔子一生，“学而不厌，诲人不倦”，在教学中积累了丰富的经验。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“教”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“学”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思想是他思想学说中的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重要组成部分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孔子一生虚心好学。他提倡“知之为知之，不知为不知，是知也”（《为政》）。称“三人行，必有我师焉。择其善者而从之，其不善者而改之”（《述而》）。又说要“敏而好学，不耻下问”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对于学习目的，孔子通过弟子的言论提出“学而优则仕”的主张，支持平民出身的学生从政施展才能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在教学方法上，孔子善于发现学生各自在性格和学业上的特点，主张因材施教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他提倡奋发学习，讲求学习方法。在知识的形成积累上，强调学与求的重要性，称自己是“我非生而知之者，好古，敏以求之者也”（《述而》）。要求弟子“发奋忘食”，“学而时习之”，“温故而知新”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他强调学与见闻结合，学与思结合。他说：“多闻，择其善者而从之；多见而识之；知之次也。”（《述而》）又说：“学而不思则罔，思而不学则殆。”（《为政》）他还强调学与行结合。他说：“君子欲讷于言而敏于行。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孔子的教育实践与经验，为中国传统教育理论的形成奠定了基础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71800" y="838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《论语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523880"/>
            <a:ext cx="73915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《论语》是记录孔子和他的弟子言行的一部书，共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篇，是儒家经典著作之一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《论语》的篇章排列在内容上没有什么必然联系，各章的体式也不尽相同，归纳起来，有以下几种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一种是</a:t>
            </a:r>
            <a:r>
              <a:rPr b="1" lang="zh-CN" sz="1600" spc="-1" strike="noStrike">
                <a:solidFill>
                  <a:srgbClr val="3694b6"/>
                </a:solidFill>
                <a:latin typeface="宋体"/>
              </a:rPr>
              <a:t>语录体（也可称格言体）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仅指明是孔子的话，不写出说话的环境（包括说话的对象），内容大多是关于学习、道德修养、为人处事的一般原则，本问的第一至九则都属于这种体式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一种是</a:t>
            </a:r>
            <a:r>
              <a:rPr b="1" lang="zh-CN" sz="1600" spc="-1" strike="noStrike">
                <a:solidFill>
                  <a:srgbClr val="3694b6"/>
                </a:solidFill>
                <a:latin typeface="宋体"/>
              </a:rPr>
              <a:t>对话体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记录孔子对弟子（或其他人）的问题所作的回答。这种体式的写法很灵活：有时写出提问者的原话，有时只写某人问什么（如“猛武伯问孝”）；有时写出对话的环境或背景，有时不写。本文的第十则属于这种体式，它写出了提问者的原话，但没有写谈话的背景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一种是</a:t>
            </a:r>
            <a:r>
              <a:rPr b="1" lang="zh-CN" sz="1600" spc="-1" strike="noStrike">
                <a:solidFill>
                  <a:srgbClr val="3694b6"/>
                </a:solidFill>
                <a:latin typeface="宋体"/>
              </a:rPr>
              <a:t>叙事体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其中多少有一点情节，但也往往是以记录孔子的话为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《论语》是研究孔子思想的主要资料。从汉朝初年到五四运动以前的两千年间，它一直是学童们的一本必读书，影响很大，书中有不少语句都作为成语保留在现代汉语中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宋朝宰相赵普曾赞颂说“半部《论语》治天下”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05:58Z</dcterms:created>
  <dc:creator>wutao</dc:creator>
  <dc:description/>
  <dc:language>en-US</dc:language>
  <cp:lastModifiedBy>方菁</cp:lastModifiedBy>
  <dcterms:modified xsi:type="dcterms:W3CDTF">2003-10-15T15:23:29Z</dcterms:modified>
  <cp:revision>100</cp:revision>
  <dc:subject/>
  <dc:title>PowerPoint 演示文稿</dc:title>
</cp:coreProperties>
</file>