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AC5-529B-4951-B038-9B61614A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9AD-12E6-423E-87AB-BB6FBE7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CA2-BB1A-4F01-9463-8E3219E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A21-ADD9-48CA-B37B-4CFFA1B3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30C-7DF8-40D6-8DD0-96391E0B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14D-D0A6-4A08-B851-859B2684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EAB-973E-4205-ACD9-0CB3D4A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145-BE84-4EBF-A209-3F39C7C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679-ADDB-4BD4-AE9E-5610BF4E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C35-308A-456B-87DA-86B0A59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935-3B5B-4EC8-A996-529B522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4C5-2AFC-44A9-A101-3EF40A7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D80E-B132-48A8-B66D-F9735B1485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f_0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79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2133720"/>
            <a:ext cx="5410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论语》十则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39625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(5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补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就是补出文言文中的省略成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(6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调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就是调整语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66680"/>
            <a:ext cx="8381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(4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就是删去文言文中某些虚词。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些文言虚词在句中只起其语法作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在翻译时不必也不能落实，只要不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响语气，就可以删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词句对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95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亦乐乎？人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而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不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君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” </a:t>
            </a:r>
            <a:r>
              <a:rPr b="1" lang="zh-CN" sz="3200" spc="-1" strike="noStrike">
                <a:solidFill>
                  <a:srgbClr val="66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7524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曰：“学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时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之，不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说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自远方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28195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古人对男子的尊称。《论语》中“子曰”的”子”都是对孔子的称呼，义同“先生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51460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按一定的时间温习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51460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悦的古字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，愉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14600"/>
            <a:ext cx="1447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志同道合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334120"/>
            <a:ext cx="8384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533412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生气，发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5334120"/>
            <a:ext cx="2057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这里指道德上有修养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590920" y="1828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5029200" y="4572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447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曾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曰：“吾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日三省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吾身：为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而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133720"/>
            <a:ext cx="19810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曾子：孔子的学生，名参，字子舆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133720"/>
            <a:ext cx="8384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每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2133720"/>
            <a:ext cx="23623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多次自我反省。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三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表示多次，不是实指三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2133720"/>
            <a:ext cx="914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谋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2133720"/>
            <a:ext cx="1600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尽心竭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886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与朋友交而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信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习乎？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648320"/>
            <a:ext cx="1752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真诚、诚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572000"/>
            <a:ext cx="54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4648320"/>
            <a:ext cx="24382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老师传授的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57200" y="1371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905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子曰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温故而知新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可以为师矣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743200"/>
            <a:ext cx="29718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温习学过的知识，可得到新的理解与体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733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子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学而不思则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罔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思而不学则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4197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迷惑，意思是感到迷茫而无所适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4419720"/>
            <a:ext cx="8384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有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362320" y="1981080"/>
            <a:ext cx="2133360" cy="457200"/>
          </a:xfrm>
          <a:custGeom>
            <a:avLst/>
            <a:gdLst>
              <a:gd name="textAreaLeft" fmla="*/ 29520 w 2133360"/>
              <a:gd name="textAreaRight" fmla="*/ 2103840 w 2133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26" h="21600">
                <a:moveTo>
                  <a:pt x="0" y="0"/>
                </a:moveTo>
                <a:lnTo>
                  <a:pt x="100726" y="0"/>
                </a:lnTo>
                <a:lnTo>
                  <a:pt x="100726" y="21600"/>
                </a:lnTo>
                <a:lnTo>
                  <a:pt x="0" y="21600"/>
                </a:lnTo>
                <a:close/>
              </a:path>
              <a:path fill="lightenLess" w="100726" h="21600">
                <a:moveTo>
                  <a:pt x="0" y="0"/>
                </a:moveTo>
                <a:lnTo>
                  <a:pt x="100726" y="0"/>
                </a:lnTo>
                <a:lnTo>
                  <a:pt x="99326" y="1400"/>
                </a:lnTo>
                <a:lnTo>
                  <a:pt x="1400" y="1400"/>
                </a:lnTo>
                <a:close/>
              </a:path>
              <a:path fill="darken" w="100726" h="21600">
                <a:moveTo>
                  <a:pt x="100726" y="0"/>
                </a:moveTo>
                <a:lnTo>
                  <a:pt x="100726" y="21600"/>
                </a:lnTo>
                <a:lnTo>
                  <a:pt x="99326" y="20200"/>
                </a:lnTo>
                <a:lnTo>
                  <a:pt x="99326" y="1400"/>
                </a:lnTo>
                <a:close/>
              </a:path>
              <a:path fill="darkenLess" w="100726" h="21600">
                <a:moveTo>
                  <a:pt x="100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26" y="20200"/>
                </a:lnTo>
                <a:close/>
              </a:path>
              <a:path fill="lighten" w="100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523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子曰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由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诲女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知之乎？知之为知之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4038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知为不知，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也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133720"/>
            <a:ext cx="12952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即仲由，孔子的学生，字子路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24382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诲，教诲，教导。女，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同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汝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，你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724280"/>
            <a:ext cx="16002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通“智”，聪明智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5638680" y="1523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2590920"/>
            <a:ext cx="7391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背诵、默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总结的方法，完成后五则的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9144000" cy="1567080"/>
          </a:xfrm>
          <a:prstGeom prst="rect">
            <a:avLst/>
          </a:prstGeom>
          <a:solidFill>
            <a:srgbClr val="ccccff"/>
          </a:solidFill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导入新课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国是一个有着五千年文明史的礼仪之邦，在它源远流长的历史长河中，曾出现过不少光耀千古的文化巨人，为我们留下了极宝贵的文化遗产，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论语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《老子》、《孟子》、《庄子》等。这些著述对中华文化曾产生过深远的影响，直到今天仍光芒四射。下面我们就来共同探究学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论语》十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86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572000"/>
            <a:ext cx="8686800" cy="206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掌握常用的文言实词能用现代汉语翻译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理解课文内容，能流畅的朗读、背诵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积累文言文学习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z" descr=""/>
          <p:cNvPicPr/>
          <p:nvPr/>
        </p:nvPicPr>
        <p:blipFill>
          <a:blip r:embed="rId1"/>
          <a:stretch/>
        </p:blipFill>
        <p:spPr>
          <a:xfrm>
            <a:off x="0" y="0"/>
            <a:ext cx="38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990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孔子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1337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孔子（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51-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79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，名丘，字仲尼，鲁国人。中国春秋末期伟大的思想家和教育家，儒家学派的创始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，被尊称为“大成至圣”，联合国教科文组织把他列为世界十大名人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eike" descr=""/>
          <p:cNvPicPr/>
          <p:nvPr/>
        </p:nvPicPr>
        <p:blipFill>
          <a:blip r:embed="rId1"/>
          <a:stretch/>
        </p:blipFill>
        <p:spPr>
          <a:xfrm>
            <a:off x="0" y="0"/>
            <a:ext cx="3382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gate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23623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《论语》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1240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论语》是记录孔子和他的弟子言行的一部书，共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篇，是儒家经典著作之一。体例主要是语录体、对话体、叙事体。内容上以教育为主，从中可以看出孔子和他的弟子们的人格修养、治学态度、处世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atang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632448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21" descr=""/>
          <p:cNvPicPr/>
          <p:nvPr/>
        </p:nvPicPr>
        <p:blipFill>
          <a:blip r:embed="rId2"/>
          <a:stretch/>
        </p:blipFill>
        <p:spPr>
          <a:xfrm>
            <a:off x="0" y="1447920"/>
            <a:ext cx="2819520" cy="4495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1800" y="2438280"/>
            <a:ext cx="61722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指导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结合具体语言环境，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处理好停顿和语速、语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haobi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2193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整体感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200400"/>
            <a:ext cx="6933960" cy="354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不亦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说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乎            学而不思则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罔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思而不学则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殆      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人不知而不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吾日三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省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吾身   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传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不习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诲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女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知之乎            是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知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2666880"/>
            <a:ext cx="1828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正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81080" y="1371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余     忆         童稚            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124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之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876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青云白鹤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286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   回忆    童年幼小   的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038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脖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6019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青云白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572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复习提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752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5812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334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720" y="457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学法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590920"/>
            <a:ext cx="883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就是保留文言文中一些基本词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专有名词。如人名、地名、 国名、朝代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官职名、年号、政区名、典章制度及度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衡名称等，均不必翻译，原样保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就是对译，逐字逐句落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90160" y="1905120"/>
            <a:ext cx="47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2)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换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就是用现代词语替换古代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1:13:05Z</dcterms:created>
  <dc:creator>wutao</dc:creator>
  <dc:description/>
  <dc:language>en-US</dc:language>
  <cp:lastModifiedBy>周璟</cp:lastModifiedBy>
  <dcterms:modified xsi:type="dcterms:W3CDTF">2004-10-28T03:12:05Z</dcterms:modified>
  <cp:revision>100</cp:revision>
  <dc:subject/>
  <dc:title>PowerPoint 演示文稿</dc:title>
</cp:coreProperties>
</file>