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B91-5A97-4C63-8AAF-2AE7C53F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392-C5FB-44CE-9584-7B07126F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32E-8047-48C1-B77E-45C75EC3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A9A-DDC8-4938-8EBD-C3A2B04D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7312-98BD-4161-B05C-CC2DDE5C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A9FD-6884-4DD6-9BC4-FBA4539F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4700-6951-4166-93C6-2DA03585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73CF-6A59-4F6A-9D7F-58C2AC1E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D1E8-5FD4-4EC1-9EBB-72FAC6BC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0C42-E0C3-46AB-AD51-0FB063CA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DEB1-A9B0-4B75-B58B-15999285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EE9-7D2B-4E8A-B053-AC464B84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9116-E181-410C-AFF4-349CCB5A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FC56-C416-414F-8AA9-0F9FA941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8F35-242D-42C5-A4A9-E9F72CD5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1D82-5648-4EAE-92D5-86D99E59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2DB1-1CC9-4FD6-BA26-45C517B5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3F4-5D94-4309-B903-E68DB3E0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871-4159-4377-94DE-09B9B128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CC4-37CF-4A00-B26A-B25A3B21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7DD-3D98-48B8-98CB-C13485F2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747-22C1-41F6-BDCD-231C8FDA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3DEC-319C-4407-B547-A46F55C1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4A3-52AB-4E65-80C2-EA48A21E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C3CF-D96F-457C-A2AD-94CD5332DC2D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1F36-FA82-4991-B80D-84CC6E7E5181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373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名丘   字仲尼    春秋时期鲁国人。 儒家学派创始人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周游列国，主张行仁政 ，以得服人，反对残暴的统治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我国致力于教育事业的第一人，首创私人讲学之风，相传弟子三千，贤者七十二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0" name="pic_3772" descr=""/>
          <p:cNvPicPr/>
          <p:nvPr/>
        </p:nvPicPr>
        <p:blipFill>
          <a:blip r:embed="rId1"/>
          <a:stretch/>
        </p:blipFill>
        <p:spPr>
          <a:xfrm>
            <a:off x="4707000" y="228600"/>
            <a:ext cx="4068720" cy="64008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1752480" y="609480"/>
            <a:ext cx="2667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孔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《论语》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85840" y="251424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方正舒体"/>
              </a:rPr>
              <a:t>记录孔子和他弟子言行的一部书，儒家学派的重要著作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方正舒体"/>
              </a:rPr>
              <a:t>你听说过“半部《论语》治天下”的故事吗？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kz" descr=""/>
          <p:cNvPicPr/>
          <p:nvPr/>
        </p:nvPicPr>
        <p:blipFill>
          <a:blip r:embed="rId1"/>
          <a:stretch/>
        </p:blipFill>
        <p:spPr>
          <a:xfrm>
            <a:off x="762120" y="1452600"/>
            <a:ext cx="27432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SO01862_" descr=""/>
          <p:cNvPicPr/>
          <p:nvPr/>
        </p:nvPicPr>
        <p:blipFill>
          <a:blip r:embed="rId1"/>
          <a:stretch/>
        </p:blipFill>
        <p:spPr>
          <a:xfrm>
            <a:off x="0" y="-533520"/>
            <a:ext cx="9601200" cy="79646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2133720" y="1676520"/>
            <a:ext cx="50292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朗读课文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73785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9966"/>
                </a:solidFill>
                <a:latin typeface="Times New Roman"/>
                <a:ea typeface="方正舒体"/>
              </a:rPr>
              <a:t>易读错的字</a:t>
            </a:r>
            <a:r>
              <a:rPr b="0" lang="zh-CN" sz="6600" spc="-1" strike="noStrike">
                <a:solidFill>
                  <a:srgbClr val="003366"/>
                </a:solidFill>
                <a:latin typeface="Times New Roman"/>
                <a:ea typeface="方正舒体"/>
              </a:rPr>
              <a:t>         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52680" y="1905120"/>
            <a:ext cx="5562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学而时习之，不亦说乎？   （“说” 读 </a:t>
            </a:r>
            <a:r>
              <a:rPr b="1" lang="en-US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yuè  “</a:t>
            </a:r>
            <a:r>
              <a:rPr b="1" lang="zh-CN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悦”的古字，译   为愉快。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吾日三省吾身。                    （“省”读</a:t>
            </a:r>
            <a:r>
              <a:rPr b="1" lang="en-US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xǐng  </a:t>
            </a:r>
            <a:r>
              <a:rPr b="1" lang="zh-CN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译为反省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学而不思则罔，思而不学则殆。（“罔”读</a:t>
            </a:r>
            <a:r>
              <a:rPr b="1" lang="en-US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wǎng   “</a:t>
            </a:r>
            <a:r>
              <a:rPr b="1" lang="zh-CN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殆”读</a:t>
            </a:r>
            <a:r>
              <a:rPr b="1" lang="en-US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d</a:t>
            </a:r>
            <a:r>
              <a:rPr b="1" lang="en-US" sz="2800" spc="-1" strike="noStrike">
                <a:solidFill>
                  <a:srgbClr val="003366"/>
                </a:solidFill>
                <a:latin typeface="zypyyb"/>
                <a:ea typeface="zypyyb"/>
              </a:rPr>
              <a:t>4</a:t>
            </a:r>
            <a:r>
              <a:rPr b="1" lang="en-US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i</a:t>
            </a:r>
            <a:r>
              <a:rPr b="1" lang="en-US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诲女知之乎！知之为知之，不知为不知，是知也。               （“女”读</a:t>
            </a:r>
            <a:r>
              <a:rPr b="1" lang="en-US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rǔ </a:t>
            </a:r>
            <a:r>
              <a:rPr b="1" lang="zh-CN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同“汝”，人称代词，你。  “知”读</a:t>
            </a:r>
            <a:r>
              <a:rPr b="1" lang="en-US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zhì  </a:t>
            </a:r>
            <a:r>
              <a:rPr b="1" lang="zh-CN" sz="2800" spc="-1" strike="noStrike">
                <a:solidFill>
                  <a:srgbClr val="003366"/>
                </a:solidFill>
                <a:latin typeface="方正舒体"/>
                <a:ea typeface="方正舒体"/>
              </a:rPr>
              <a:t>通“智”，译为聪明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9" name="HH01669_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28954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n_ml01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0000"/>
                </a:solidFill>
                <a:latin typeface="Times New Roman"/>
                <a:ea typeface="隶书"/>
              </a:rPr>
              <a:t>文言翻译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华文细黑"/>
              </a:rPr>
              <a:t>步骤：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一    各人思考，尝试翻译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华文新魏"/>
                <a:ea typeface="华文新魏"/>
              </a:rPr>
              <a:t>           </a:t>
            </a:r>
            <a:r>
              <a:rPr b="0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二    四人一组，合作完成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华文新魏"/>
                <a:ea typeface="华文新魏"/>
              </a:rPr>
              <a:t>           </a:t>
            </a:r>
            <a:r>
              <a:rPr b="0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三    提出质疑，共同解决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cc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01" descr=""/>
          <p:cNvPicPr/>
          <p:nvPr/>
        </p:nvPicPr>
        <p:blipFill>
          <a:blip r:embed="rId1"/>
          <a:stretch/>
        </p:blipFill>
        <p:spPr>
          <a:xfrm>
            <a:off x="4097160" y="3479760"/>
            <a:ext cx="5046840" cy="33782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09120" y="2214720"/>
            <a:ext cx="8534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而  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学而时习之        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人不知而不愠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思而不学则殆    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则其善者而从之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其  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其不善者而改之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其恕乎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知  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知之为知之        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是知也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解释下列句子及横线的字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学而</a:t>
            </a:r>
            <a:r>
              <a:rPr b="0" lang="zh-CN" sz="2800" spc="-1" strike="noStrike" u="sng">
                <a:solidFill>
                  <a:srgbClr val="003366"/>
                </a:solidFill>
                <a:uFillTx/>
                <a:latin typeface="Times New Roman"/>
              </a:rPr>
              <a:t>时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习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吾日</a:t>
            </a:r>
            <a:r>
              <a:rPr b="0" lang="zh-CN" sz="2800" spc="-1" strike="noStrike" u="sng">
                <a:solidFill>
                  <a:srgbClr val="003366"/>
                </a:solidFill>
                <a:uFillTx/>
                <a:latin typeface="Times New Roman"/>
              </a:rPr>
              <a:t>三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省吾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）</a:t>
            </a:r>
            <a:r>
              <a:rPr b="0" lang="zh-CN" sz="2800" spc="-1" strike="noStrike" u="sng">
                <a:solidFill>
                  <a:srgbClr val="003366"/>
                </a:solidFill>
                <a:uFillTx/>
                <a:latin typeface="Times New Roman"/>
              </a:rPr>
              <a:t>传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不习乎？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438280" y="609480"/>
            <a:ext cx="38862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反馈练习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7696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）温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故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而知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）学而不思则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罔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，思而不学则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殆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）见贤思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齐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焉，见不贤而内自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省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也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）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择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其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善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者而从之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）士不可以不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弘毅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）己所不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欲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，勿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Times New Roman"/>
              </a:rPr>
              <a:t>施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于人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5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《论语》中的许多内容逐渐演化固定为        成语，请你找出来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304920"/>
            <a:ext cx="4800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反馈练习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08" name="PE01605_" descr=""/>
          <p:cNvPicPr/>
          <p:nvPr/>
        </p:nvPicPr>
        <p:blipFill>
          <a:blip r:embed="rId1"/>
          <a:stretch/>
        </p:blipFill>
        <p:spPr>
          <a:xfrm>
            <a:off x="6159600" y="3276720"/>
            <a:ext cx="29844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n_0036" descr=""/>
          <p:cNvPicPr/>
          <p:nvPr/>
        </p:nvPicPr>
        <p:blipFill>
          <a:blip r:embed="rId1"/>
          <a:stretch/>
        </p:blipFill>
        <p:spPr>
          <a:xfrm>
            <a:off x="-838080" y="-304920"/>
            <a:ext cx="11430000" cy="76057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533520" y="456840"/>
            <a:ext cx="967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ff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ffccff"/>
                </a:solidFill>
                <a:latin typeface="Times New Roman"/>
              </a:rPr>
              <a:t>针对一则《论语》，谈谈你的体会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057040" y="20570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求知态度      认真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谦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取长补短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学习方法      学而时习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温故而知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思与学的结合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修身做人      人不知而不愠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日三省吾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己所不欲  勿施于人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n_ml35" descr=""/>
          <p:cNvPicPr/>
          <p:nvPr/>
        </p:nvPicPr>
        <p:blipFill>
          <a:blip r:embed="rId1"/>
          <a:stretch/>
        </p:blipFill>
        <p:spPr>
          <a:xfrm>
            <a:off x="-685800" y="-533520"/>
            <a:ext cx="10363320" cy="94932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990720" y="22860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华文新魏"/>
                <a:ea typeface="华文新魏"/>
              </a:rPr>
              <a:t>一  “温故章”   有些老师知道世上许多 事情讲起来娓娓动听，这样的老师能算好老师吗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华文新魏"/>
                <a:ea typeface="华文新魏"/>
              </a:rPr>
              <a:t>二   “己所不欲，勿施于人”对吗？怎样理解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523880" y="304920"/>
            <a:ext cx="63248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a50021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探讨问题</a:t>
            </a:r>
            <a:endParaRPr b="0" lang="en-US" sz="2400" spc="1" strike="noStrike">
              <a:ln w="9360">
                <a:solidFill>
                  <a:srgbClr val="003366"/>
                </a:solidFill>
                <a:miter/>
              </a:ln>
              <a:solidFill>
                <a:srgbClr val="a50021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7:30:53Z</dcterms:created>
  <dc:creator>wutao</dc:creator>
  <dc:description/>
  <dc:language>en-US</dc:language>
  <cp:lastModifiedBy>周璟</cp:lastModifiedBy>
  <dcterms:modified xsi:type="dcterms:W3CDTF">2004-10-28T03:20:33Z</dcterms:modified>
  <cp:revision>100</cp:revision>
  <dc:subject/>
  <dc:title>PowerPoint 演示文稿</dc:title>
</cp:coreProperties>
</file>