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7C0-3A34-4333-95A3-7B1D82FE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524-653E-4C71-BCC7-F673736D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C27-2526-4A7B-8A47-A7777A02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3DB-A5E4-4323-9F66-82DD24D2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17F1-E461-495A-9AFE-4464BD0A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BEF8-E3D9-4951-8DD5-F757513D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0CB6-E402-49E1-A021-1E7FCD7A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85D9-BB03-4CE8-8A0B-85117F9A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D79A-3D8A-428F-B74A-9D22A8E6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9362-F525-468E-B0C8-9A1B601E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5F5E-17C6-4759-8962-59BB3F9E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F3D-B81C-4BBA-8BE6-22DC98D1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9668-75E5-4209-B3D3-1BF8B008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259E-4719-41A0-9BDB-C2966028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8406-0E20-4D7A-8613-8FD67954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0F95-8350-48EF-BD95-62086127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F484-1F38-4CBC-A99E-4444F2CA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C065-6003-4643-B8A6-8CF70A47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768-13B4-4F0C-BBA2-98980B46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40B-7D2E-4C64-8BBF-420E947C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EE1-F458-4DA0-A065-0054DB61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38C3-1F65-4DF8-A49F-372178DD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763-07BC-4398-9AEE-3EC6B807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36B3-93E6-48CD-8971-C9066E52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17B2-6BE0-4786-832E-B7006107B0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4A05-5A0C-4374-87A2-7145E2122C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1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228600"/>
            <a:ext cx="4496040" cy="144792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457200"/>
            <a:ext cx="3809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新魏"/>
              </a:rPr>
              <a:t>第二单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2895480"/>
            <a:ext cx="8153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《论语》十则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5013360"/>
            <a:ext cx="28800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孔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067680" cy="74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曾子曰：“士不可以不弘毅，任重而道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仁以为己任，不亦重乎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死而后已，不亦远乎？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《论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泰伯》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362320" y="914400"/>
            <a:ext cx="4876560" cy="228600"/>
            <a:chOff x="2362320" y="914400"/>
            <a:chExt cx="4876560" cy="228600"/>
          </a:xfrm>
        </p:grpSpPr>
        <p:sp>
          <p:nvSpPr>
            <p:cNvPr id="228" name=""/>
            <p:cNvSpPr/>
            <p:nvPr/>
          </p:nvSpPr>
          <p:spPr>
            <a:xfrm>
              <a:off x="6934320" y="9144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62320" y="9144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48320" y="9144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05520" y="9144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19920" y="9144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77120" y="9144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838080" y="2971800"/>
            <a:ext cx="3276720" cy="228600"/>
            <a:chOff x="838080" y="2971800"/>
            <a:chExt cx="3276720" cy="228600"/>
          </a:xfrm>
        </p:grpSpPr>
        <p:sp>
          <p:nvSpPr>
            <p:cNvPr id="235" name=""/>
            <p:cNvSpPr/>
            <p:nvPr/>
          </p:nvSpPr>
          <p:spPr>
            <a:xfrm>
              <a:off x="838080" y="29718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71600" y="29718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86200" y="29718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85800" y="4876920"/>
            <a:ext cx="3352680" cy="228600"/>
            <a:chOff x="685800" y="4876920"/>
            <a:chExt cx="3352680" cy="228600"/>
          </a:xfrm>
        </p:grpSpPr>
        <p:sp>
          <p:nvSpPr>
            <p:cNvPr id="239" name=""/>
            <p:cNvSpPr/>
            <p:nvPr/>
          </p:nvSpPr>
          <p:spPr>
            <a:xfrm>
              <a:off x="685800" y="487692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52480" y="48769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9880" y="48769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33520" y="1219320"/>
            <a:ext cx="34290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有抱负或有特殊社会地位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67080" y="1219320"/>
            <a:ext cx="609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95680" y="1219320"/>
            <a:ext cx="19051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意志坚定果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4120" y="1219320"/>
            <a:ext cx="106668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负荷担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121932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重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3230640"/>
            <a:ext cx="24386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看作，作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33920" y="3230640"/>
            <a:ext cx="6094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518148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停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518148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遥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219320"/>
            <a:ext cx="8153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抱负的人不可以不胸怀宽广，意志坚定，肩负重大使命，路程又很遥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230640"/>
            <a:ext cx="9144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实现“仁”的理想作为自己的使命，不也重要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5181480"/>
            <a:ext cx="43434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死为止，不也很遥远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0880" y="380880"/>
            <a:ext cx="82296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子曰：“岁寒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然后知松柏之后凋也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《论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子罕》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9907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3733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3733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3733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733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1295280"/>
            <a:ext cx="6094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4038480"/>
            <a:ext cx="114300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这样，那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403848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知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4038480"/>
            <a:ext cx="60948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最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91120" y="4038480"/>
            <a:ext cx="60948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凋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1981080"/>
            <a:ext cx="2286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寒冷的冬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5181480"/>
            <a:ext cx="50292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才知道松柏是最后落叶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838080"/>
            <a:ext cx="69343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子贡问曰：“有一言而可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终身行之者乎？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4479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41911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67080" y="1447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1447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29000" y="1752480"/>
            <a:ext cx="14479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一句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6680" y="4495680"/>
            <a:ext cx="10670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奉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5288040"/>
            <a:ext cx="59436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没有一句可以终身奉行的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7524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16002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533520"/>
            <a:ext cx="8458200" cy="61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子曰：“其恕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己所不欲，勿施于人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《论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卫灵公》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11430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11430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38862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38862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38862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14800" y="38862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1447920"/>
            <a:ext cx="14475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概、也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1447920"/>
            <a:ext cx="38098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恕，指儒家的推己及人，仁爱待人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414504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想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414504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4800600"/>
            <a:ext cx="2209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，施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8480" y="4145040"/>
            <a:ext cx="609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41148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5120" y="2620800"/>
            <a:ext cx="3657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概就是“恕”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4145040"/>
            <a:ext cx="70866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不想要的，不要施加在别人身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23760" y="609480"/>
            <a:ext cx="3071880" cy="594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71800" y="457200"/>
            <a:ext cx="60199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孔子（前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551——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前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479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年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孔子是我国历史上伟大的思想家和教育家，也是春秋末期儒家学派的创始人。他在政治上特别强调“仁”，反对苛政。孔子对我国古代教育事业作出了重大的贡献。他开创的私人学堂，注意“因材施教”，主张学习知识要“温故而知新”。孔子的言论，主要记载在《论语》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60280"/>
            <a:ext cx="16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11280" y="260280"/>
            <a:ext cx="8650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320" y="0"/>
            <a:ext cx="8534160" cy="80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子曰：“学而时习之，不亦说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朋自远方来，不亦乐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不知而不愠，不亦君子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《论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学而》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7621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7621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7621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7621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3733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3733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1066680"/>
            <a:ext cx="19051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按一定的时间复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1066680"/>
            <a:ext cx="6094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1066680"/>
            <a:ext cx="190512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悦”的古字，愉快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038480"/>
            <a:ext cx="11430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4038480"/>
            <a:ext cx="22860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气，发怒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3733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3733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4038480"/>
            <a:ext cx="266724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里指道德上有修养的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76212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152280"/>
            <a:ext cx="8153640" cy="73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曾子曰：“吾日三省吾身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人谋而不忠乎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朋友交而不信乎？传不习乎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《论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而》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38280" y="762120"/>
            <a:ext cx="1600200" cy="228600"/>
            <a:chOff x="2438280" y="762120"/>
            <a:chExt cx="1600200" cy="228600"/>
          </a:xfrm>
        </p:grpSpPr>
        <p:sp>
          <p:nvSpPr>
            <p:cNvPr id="109" name=""/>
            <p:cNvSpPr/>
            <p:nvPr/>
          </p:nvSpPr>
          <p:spPr>
            <a:xfrm>
              <a:off x="2438280" y="7621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5480" y="7621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52680" y="7621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09880" y="7621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752480" y="4572000"/>
            <a:ext cx="3886200" cy="228600"/>
            <a:chOff x="1752480" y="4572000"/>
            <a:chExt cx="3886200" cy="228600"/>
          </a:xfrm>
        </p:grpSpPr>
        <p:sp>
          <p:nvSpPr>
            <p:cNvPr id="114" name=""/>
            <p:cNvSpPr/>
            <p:nvPr/>
          </p:nvSpPr>
          <p:spPr>
            <a:xfrm>
              <a:off x="1752480" y="45720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5720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95680" y="45720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10080" y="45720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990720" y="1066680"/>
            <a:ext cx="16761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称代词，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1066680"/>
            <a:ext cx="60948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每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1066680"/>
            <a:ext cx="396252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多次进行自我检查，反省。三，泛指多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3048120"/>
            <a:ext cx="76176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给，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80880" y="2743200"/>
            <a:ext cx="2514600" cy="228600"/>
            <a:chOff x="380880" y="2743200"/>
            <a:chExt cx="2514600" cy="228600"/>
          </a:xfrm>
        </p:grpSpPr>
        <p:sp>
          <p:nvSpPr>
            <p:cNvPr id="123" name=""/>
            <p:cNvSpPr/>
            <p:nvPr/>
          </p:nvSpPr>
          <p:spPr>
            <a:xfrm>
              <a:off x="380880" y="27432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6880" y="27432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27432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990720" y="3048120"/>
            <a:ext cx="121896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谋划，商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3048120"/>
            <a:ext cx="18288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尽心竭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483084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交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876920"/>
            <a:ext cx="121932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真诚，诚实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4846680"/>
            <a:ext cx="1067040" cy="155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老师传授的知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4800600"/>
            <a:ext cx="18288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反复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27432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44956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838080"/>
            <a:ext cx="84582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子曰：“温故而知新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可以         为师矣。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《为政》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1447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447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1911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1911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356544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（之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41911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1706400"/>
            <a:ext cx="10670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温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1706400"/>
            <a:ext cx="31244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旧有的，原来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2392200"/>
            <a:ext cx="80010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温习学过的知识，可得到新的理解与体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44960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可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4449600"/>
            <a:ext cx="11430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凭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4449600"/>
            <a:ext cx="22860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为，当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41911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5791320"/>
            <a:ext cx="39625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yǐ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 “了”，语气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14479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990720"/>
            <a:ext cx="792504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子曰：“学而不思则罔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思而不学则殆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                 —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《论语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为政》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16765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44197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16765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16765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16765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6765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44197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1981080"/>
            <a:ext cx="152388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学习，指读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1981080"/>
            <a:ext cx="114300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思考，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2011320"/>
            <a:ext cx="6094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1981080"/>
            <a:ext cx="358128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迷惑。意思是感到迷茫而无所适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4724280"/>
            <a:ext cx="23619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疑惑，有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124080"/>
            <a:ext cx="8001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只读书而不思考，就会感到迷茫而无所适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5334120"/>
            <a:ext cx="48006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空想而不读书就会有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380880"/>
            <a:ext cx="76960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子曰：“由，诲女知之乎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知之为知之，不知为不知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知也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《论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政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9907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9907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9907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9907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195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28195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46483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46483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1295280"/>
            <a:ext cx="121932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教导，指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2520" y="1295280"/>
            <a:ext cx="274320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同“汝”，人称代词，你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9907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3078000"/>
            <a:ext cx="11430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知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3078000"/>
            <a:ext cx="6858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4952880"/>
            <a:ext cx="9907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此、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6095880"/>
            <a:ext cx="25905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是聪明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4952880"/>
            <a:ext cx="228600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通“智”，聪明，智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95280"/>
            <a:ext cx="57913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给你对待知与不知的态度吧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3078000"/>
            <a:ext cx="74674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就是知道，  不知道就是不知道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228600"/>
            <a:ext cx="80773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子曰：“见贤思齐焉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见不贤而内自省也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         —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《论语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里仁》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388620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4600" y="9144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9144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9144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9144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38862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38862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38862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117324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看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1173240"/>
            <a:ext cx="6094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117324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相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419112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内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191120"/>
            <a:ext cx="53316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自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419112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反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209680" y="1219320"/>
            <a:ext cx="2362320" cy="1754640"/>
            <a:chOff x="2209680" y="1219320"/>
            <a:chExt cx="2362320" cy="1754640"/>
          </a:xfrm>
        </p:grpSpPr>
        <p:sp>
          <p:nvSpPr>
            <p:cNvPr id="200" name=""/>
            <p:cNvSpPr/>
            <p:nvPr/>
          </p:nvSpPr>
          <p:spPr>
            <a:xfrm>
              <a:off x="2209680" y="1905120"/>
              <a:ext cx="2362320" cy="1068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有道德有才能的（人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8120" y="1219320"/>
              <a:ext cx="228600" cy="838080"/>
            </a:xfrm>
            <a:prstGeom prst="downArrow">
              <a:avLst>
                <a:gd name="adj1" fmla="val 50000"/>
                <a:gd name="adj2" fmla="val 91654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280" y="2239920"/>
            <a:ext cx="76964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见到贤人就向他学习，希望能和他一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4800600"/>
            <a:ext cx="7848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看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2280" y="228600"/>
            <a:ext cx="8153640" cy="60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子曰：“三人行，必有我师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择其善者而从之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其不善者而改之。”（《述而》）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09680" y="914400"/>
            <a:ext cx="2286000" cy="228600"/>
            <a:chOff x="2209680" y="914400"/>
            <a:chExt cx="2286000" cy="228600"/>
          </a:xfrm>
        </p:grpSpPr>
        <p:sp>
          <p:nvSpPr>
            <p:cNvPr id="206" name=""/>
            <p:cNvSpPr/>
            <p:nvPr/>
          </p:nvSpPr>
          <p:spPr>
            <a:xfrm>
              <a:off x="2209680" y="9144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00040" y="9144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67080" y="9144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80880" y="3048120"/>
            <a:ext cx="2819160" cy="228600"/>
            <a:chOff x="380880" y="3048120"/>
            <a:chExt cx="2819160" cy="228600"/>
          </a:xfrm>
        </p:grpSpPr>
        <p:sp>
          <p:nvSpPr>
            <p:cNvPr id="210" name=""/>
            <p:cNvSpPr/>
            <p:nvPr/>
          </p:nvSpPr>
          <p:spPr>
            <a:xfrm>
              <a:off x="2438280" y="304812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0880" y="30481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7560" y="30481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04760" y="30481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71440" y="30481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438280" y="5105520"/>
            <a:ext cx="761760" cy="228600"/>
            <a:chOff x="2438280" y="5105520"/>
            <a:chExt cx="761760" cy="228600"/>
          </a:xfrm>
        </p:grpSpPr>
        <p:sp>
          <p:nvSpPr>
            <p:cNvPr id="216" name=""/>
            <p:cNvSpPr/>
            <p:nvPr/>
          </p:nvSpPr>
          <p:spPr>
            <a:xfrm>
              <a:off x="2438280" y="510552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71440" y="51055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52280" y="1173240"/>
            <a:ext cx="27432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三，泛指多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117324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行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117324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352680"/>
            <a:ext cx="129528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，挑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3352680"/>
            <a:ext cx="228600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好的地方，指优点长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28494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跟随，指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5410080"/>
            <a:ext cx="24382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，更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304812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0T08:06:19Z</dcterms:created>
  <dc:creator>wutao</dc:creator>
  <dc:description/>
  <dc:language>en-US</dc:language>
  <cp:lastModifiedBy>bee</cp:lastModifiedBy>
  <dcterms:modified xsi:type="dcterms:W3CDTF">2004-05-01T09:45:21Z</dcterms:modified>
  <cp:revision>100</cp:revision>
  <dc:subject/>
  <dc:title>没有幻灯片标题</dc:title>
</cp:coreProperties>
</file>