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3DB2-1E2E-4DDC-AC9C-D1FDEB809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901D-1B84-4F1F-A3FF-DBB80E60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8A06-4A30-464E-A01E-0CA06D5B9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1E79-8544-427A-A8BC-9116A71B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998E-D8BC-4580-B36B-411E80FC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D769-4889-4BD1-8364-3C8EC3CF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53FC-D87A-45DD-BB58-31A019F7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9DCE-72D6-4829-BDC6-C4AD2135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AFC5-2D9D-46EC-B6A6-066A83E5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E9A6-BF5A-4C6E-879B-75F9B7B8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759F-8055-4BF0-81B0-7025888A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DA27-39E9-4003-8DC3-88D48D0F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E707-5E8A-4B78-9CBF-C6DCEEE43F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4937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749600"/>
            <a:ext cx="571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00000"/>
                </a:solidFill>
                <a:latin typeface="Times New Roman"/>
                <a:ea typeface="隶书"/>
              </a:rPr>
              <a:t>《论语》十则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40240" y="709560"/>
            <a:ext cx="5483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曾子曰：吾日三省吾身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为人谋而不忠乎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与朋友交而不信乎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传不习乎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32080" y="4211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04840" y="3276720"/>
            <a:ext cx="3234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方正姚体"/>
                <a:ea typeface="方正姚体"/>
              </a:rPr>
              <a:t>重视品德修养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方正姚体"/>
                <a:ea typeface="方正姚体"/>
              </a:rPr>
              <a:t>每天自我反省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方正姚体"/>
                <a:ea typeface="方正姚体"/>
              </a:rPr>
              <a:t>    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方正姚体"/>
                <a:ea typeface="方正姚体"/>
              </a:rPr>
              <a:t>是否尽心尽力做事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方正姚体"/>
                <a:ea typeface="方正姚体"/>
              </a:rPr>
              <a:t>    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方正姚体"/>
                <a:ea typeface="方正姚体"/>
              </a:rPr>
              <a:t>是否以真诚交友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方正姚体"/>
                <a:ea typeface="方正姚体"/>
              </a:rPr>
              <a:t>    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方正姚体"/>
                <a:ea typeface="方正姚体"/>
              </a:rPr>
              <a:t>是否认真复习功课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7697" descr=""/>
          <p:cNvPicPr/>
          <p:nvPr/>
        </p:nvPicPr>
        <p:blipFill>
          <a:blip r:embed="rId2"/>
          <a:srcRect l="40862" t="38003" r="0" b="12000"/>
          <a:stretch/>
        </p:blipFill>
        <p:spPr>
          <a:xfrm>
            <a:off x="6705720" y="2819520"/>
            <a:ext cx="2095560" cy="3809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67760" y="457200"/>
            <a:ext cx="53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子曰：“温故而知新，可以为师矣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6680" y="3247920"/>
            <a:ext cx="47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子曰：“学而不思则罔，思而不学则殆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21360" y="4038480"/>
            <a:ext cx="3575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方正姚体"/>
                <a:ea typeface="方正姚体"/>
              </a:rPr>
              <a:t>讨论正确的学习方法</a:t>
            </a:r>
            <a:r>
              <a:rPr b="1" lang="zh-CN" sz="4000" spc="-1" strike="noStrike">
                <a:solidFill>
                  <a:srgbClr val="800000"/>
                </a:solidFill>
                <a:latin typeface="方正姚体"/>
                <a:ea typeface="方正姚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方正姚体"/>
                <a:ea typeface="方正姚体"/>
              </a:rPr>
              <a:t>    </a:t>
            </a:r>
            <a:r>
              <a:rPr b="1" lang="zh-CN" sz="4000" spc="-1" strike="noStrike" u="sng">
                <a:solidFill>
                  <a:srgbClr val="800000"/>
                </a:solidFill>
                <a:uFillTx/>
                <a:latin typeface="方正姚体"/>
                <a:ea typeface="方正姚体"/>
              </a:rPr>
              <a:t>学习与思考相结合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800000"/>
                </a:solidFill>
                <a:uFillTx/>
                <a:latin typeface="方正姚体"/>
                <a:ea typeface="方正姚体"/>
              </a:rPr>
              <a:t>    </a:t>
            </a:r>
            <a:r>
              <a:rPr b="1" lang="zh-CN" sz="4000" spc="-1" strike="noStrike" u="sng">
                <a:solidFill>
                  <a:srgbClr val="800000"/>
                </a:solidFill>
                <a:uFillTx/>
                <a:latin typeface="方正姚体"/>
                <a:ea typeface="方正姚体"/>
              </a:rPr>
              <a:t>才能有所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45320" y="1285920"/>
            <a:ext cx="3059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方正姚体"/>
                <a:ea typeface="方正姚体"/>
              </a:rPr>
              <a:t>正确的学习方法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方正姚体"/>
                <a:ea typeface="方正姚体"/>
              </a:rPr>
              <a:t>       </a:t>
            </a:r>
            <a:r>
              <a:rPr b="1" lang="zh-CN" sz="4000" spc="-1" strike="noStrike" u="sng">
                <a:solidFill>
                  <a:srgbClr val="800000"/>
                </a:solidFill>
                <a:uFillTx/>
                <a:latin typeface="方正姚体"/>
                <a:ea typeface="方正姚体"/>
              </a:rPr>
              <a:t>复习旧知识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方正姚体"/>
                <a:ea typeface="方正姚体"/>
              </a:rPr>
              <a:t>       </a:t>
            </a:r>
            <a:r>
              <a:rPr b="1" lang="zh-CN" sz="4000" spc="-1" strike="noStrike" u="sng">
                <a:solidFill>
                  <a:srgbClr val="800000"/>
                </a:solidFill>
                <a:uFillTx/>
                <a:latin typeface="方正姚体"/>
                <a:ea typeface="方正姚体"/>
              </a:rPr>
              <a:t>触类旁通，举一反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74880" y="154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91760" y="838080"/>
            <a:ext cx="639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子曰：“由，诲汝知之乎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知之为知之，不知为不知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是知也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91960" y="3962520"/>
            <a:ext cx="304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方正姚体"/>
                <a:ea typeface="方正姚体"/>
              </a:rPr>
              <a:t>     </a:t>
            </a:r>
            <a:r>
              <a:rPr b="1" lang="zh-CN" sz="3600" spc="-1" strike="noStrike">
                <a:solidFill>
                  <a:srgbClr val="800000"/>
                </a:solidFill>
                <a:latin typeface="方正姚体"/>
                <a:ea typeface="方正姚体"/>
              </a:rPr>
              <a:t>正确的学习态度</a:t>
            </a:r>
            <a:r>
              <a:rPr b="1" lang="zh-CN" sz="3600" spc="-1" strike="noStrike">
                <a:solidFill>
                  <a:srgbClr val="800000"/>
                </a:solidFill>
                <a:latin typeface="方正姚体"/>
                <a:ea typeface="方正姚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800000"/>
                </a:solidFill>
                <a:uFillTx/>
                <a:latin typeface="方正姚体"/>
                <a:ea typeface="方正姚体"/>
              </a:rPr>
              <a:t>要谦虚，不要不懂装懂。</a:t>
            </a:r>
            <a:r>
              <a:rPr b="1" lang="zh-CN" sz="3600" spc="-1" strike="noStrike">
                <a:solidFill>
                  <a:srgbClr val="800000"/>
                </a:solidFill>
                <a:latin typeface="方正姚体"/>
                <a:ea typeface="方正姚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7692" descr=""/>
          <p:cNvPicPr/>
          <p:nvPr/>
        </p:nvPicPr>
        <p:blipFill>
          <a:blip r:embed="rId2"/>
          <a:srcRect l="2490" t="34001" r="7636" b="13001"/>
          <a:stretch/>
        </p:blipFill>
        <p:spPr>
          <a:xfrm>
            <a:off x="5181480" y="2819520"/>
            <a:ext cx="3962520" cy="2911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26760" y="2133720"/>
            <a:ext cx="495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子曰：三人行，必有我师焉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择其善者而从之，其不善者而改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08360" y="4114800"/>
            <a:ext cx="331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方正姚体"/>
                <a:ea typeface="方正姚体"/>
              </a:rPr>
              <a:t>       </a:t>
            </a:r>
            <a:r>
              <a:rPr b="1" lang="zh-CN" sz="3600" spc="-1" strike="noStrike">
                <a:solidFill>
                  <a:srgbClr val="800000"/>
                </a:solidFill>
                <a:latin typeface="方正姚体"/>
                <a:ea typeface="方正姚体"/>
              </a:rPr>
              <a:t>正确的学习态度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方正姚体"/>
                <a:ea typeface="方正姚体"/>
              </a:rPr>
              <a:t>    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方正姚体"/>
                <a:ea typeface="方正姚体"/>
              </a:rPr>
              <a:t>虚心求教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方正姚体"/>
                <a:ea typeface="方正姚体"/>
              </a:rPr>
              <a:t>,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方正姚体"/>
                <a:ea typeface="方正姚体"/>
              </a:rPr>
              <a:t>取长补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3520" y="533520"/>
            <a:ext cx="5689080" cy="5994360"/>
            <a:chOff x="533520" y="533520"/>
            <a:chExt cx="5689080" cy="5994360"/>
          </a:xfrm>
        </p:grpSpPr>
        <p:sp>
          <p:nvSpPr>
            <p:cNvPr id="101" name=""/>
            <p:cNvSpPr/>
            <p:nvPr/>
          </p:nvSpPr>
          <p:spPr>
            <a:xfrm>
              <a:off x="2143800" y="533520"/>
              <a:ext cx="407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  <a:ea typeface="隶书"/>
                </a:rPr>
                <a:t>子曰：“见贤思齐焉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  <a:ea typeface="隶书"/>
                </a:rPr>
                <a:t>            </a:t>
              </a: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  <a:ea typeface="隶书"/>
                </a:rPr>
                <a:t>见不贤而内自省也。”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7703" descr=""/>
            <p:cNvPicPr/>
            <p:nvPr/>
          </p:nvPicPr>
          <p:blipFill>
            <a:blip r:embed="rId2"/>
            <a:srcRect l="0" t="50002" r="20000" b="25001"/>
            <a:stretch/>
          </p:blipFill>
          <p:spPr>
            <a:xfrm>
              <a:off x="533520" y="3657600"/>
              <a:ext cx="3124080" cy="2870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090520" y="609480"/>
            <a:ext cx="451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曾子曰：“士不可以不弘毅，任重而道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仁以为已任，不亦重乎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死而后已，不亦远乎？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74520" y="3384720"/>
            <a:ext cx="2527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方正姚体"/>
              </a:rPr>
              <a:t>思想品德修养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800000"/>
                </a:solidFill>
                <a:uFillTx/>
                <a:latin typeface="Times New Roman"/>
                <a:ea typeface="方正姚体"/>
              </a:rPr>
              <a:t>为理想而奋斗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800000"/>
                </a:solidFill>
                <a:uFillTx/>
                <a:latin typeface="Times New Roman"/>
                <a:ea typeface="方正姚体"/>
              </a:rPr>
              <a:t>任重道远，死而后已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7704" descr=""/>
          <p:cNvPicPr/>
          <p:nvPr/>
        </p:nvPicPr>
        <p:blipFill>
          <a:blip r:embed="rId2"/>
          <a:srcRect l="0" t="61001" r="9251" b="0"/>
          <a:stretch/>
        </p:blipFill>
        <p:spPr>
          <a:xfrm>
            <a:off x="6019920" y="34290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8380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子贡问曰：“有一言而可以终身行之者乎？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子曰：“其恕乎！已所不欲，勿施于人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03120" y="3886200"/>
            <a:ext cx="2527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方正姚体"/>
              </a:rPr>
              <a:t>思想品德修养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800000"/>
                </a:solidFill>
                <a:uFillTx/>
                <a:latin typeface="Times New Roman"/>
                <a:ea typeface="方正姚体"/>
              </a:rPr>
              <a:t>已所不欲，勿施于人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kouzixiang" descr=""/>
          <p:cNvPicPr/>
          <p:nvPr/>
        </p:nvPicPr>
        <p:blipFill>
          <a:blip r:embed="rId2"/>
          <a:stretch/>
        </p:blipFill>
        <p:spPr>
          <a:xfrm>
            <a:off x="6477120" y="3200400"/>
            <a:ext cx="2209680" cy="2793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松柏1" descr=""/>
          <p:cNvPicPr/>
          <p:nvPr/>
        </p:nvPicPr>
        <p:blipFill>
          <a:blip r:embed="rId2"/>
          <a:stretch/>
        </p:blipFill>
        <p:spPr>
          <a:xfrm>
            <a:off x="6019920" y="2362320"/>
            <a:ext cx="3047760" cy="3270240"/>
          </a:xfrm>
          <a:prstGeom prst="rect">
            <a:avLst/>
          </a:prstGeom>
          <a:ln w="0">
            <a:noFill/>
          </a:ln>
        </p:spPr>
      </p:pic>
      <p:pic>
        <p:nvPicPr>
          <p:cNvPr id="110" name="meihua111" descr=""/>
          <p:cNvPicPr/>
          <p:nvPr/>
        </p:nvPicPr>
        <p:blipFill>
          <a:blip r:embed="rId3"/>
          <a:srcRect l="11765" t="3206" r="11765" b="8557"/>
          <a:stretch/>
        </p:blipFill>
        <p:spPr>
          <a:xfrm>
            <a:off x="76320" y="2286000"/>
            <a:ext cx="3657600" cy="3733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038960" y="60199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隶书"/>
              </a:rPr>
              <a:t>梅花香自苦寒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68080" y="5562720"/>
            <a:ext cx="16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隶书"/>
              </a:rPr>
              <a:t>大雪压青松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隶书"/>
              </a:rPr>
              <a:t>青松挺且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6640" y="2766960"/>
            <a:ext cx="1552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经历磨难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培养意志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成就大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155240" y="96840"/>
            <a:ext cx="6481800" cy="1940760"/>
            <a:chOff x="1155240" y="96840"/>
            <a:chExt cx="6481800" cy="1940760"/>
          </a:xfrm>
        </p:grpSpPr>
        <p:sp>
          <p:nvSpPr>
            <p:cNvPr id="115" name=""/>
            <p:cNvSpPr/>
            <p:nvPr/>
          </p:nvSpPr>
          <p:spPr>
            <a:xfrm>
              <a:off x="1965240" y="968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1155240" y="419040"/>
              <a:ext cx="6481800" cy="1618560"/>
              <a:chOff x="1155240" y="419040"/>
              <a:chExt cx="6481800" cy="1618560"/>
            </a:xfrm>
          </p:grpSpPr>
          <p:sp>
            <p:nvSpPr>
              <p:cNvPr id="117" name=""/>
              <p:cNvSpPr/>
              <p:nvPr/>
            </p:nvSpPr>
            <p:spPr>
              <a:xfrm>
                <a:off x="1969920" y="1334160"/>
                <a:ext cx="5667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800000"/>
                    </a:solidFill>
                    <a:latin typeface="Times New Roman"/>
                    <a:ea typeface="隶书"/>
                  </a:rPr>
                  <a:t>子曰：“岁寒，然后知松柏之后凋也。”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155240" y="419040"/>
                <a:ext cx="2959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800000"/>
                    </a:solidFill>
                    <a:latin typeface="Times New Roman"/>
                    <a:ea typeface="隶书"/>
                  </a:rPr>
                  <a:t>       </a:t>
                </a:r>
                <a:r>
                  <a:rPr b="1" lang="zh-CN" sz="3200" spc="-1" strike="noStrike">
                    <a:solidFill>
                      <a:srgbClr val="800000"/>
                    </a:solidFill>
                    <a:latin typeface="Times New Roman"/>
                    <a:ea typeface="隶书"/>
                  </a:rPr>
                  <a:t>课堂讨论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591360" y="279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Times New Roman"/>
                <a:ea typeface="华文细黑"/>
              </a:rPr>
              <a:t>分类整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37840" y="990720"/>
            <a:ext cx="2741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3333ff"/>
                </a:solidFill>
                <a:latin typeface="隶书"/>
                <a:ea typeface="隶书"/>
              </a:rPr>
              <a:t>、作家作品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800000"/>
                </a:solidFill>
                <a:latin typeface="隶书"/>
                <a:ea typeface="隶书"/>
              </a:rPr>
              <a:t>孔子—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800000"/>
                </a:solidFill>
                <a:latin typeface="隶书"/>
                <a:ea typeface="隶书"/>
              </a:rPr>
              <a:t>《论语》—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29120" y="2971800"/>
            <a:ext cx="3350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3333ff"/>
                </a:solidFill>
                <a:latin typeface="隶书"/>
                <a:ea typeface="隶书"/>
              </a:rPr>
              <a:t>、名言警句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800000"/>
                </a:solidFill>
                <a:latin typeface="隶书"/>
                <a:ea typeface="隶书"/>
              </a:rPr>
              <a:t>用于学习态度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800000"/>
                </a:solidFill>
                <a:latin typeface="隶书"/>
                <a:ea typeface="隶书"/>
              </a:rPr>
              <a:t>用于学习方法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800000"/>
                </a:solidFill>
                <a:latin typeface="隶书"/>
                <a:ea typeface="隶书"/>
              </a:rPr>
              <a:t>用于品德修养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13560" y="5775480"/>
            <a:ext cx="84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隶书"/>
                <a:ea typeface="隶书"/>
              </a:rPr>
              <a:t>3</a:t>
            </a:r>
            <a:r>
              <a:rPr b="1" lang="zh-CN" sz="4000" spc="-1" strike="noStrike">
                <a:solidFill>
                  <a:srgbClr val="3333ff"/>
                </a:solidFill>
                <a:latin typeface="隶书"/>
                <a:ea typeface="隶书"/>
              </a:rPr>
              <a:t>、难句翻译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644840" y="1295280"/>
            <a:ext cx="131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你喜欢哪一则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40120" y="2362320"/>
            <a:ext cx="131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你觉得哪一则对你启发最大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4040" y="4495680"/>
            <a:ext cx="552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你还知道哪些指导我们如何学习的名言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28920" y="304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讨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75440" y="56386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14240" y="3429000"/>
            <a:ext cx="44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你觉得怎样才能真正学到知识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363760" y="4334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一文言文翻译的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-4804200" y="1066680"/>
            <a:ext cx="1170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1“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信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　　　　　　　　　　　　　　　（忠实于原文，字字落实，句句落实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　　　　　　　不随意增减。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4634280" y="3124080"/>
            <a:ext cx="11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2“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达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　　　　　　　　　　　　　　（表意明确，语言通畅，语气不走样。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-11787120" y="4572000"/>
            <a:ext cx="2660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3“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雅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　　　　　　　　　　　　　　　　（用简明、优美，富有文采的现代汉语把　　　　　　　　　　　　　　　　　　　原文的内容、形式和风格准确地表达出来。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孔子" descr=""/>
          <p:cNvPicPr/>
          <p:nvPr/>
        </p:nvPicPr>
        <p:blipFill>
          <a:blip r:embed="rId2"/>
          <a:srcRect l="1757" t="3331" r="5270" b="3331"/>
          <a:stretch/>
        </p:blipFill>
        <p:spPr>
          <a:xfrm>
            <a:off x="4800600" y="228600"/>
            <a:ext cx="4038480" cy="6400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914400"/>
            <a:ext cx="441972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黑体"/>
              </a:rPr>
              <a:t>孔子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黑体"/>
              </a:rPr>
              <a:t>(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黑体"/>
              </a:rPr>
              <a:t>前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黑体"/>
              </a:rPr>
              <a:t>551~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黑体"/>
              </a:rPr>
              <a:t>前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黑体"/>
              </a:rPr>
              <a:t>479)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黑体"/>
              </a:rPr>
              <a:t>我国古代伟大的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Times New Roman"/>
                <a:ea typeface="黑体"/>
              </a:rPr>
              <a:t>思想家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黑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66"/>
                </a:solidFill>
                <a:uFillTx/>
                <a:latin typeface="Times New Roman"/>
                <a:ea typeface="黑体"/>
              </a:rPr>
              <a:t>教育家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Times New Roman"/>
                <a:ea typeface="黑体"/>
              </a:rPr>
              <a:t>儒家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黑体"/>
              </a:rPr>
              <a:t>学派的创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黑体"/>
              </a:rPr>
              <a:t>人，被誉为“万世师表”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黑体"/>
              </a:rPr>
              <a:t>千古圣人”，世界十大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黑体"/>
              </a:rPr>
              <a:t>想家之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409480" y="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文言文九字翻译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64840" y="609480"/>
            <a:ext cx="74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1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留（专有名词，人名等照译。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38720" y="1143000"/>
            <a:ext cx="49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2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补（补出省略成分，如主语，宾语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90080" y="1676520"/>
            <a:ext cx="32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3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删（删去不译的词语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81520" y="2362320"/>
            <a:ext cx="353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4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换（把古词换成现代词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90080" y="3048120"/>
            <a:ext cx="32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5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调（调整倒装句句序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14680" y="3657600"/>
            <a:ext cx="49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6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选（根据上下文，选用恰当的词义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25960" y="434340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7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译（译出实词、虚词、活用的词帮通假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72960" y="5029200"/>
            <a:ext cx="381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8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固（固定格式的固定译法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67680" y="5667480"/>
            <a:ext cx="310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9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意译（文言文中的比喻、借代、引申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直译不通，用意译）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443800" y="657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32440" y="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关于</a:t>
            </a:r>
            <a:r>
              <a:rPr b="0" lang="zh-CN" sz="4800" spc="-1" strike="noStrike">
                <a:solidFill>
                  <a:srgbClr val="660066"/>
                </a:solidFill>
                <a:latin typeface="Times New Roman"/>
              </a:rPr>
              <a:t>孔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23280" y="1160640"/>
            <a:ext cx="4776840" cy="56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66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孔子对鬼神宗教迷信活动采取存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态度，首创私人讲学之风，主张“有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无类”，因材施教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注重“学”“思”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合，其理论从修身齐家，到治国平天下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政治、经济、军事、伦理、教育，几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无所不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27960" y="6338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86440" y="990720"/>
            <a:ext cx="530136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660066"/>
                </a:solidFill>
                <a:latin typeface="Times New Roman"/>
              </a:rPr>
              <a:t>　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《论语》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属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语录体散文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，是孔子弟子及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再传弟子关于孔子言行的记录，共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篇 。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容有孔子谈话，答弟子问及弟子间的相互讨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它是研究孔子思想的主要依据。南宋时，朱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把它列为“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四书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”之一，成为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儒家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的重要经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宋朝宰相赵普曾赞颂说“半部《论语》治天下”。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51640" y="649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352680" y="0"/>
            <a:ext cx="1828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《论语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60880" y="588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53" name="7a-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907280" y="192240"/>
              <a:ext cx="51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00"/>
                  </a:solidFill>
                  <a:latin typeface="Times New Roman"/>
                  <a:ea typeface="隶书"/>
                </a:rPr>
                <a:t>相传孔子出生地</a:t>
              </a:r>
              <a:r>
                <a:rPr b="1" lang="zh-CN" sz="3600" spc="-1" strike="noStrike">
                  <a:solidFill>
                    <a:srgbClr val="800000"/>
                  </a:solidFill>
                  <a:latin typeface="Times New Roman"/>
                  <a:ea typeface="隶书"/>
                </a:rPr>
                <a:t>----</a:t>
              </a:r>
              <a:r>
                <a:rPr b="1" lang="zh-CN" sz="3600" spc="-1" strike="noStrike">
                  <a:solidFill>
                    <a:srgbClr val="800000"/>
                  </a:solidFill>
                  <a:latin typeface="Times New Roman"/>
                  <a:ea typeface="隶书"/>
                </a:rPr>
                <a:t>山东曲阜尼山全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孔府" descr=""/>
          <p:cNvPicPr/>
          <p:nvPr/>
        </p:nvPicPr>
        <p:blipFill>
          <a:blip r:embed="rId2"/>
          <a:stretch/>
        </p:blipFill>
        <p:spPr>
          <a:xfrm>
            <a:off x="3505320" y="228600"/>
            <a:ext cx="2514600" cy="2362320"/>
          </a:xfrm>
          <a:prstGeom prst="rect">
            <a:avLst/>
          </a:prstGeom>
          <a:ln w="0">
            <a:noFill/>
          </a:ln>
        </p:spPr>
      </p:pic>
      <p:pic>
        <p:nvPicPr>
          <p:cNvPr id="56" name="二堂内景" descr=""/>
          <p:cNvPicPr/>
          <p:nvPr/>
        </p:nvPicPr>
        <p:blipFill>
          <a:blip r:embed="rId3"/>
          <a:stretch/>
        </p:blipFill>
        <p:spPr>
          <a:xfrm>
            <a:off x="6477120" y="22860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57" name="后堂楼内景" descr=""/>
          <p:cNvPicPr/>
          <p:nvPr/>
        </p:nvPicPr>
        <p:blipFill>
          <a:blip r:embed="rId4"/>
          <a:stretch/>
        </p:blipFill>
        <p:spPr>
          <a:xfrm>
            <a:off x="6553080" y="3733920"/>
            <a:ext cx="2362320" cy="2057400"/>
          </a:xfrm>
          <a:prstGeom prst="rect">
            <a:avLst/>
          </a:prstGeom>
          <a:ln w="0">
            <a:noFill/>
          </a:ln>
        </p:spPr>
      </p:pic>
      <p:pic>
        <p:nvPicPr>
          <p:cNvPr id="58" name="三堂内景" descr=""/>
          <p:cNvPicPr/>
          <p:nvPr/>
        </p:nvPicPr>
        <p:blipFill>
          <a:blip r:embed="rId5"/>
          <a:stretch/>
        </p:blipFill>
        <p:spPr>
          <a:xfrm>
            <a:off x="3581280" y="373392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59" name="孔府" descr=""/>
          <p:cNvPicPr/>
          <p:nvPr/>
        </p:nvPicPr>
        <p:blipFill>
          <a:blip r:embed="rId6"/>
          <a:stretch/>
        </p:blipFill>
        <p:spPr>
          <a:xfrm>
            <a:off x="152280" y="1905120"/>
            <a:ext cx="3276720" cy="4343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38098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隶书"/>
              </a:rPr>
              <a:t> 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隶书"/>
              </a:rPr>
              <a:t>孔府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孔子嫡系子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居住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27640" y="27432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孔府一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55360" y="2743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二堂内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36200" y="606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三堂内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43680" y="60642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后堂楼内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35800" y="61405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圣府大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79920" y="762120"/>
            <a:ext cx="21009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隶书"/>
              </a:rPr>
              <a:t>孔庙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祭祀孔子的地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孔子庙" descr=""/>
          <p:cNvPicPr/>
          <p:nvPr/>
        </p:nvPicPr>
        <p:blipFill>
          <a:blip r:embed="rId2"/>
          <a:stretch/>
        </p:blipFill>
        <p:spPr>
          <a:xfrm>
            <a:off x="457200" y="2438280"/>
            <a:ext cx="3048120" cy="3200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932800" y="4600440"/>
            <a:ext cx="210096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隶书"/>
              </a:rPr>
              <a:t>孔林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是孔子及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家族的专用墓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孔林1" descr=""/>
          <p:cNvPicPr/>
          <p:nvPr/>
        </p:nvPicPr>
        <p:blipFill>
          <a:blip r:embed="rId3"/>
          <a:stretch/>
        </p:blipFill>
        <p:spPr>
          <a:xfrm>
            <a:off x="5334120" y="1371600"/>
            <a:ext cx="2438280" cy="2819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040120" y="380880"/>
            <a:ext cx="48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隶书"/>
                <a:ea typeface="隶书"/>
              </a:rPr>
              <a:t>把下列各句译成现代汉语，并解释红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隶书"/>
                <a:ea typeface="隶书"/>
              </a:rPr>
              <a:t>词语的意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523880"/>
            <a:ext cx="5486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1</a:t>
            </a: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、学而时习之，不亦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说</a:t>
            </a: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乎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、吾日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三省</a:t>
            </a: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吾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3</a:t>
            </a: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、温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故</a:t>
            </a: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而知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4</a:t>
            </a: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、学而不思则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罔</a:t>
            </a: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，思而不学则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殆</a:t>
            </a: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5</a:t>
            </a: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、士不可以不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弘毅</a:t>
            </a: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6</a:t>
            </a: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、已所不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欲</a:t>
            </a:r>
            <a:r>
              <a:rPr b="0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，</a:t>
            </a: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勿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施</a:t>
            </a: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于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7</a:t>
            </a: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、诲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女</a:t>
            </a: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知之乎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8</a:t>
            </a: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、是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知</a:t>
            </a: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固定句式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:“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不亦……乎？”译作“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也是……吗？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固定句式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:“……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也”译作“……是…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803560" y="1371600"/>
            <a:ext cx="3056400" cy="4178160"/>
            <a:chOff x="5803560" y="1371600"/>
            <a:chExt cx="3056400" cy="4178160"/>
          </a:xfrm>
        </p:grpSpPr>
        <p:grpSp>
          <p:nvGrpSpPr>
            <p:cNvPr id="73" name=""/>
            <p:cNvGrpSpPr/>
            <p:nvPr/>
          </p:nvGrpSpPr>
          <p:grpSpPr>
            <a:xfrm>
              <a:off x="5803560" y="1371600"/>
              <a:ext cx="3056400" cy="3936960"/>
              <a:chOff x="5803560" y="1371600"/>
              <a:chExt cx="3056400" cy="3936960"/>
            </a:xfrm>
          </p:grpSpPr>
          <p:sp>
            <p:nvSpPr>
              <p:cNvPr id="74" name=""/>
              <p:cNvSpPr/>
              <p:nvPr/>
            </p:nvSpPr>
            <p:spPr>
              <a:xfrm>
                <a:off x="5803560" y="1371600"/>
                <a:ext cx="2521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Times New Roman"/>
                  </a:rPr>
                  <a:t>（“说”通“悦”，愉快）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178680" y="1843200"/>
                <a:ext cx="2247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Times New Roman"/>
                  </a:rPr>
                  <a:t>         </a:t>
                </a:r>
                <a:r>
                  <a:rPr b="1" lang="zh-CN" sz="2800" spc="-1" strike="noStrike">
                    <a:solidFill>
                      <a:srgbClr val="3333cc"/>
                    </a:solidFill>
                    <a:latin typeface="Times New Roman"/>
                  </a:rPr>
                  <a:t>（多次反省）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546240" y="2397240"/>
                <a:ext cx="21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Times New Roman"/>
                  </a:rPr>
                  <a:t>     </a:t>
                </a:r>
                <a:r>
                  <a:rPr b="1" lang="zh-CN" sz="2800" spc="-1" strike="noStrike">
                    <a:solidFill>
                      <a:srgbClr val="3333cc"/>
                    </a:solidFill>
                    <a:latin typeface="Times New Roman"/>
                  </a:rPr>
                  <a:t>（学过的知识）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969600" y="2895480"/>
                <a:ext cx="1767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Times New Roman"/>
                  </a:rPr>
                  <a:t>（迷惑； 有害）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738120" y="3429000"/>
                <a:ext cx="1808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Times New Roman"/>
                  </a:rPr>
                  <a:t>（强毅</a:t>
                </a:r>
                <a:r>
                  <a:rPr b="1" lang="zh-CN" sz="2800" spc="-1" strike="noStrike">
                    <a:solidFill>
                      <a:srgbClr val="3333cc"/>
                    </a:solidFill>
                    <a:latin typeface="Times New Roman"/>
                  </a:rPr>
                  <a:t>, </a:t>
                </a:r>
                <a:r>
                  <a:rPr b="1" lang="zh-CN" sz="2800" spc="-1" strike="noStrike">
                    <a:solidFill>
                      <a:srgbClr val="3333cc"/>
                    </a:solidFill>
                    <a:latin typeface="Times New Roman"/>
                  </a:rPr>
                  <a:t>刚强）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385680" y="3962520"/>
                <a:ext cx="247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Times New Roman"/>
                  </a:rPr>
                  <a:t>      </a:t>
                </a:r>
                <a:r>
                  <a:rPr b="1" lang="zh-CN" sz="2800" spc="-1" strike="noStrike">
                    <a:solidFill>
                      <a:srgbClr val="3333cc"/>
                    </a:solidFill>
                    <a:latin typeface="Times New Roman"/>
                  </a:rPr>
                  <a:t>（想；     施加）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95880" y="48513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6476760" y="4495680"/>
              <a:ext cx="230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（“女”通“汝”，你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244920" y="5029200"/>
              <a:ext cx="252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（“知”通“智”，聪明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90040" y="785880"/>
            <a:ext cx="6093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子曰：学而时习之，不亦说乎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有朋自远方来，不亦乐乎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人不知而不愠，不亦君子乎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7720" y="3505320"/>
            <a:ext cx="363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方正姚体"/>
                <a:ea typeface="方正姚体"/>
              </a:rPr>
              <a:t>学习方法、乐趣与个人修养</a:t>
            </a:r>
            <a:r>
              <a:rPr b="1" lang="zh-CN" sz="3600" spc="-1" strike="noStrike">
                <a:solidFill>
                  <a:srgbClr val="800000"/>
                </a:solidFill>
                <a:latin typeface="方正姚体"/>
                <a:ea typeface="方正姚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800000"/>
                </a:solidFill>
                <a:uFillTx/>
                <a:latin typeface="方正姚体"/>
                <a:ea typeface="方正姚体"/>
              </a:rPr>
              <a:t>学习再学习，学习之乐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方正姚体"/>
                <a:ea typeface="方正姚体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800000"/>
                </a:solidFill>
                <a:uFillTx/>
                <a:latin typeface="方正姚体"/>
                <a:ea typeface="方正姚体"/>
              </a:rPr>
              <a:t>与朋友切磋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方正姚体"/>
                <a:ea typeface="方正姚体"/>
              </a:rPr>
              <a:t>,   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方正姚体"/>
                <a:ea typeface="方正姚体"/>
              </a:rPr>
              <a:t>人生之乐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800000"/>
                </a:solidFill>
                <a:uFillTx/>
                <a:latin typeface="方正姚体"/>
                <a:ea typeface="方正姚体"/>
              </a:rPr>
              <a:t>要自求长进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方正姚体"/>
                <a:ea typeface="方正姚体"/>
              </a:rPr>
              <a:t>,   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方正姚体"/>
                <a:ea typeface="方正姚体"/>
              </a:rPr>
              <a:t>提高修养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方正姚体"/>
                <a:ea typeface="方正姚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7690" descr=""/>
          <p:cNvPicPr/>
          <p:nvPr/>
        </p:nvPicPr>
        <p:blipFill>
          <a:blip r:embed="rId2"/>
          <a:srcRect l="0" t="43001" r="0" b="4998"/>
          <a:stretch/>
        </p:blipFill>
        <p:spPr>
          <a:xfrm>
            <a:off x="6000840" y="3276720"/>
            <a:ext cx="2914560" cy="3504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09:44:13Z</dcterms:created>
  <dc:creator>wutao</dc:creator>
  <dc:description/>
  <dc:language>en-US</dc:language>
  <cp:lastModifiedBy>xion</cp:lastModifiedBy>
  <dcterms:modified xsi:type="dcterms:W3CDTF">2003-09-28T13:55:51Z</dcterms:modified>
  <cp:revision>100</cp:revision>
  <dc:subject/>
  <dc:title>PowerPoint 演示文稿</dc:title>
</cp:coreProperties>
</file>