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camera.wav" ContentType="audio/x-wav"/>
  <Override PartName="/ppt/media/image2.jpeg" ContentType="image/jpeg"/>
  <Override PartName="/ppt/media/image4.jpeg" ContentType="image/jpeg"/>
  <Override PartName="/ppt/media/image5.jpeg" ContentType="image/jpeg"/>
  <Override PartName="/ppt/media/typ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DC2A-D8C1-4A5A-A051-2326FDF0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6B24-9C74-4CF3-8923-64A83163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A13A-18DB-4817-A8DD-B4DFC9F9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6518-EFF6-4EB0-9209-75DAEB73A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AE2E-B4B1-4591-9FAF-654FB992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273D-9213-47ED-955F-ADF79EC9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3235-B070-4B89-91C9-9B8C0DC3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F0CF-C983-4FAE-814F-74D4597B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454A-2309-4FCF-8274-BA00E8A1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7D7E-08BC-4A7C-AA5F-4C7BC03D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876E-4F7E-4B3B-875B-9D9524C0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7EFC-FCA2-499A-BCE2-433A3D4B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881D-08BD-49A6-9842-F50A32C6CD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3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8.xml"/><Relationship Id="rId19" Type="http://schemas.openxmlformats.org/officeDocument/2006/relationships/slide" Target="slide20.xml"/><Relationship Id="rId20" Type="http://schemas.openxmlformats.org/officeDocument/2006/relationships/slide" Target="slide23.xml"/><Relationship Id="rId2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3880" y="2438280"/>
            <a:ext cx="6115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方正舒体"/>
              </a:rPr>
              <a:t>《论语》十则</a:t>
            </a:r>
            <a:endParaRPr b="1" lang="en-US" sz="80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方正舒体"/>
              <a:ea typeface="方正舒体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0880" y="609480"/>
            <a:ext cx="11452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隶书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曾子曰：“</a:t>
            </a:r>
            <a:r>
              <a:rPr b="1" lang="zh-CN" sz="2800" spc="-1" strike="noStrike" u="sng">
                <a:solidFill>
                  <a:srgbClr val="800080"/>
                </a:solidFill>
                <a:uFillTx/>
                <a:latin typeface="黑体"/>
                <a:ea typeface="黑体"/>
              </a:rPr>
              <a:t>吾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黑体"/>
                <a:ea typeface="黑体"/>
              </a:rPr>
              <a:t>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吾身；为人谋而不</a:t>
            </a:r>
            <a:r>
              <a:rPr b="1" lang="zh-CN" sz="2800" spc="-1" strike="noStrike" u="sng">
                <a:solidFill>
                  <a:srgbClr val="800080"/>
                </a:solidFill>
                <a:uFillTx/>
                <a:latin typeface="黑体"/>
                <a:ea typeface="黑体"/>
              </a:rPr>
              <a:t>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乎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朋友交而不</a:t>
            </a:r>
            <a:r>
              <a:rPr b="1" lang="zh-CN" sz="2800" spc="-1" strike="noStrike" u="sng">
                <a:solidFill>
                  <a:srgbClr val="800080"/>
                </a:solidFill>
                <a:uFillTx/>
                <a:latin typeface="黑体"/>
                <a:ea typeface="黑体"/>
              </a:rPr>
              <a:t>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乎？</a:t>
            </a:r>
            <a:r>
              <a:rPr b="1" lang="zh-CN" sz="2800" spc="-1" strike="noStrike" u="sng">
                <a:solidFill>
                  <a:srgbClr val="800080"/>
                </a:solidFill>
                <a:uFillTx/>
                <a:latin typeface="黑体"/>
                <a:ea typeface="黑体"/>
              </a:rPr>
              <a:t>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习乎？”（《学而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1560" y="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09200" y="1219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每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多次地反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5400" y="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尽心竭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819520"/>
            <a:ext cx="19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诚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15080" y="2819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老师传授的学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49440" y="5229360"/>
            <a:ext cx="122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理解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讨论学习、为人态度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47242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47600" y="5877000"/>
            <a:ext cx="43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忠”、“信”为“传习”之本，重视品德修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505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曾子说：“我每天多次地反省自己：替别人办事是不是尽心竭力呢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跟朋友往来是不是诚实呢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老师传授的学业是不是复习过呢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33520"/>
            <a:ext cx="114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隶书"/>
              </a:rPr>
              <a:t>3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曰：“温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黑体"/>
                <a:ea typeface="黑体"/>
              </a:rPr>
              <a:t>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黑体"/>
                <a:ea typeface="黑体"/>
              </a:rPr>
              <a:t>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，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黑体"/>
                <a:ea typeface="黑体"/>
              </a:rPr>
              <a:t>可以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黑体"/>
                <a:ea typeface="黑体"/>
              </a:rPr>
              <a:t>之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黑体"/>
                <a:ea typeface="黑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师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黑体"/>
                <a:ea typeface="黑体"/>
              </a:rPr>
              <a:t>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76080" y="10666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旧的（知识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14120" y="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领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1066680"/>
            <a:ext cx="9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可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0360" y="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94760" y="1143000"/>
            <a:ext cx="9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（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这一点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246360" y="12193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48520" y="5943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badi MT Condensed Light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571680"/>
            <a:ext cx="77724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05880" y="3429000"/>
            <a:ext cx="298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理解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讨论正确的学习方法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7242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22280" y="5229360"/>
            <a:ext cx="23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常复旧课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领悟新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1828800"/>
            <a:ext cx="800100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孔子说：“在温习旧知识后，能有新体会、新发现，凭这一点就可以当老师了。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914400"/>
            <a:ext cx="83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曰：“学而不思则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黑体"/>
                <a:ea typeface="黑体"/>
              </a:rPr>
              <a:t>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思而不学则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黑体"/>
                <a:ea typeface="黑体"/>
              </a:rPr>
              <a:t>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00080" y="1579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迷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68520" y="1523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有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25240" y="457200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理解：讨论正确的学习方法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269120" y="49528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99360" y="58561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44640" y="54100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学习与思考相结合，方能有所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72200" y="5943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24382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  <a:ea typeface="黑体"/>
              </a:rPr>
              <a:t>孔子说：“只读书却不思考，就会迷惑而无所得；只是空想却不读书，就有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47600" y="685800"/>
            <a:ext cx="5811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: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，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黑体"/>
                <a:ea typeface="黑体"/>
              </a:rPr>
              <a:t>诲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黑体"/>
                <a:ea typeface="黑体"/>
              </a:rPr>
              <a:t>女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黑体"/>
                <a:ea typeface="黑体"/>
              </a:rPr>
              <a:t>知之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知之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黑体"/>
                <a:ea typeface="黑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知之，不知为不知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黑体"/>
                <a:ea typeface="黑体"/>
              </a:rPr>
              <a:t>是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黑体"/>
                <a:ea typeface="黑体"/>
              </a:rPr>
              <a:t>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33240" y="11430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教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教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228600"/>
            <a:ext cx="403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通“汝”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2720" y="1143000"/>
            <a:ext cx="130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认识事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（的道理）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08280" y="228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080" y="1828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代词，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9080" y="281952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通“智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聪明智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40280" y="2057400"/>
            <a:ext cx="47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固定句式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:“……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也”译作“……是…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26360" y="5373720"/>
            <a:ext cx="298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理解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讨论正确的学习态度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18600" y="602136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要老实谦虚，不要不懂装懂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124480" y="5891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79640" y="3357720"/>
            <a:ext cx="685800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孔子说：“由，教给你对待知与不知的态度吧：知道就是知道，不知道就是不知道——这是聪明的。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09480" y="1081080"/>
            <a:ext cx="118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曰：“见贤思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焉，见不贤而内自省也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83840" y="1538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相同，一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3200" y="1096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55960" y="373392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理解：讨论正确的学习态度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175240" y="5815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75680" y="3657600"/>
            <a:ext cx="31435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要向一切人学习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但要学习人长处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还要借鉴别人的短处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反省自己有没有跟他类似的毛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2133720"/>
            <a:ext cx="87282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6.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孔子说：“看见贤人要想着向他看齐，看见不贤的人要反省自己有没有跟他相似的毛病。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48200" y="1371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76000" y="1371600"/>
            <a:ext cx="4820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子曰：“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Times New Roman"/>
                <a:ea typeface="黑体"/>
              </a:rPr>
              <a:t>三人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  <a:ea typeface="黑体"/>
              </a:rPr>
              <a:t>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必有我师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Times New Roman"/>
                <a:ea typeface="黑体"/>
              </a:rPr>
              <a:t>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择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其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黑体"/>
                <a:ea typeface="黑体"/>
              </a:rPr>
              <a:t>善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不善者而改之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95160" y="838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虚数，几个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1828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58360" y="380880"/>
            <a:ext cx="89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=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于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在其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86520" y="1905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他们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13920" y="38088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优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好的方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7320" y="19051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顺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学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124480" y="594360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800080"/>
                </a:solidFill>
                <a:uFillTx/>
                <a:latin typeface="Abadi MT Condensed Light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3760" y="4876920"/>
            <a:ext cx="298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理解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讨论正确的学习态度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72320" y="533412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虚心求教，取长补短，改正不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048120"/>
            <a:ext cx="8001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7.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孔子说：“几个人一同走路，在其中必定有我的老师，我要选择他们的长处来学习，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看到自己也有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他们那些短处就要改正。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204360" y="1295280"/>
            <a:ext cx="311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曾子曰：“士不可以不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弘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任重而道远。仁以为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任，不亦重乎？死而后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不亦远乎？”（《泰伯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85720" y="3124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停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9720" y="5257800"/>
            <a:ext cx="44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3280" y="1295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59440" y="45720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胸怀宽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48520" y="5867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badi MT Condensed Light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86400" y="44956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79480" y="1828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意志坚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3886200"/>
            <a:ext cx="8001000" cy="26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. 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曾子说：“士人不可以不胸怀宽广、意志坚定，因为他肩负着重大的使命，路程又很遥远。把实现‘仁’的理想看作自己的使命，不也很重大吗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到死为止，不也很遥远吗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?</a:t>
            </a:r>
            <a:r>
              <a:rPr b="1" lang="zh-CN" sz="2400" spc="-1" strike="noStrike">
                <a:solidFill>
                  <a:srgbClr val="009900"/>
                </a:solidFill>
                <a:latin typeface="黑体"/>
                <a:ea typeface="黑体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43000" y="685800"/>
            <a:ext cx="60958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06960" y="1828800"/>
            <a:ext cx="51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、理解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关于孔子思想体系的核心——“仁”的概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32600" y="320040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鼓励门人要一生为实现“仁”的理想而奋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43280" y="1349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13716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曰：“岁寒，然后知松柏之后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。”（《于罕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1000" y="182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badi MT Condensed Light"/>
                <a:ea typeface="黑体"/>
              </a:rPr>
              <a:t>凋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071920" y="5867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badi MT Condensed Light"/>
              </a:rPr>
              <a:t>链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18000" y="5029200"/>
            <a:ext cx="258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理解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关于思想品德修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2971800"/>
            <a:ext cx="78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9. 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孔子说：“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碰上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寒冷的冬天，才知道松柏树是最后落叶的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801080" y="1341360"/>
            <a:ext cx="53560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文天祥给人的印象是位宰相，其实这是误会，昏主奸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当初根本不重用像他这样的君子儒，等到大局不可收拾时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是他自己挺身而出，募集两万新兵赶到京城。朝廷又逼他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谈判，他因抗争不屈而被扣留，后来他设计逃出。他本希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集合两淮之兵，不料又被心怀叵测的骄兵悍将几乎害了性命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路逃亡，饥寒交迫不说，还多次濒临死境。后从海上漂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温州起兵，转战汀州，、漳州，又从广东北回到闽粤之间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新起兵，最后被俘，几次自杀绝食，而敌人让他连求死都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能。无论元人怎样待之如上宾，以丞相之位相许，他就是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样不屈服，最后慷慨就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5516640"/>
            <a:ext cx="83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太平无事时，一般人或许也看不出君子小人的差别，而一旦遭遇意外之变，面临生死关头，君子的节操才真正显现出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0"/>
            <a:ext cx="7490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春秋佳日，阳光雨露，到处郁郁葱葱；到那天寒地冻的时节，只有松柏依然苍翠挺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9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9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4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9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4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9" dur="500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76400" y="2362320"/>
            <a:ext cx="2155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◆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3200" spc="-1" strike="noStrike" u="sng">
                <a:solidFill>
                  <a:srgbClr val="800080"/>
                </a:solidFill>
                <a:uFillTx/>
                <a:latin typeface="Times New Roman"/>
                <a:hlinkClick r:id="rId2" action="ppaction://hlinksldjump"/>
              </a:rPr>
              <a:t> </a:t>
            </a:r>
            <a:r>
              <a:rPr b="0" lang="zh-CN" sz="3200" spc="-1" strike="noStrike" u="sng">
                <a:solidFill>
                  <a:srgbClr val="800080"/>
                </a:solidFill>
                <a:uFillTx/>
                <a:latin typeface="Times New Roman"/>
                <a:hlinkClick r:id="rId3" action="ppaction://hlinksldjump"/>
              </a:rPr>
              <a:t>关于</a:t>
            </a:r>
            <a:r>
              <a:rPr b="0" lang="zh-CN" sz="3200" spc="-1" strike="noStrike" u="sng">
                <a:solidFill>
                  <a:srgbClr val="800080"/>
                </a:solidFill>
                <a:uFillTx/>
                <a:latin typeface="Times New Roman"/>
                <a:hlinkClick r:id="rId4" action="ppaction://hlinksldjump"/>
              </a:rPr>
              <a:t>《</a:t>
            </a:r>
            <a:r>
              <a:rPr b="0" lang="zh-CN" sz="3200" spc="-1" strike="noStrike" u="sng">
                <a:solidFill>
                  <a:srgbClr val="800080"/>
                </a:solidFill>
                <a:uFillTx/>
                <a:latin typeface="Times New Roman"/>
                <a:hlinkClick r:id="rId5" action="ppaction://hlinksldjump"/>
              </a:rPr>
              <a:t>论语</a:t>
            </a:r>
            <a:r>
              <a:rPr b="0" lang="zh-CN" sz="3200" spc="-1" strike="noStrike" u="sng">
                <a:solidFill>
                  <a:srgbClr val="800080"/>
                </a:solidFill>
                <a:uFillTx/>
                <a:latin typeface="Times New Roman"/>
                <a:hlinkClick r:id="rId6" action="ppaction://hlinksldjump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65320" y="312408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33760" y="1676520"/>
            <a:ext cx="1678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◆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3200" spc="-1" strike="noStrike" u="sng">
                <a:solidFill>
                  <a:srgbClr val="800080"/>
                </a:solidFill>
                <a:uFillTx/>
                <a:latin typeface="Times New Roman"/>
                <a:hlinkClick r:id="rId7" action="ppaction://hlinksldjump"/>
              </a:rPr>
              <a:t> </a:t>
            </a:r>
            <a:r>
              <a:rPr b="0" lang="zh-CN" sz="3200" spc="-1" strike="noStrike" u="sng">
                <a:solidFill>
                  <a:srgbClr val="800080"/>
                </a:solidFill>
                <a:uFillTx/>
                <a:latin typeface="Times New Roman"/>
                <a:hlinkClick r:id="rId8" action="ppaction://hlinksldjump"/>
              </a:rPr>
              <a:t>关于孔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6560" y="304812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◆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字词解释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内容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98080" y="609480"/>
            <a:ext cx="273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 baseline="2000">
                <a:solidFill>
                  <a:srgbClr val="660066"/>
                </a:solidFill>
                <a:latin typeface="Times New Roman"/>
                <a:ea typeface="华文行楷"/>
              </a:rPr>
              <a:t>《</a:t>
            </a:r>
            <a:r>
              <a:rPr b="1" lang="zh-CN" sz="9600" spc="-1" strike="noStrike" baseline="2000">
                <a:solidFill>
                  <a:srgbClr val="009900"/>
                </a:solidFill>
                <a:latin typeface="Times New Roman"/>
                <a:ea typeface="华文行楷"/>
              </a:rPr>
              <a:t>论语</a:t>
            </a:r>
            <a:r>
              <a:rPr b="1" lang="zh-CN" sz="9600" spc="-1" strike="noStrike" baseline="2000">
                <a:solidFill>
                  <a:srgbClr val="660066"/>
                </a:solidFill>
                <a:latin typeface="Times New Roman"/>
                <a:ea typeface="华文行楷"/>
              </a:rPr>
              <a:t>》十则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6160" y="3733920"/>
            <a:ext cx="62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00080"/>
                </a:solidFill>
                <a:uFillTx/>
                <a:latin typeface="Times New Roman"/>
                <a:hlinkClick r:id="rId9" action="ppaction://hlinksldjump"/>
              </a:rPr>
              <a:t>(1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02760" y="3733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00080"/>
                </a:solidFill>
                <a:uFillTx/>
                <a:latin typeface="Times New Roman"/>
                <a:hlinkClick r:id="rId10" action="ppaction://hlinksldjump"/>
              </a:rPr>
              <a:t>2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50240" y="3733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00080"/>
                </a:solidFill>
                <a:uFillTx/>
                <a:latin typeface="Times New Roman"/>
                <a:hlinkClick r:id="rId11" action="ppaction://hlinksldjump"/>
              </a:rPr>
              <a:t>3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33000" y="3733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00080"/>
                </a:solidFill>
                <a:uFillTx/>
                <a:latin typeface="Times New Roman"/>
                <a:hlinkClick r:id="rId12" action="ppaction://hlinksldjump"/>
              </a:rPr>
              <a:t>4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3" action="ppaction://hlinksldjump"/>
          </p:cNvPr>
          <p:cNvSpPr/>
          <p:nvPr/>
        </p:nvSpPr>
        <p:spPr>
          <a:xfrm>
            <a:off x="3506040" y="3733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00080"/>
                </a:solidFill>
                <a:uFillTx/>
                <a:latin typeface="Times New Roman"/>
                <a:hlinkClick r:id="rId14" action="ppaction://hlinksldjump"/>
              </a:rPr>
              <a:t>5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86920" y="3733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00080"/>
                </a:solidFill>
                <a:uFillTx/>
                <a:latin typeface="Times New Roman"/>
                <a:hlinkClick r:id="rId15" action="ppaction://hlinksldjump"/>
              </a:rPr>
              <a:t>6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12440" y="3733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00080"/>
                </a:solidFill>
                <a:uFillTx/>
                <a:latin typeface="Times New Roman"/>
                <a:hlinkClick r:id="rId16" action="ppaction://hlinksldjump"/>
              </a:rPr>
              <a:t>7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01320" y="3733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00080"/>
                </a:solidFill>
                <a:uFillTx/>
                <a:latin typeface="Times New Roman"/>
                <a:hlinkClick r:id="rId17" action="ppaction://hlinksldjump"/>
              </a:rPr>
              <a:t>8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8520" y="3733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00080"/>
                </a:solidFill>
                <a:uFillTx/>
                <a:latin typeface="Times New Roman"/>
                <a:hlinkClick r:id="rId18" action="ppaction://hlinksldjump"/>
              </a:rPr>
              <a:t>9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15360" y="3733920"/>
            <a:ext cx="7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00080"/>
                </a:solidFill>
                <a:uFillTx/>
                <a:latin typeface="Times New Roman"/>
                <a:hlinkClick r:id="rId19" action="ppaction://hlinksldjump"/>
              </a:rPr>
              <a:t>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35400" y="4419720"/>
            <a:ext cx="12884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◆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0" lang="zh-CN" sz="3200" spc="-1" strike="noStrike" u="sng">
                <a:solidFill>
                  <a:srgbClr val="800080"/>
                </a:solidFill>
                <a:uFillTx/>
                <a:latin typeface="Times New Roman"/>
                <a:hlinkClick r:id="rId20" action="ppaction://hlinksldjump"/>
              </a:rPr>
              <a:t>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42560" y="5791320"/>
            <a:ext cx="250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◆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文言文翻译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19560" y="5105520"/>
            <a:ext cx="128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◆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讨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613960" y="1171440"/>
            <a:ext cx="433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badi MT Condensed Light"/>
                <a:ea typeface="黑体"/>
              </a:rPr>
              <a:t>子贡问曰：“有一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Abadi MT Condensed Light"/>
                <a:ea typeface="黑体"/>
              </a:rPr>
              <a:t>言</a:t>
            </a:r>
            <a:r>
              <a:rPr b="1" lang="zh-CN" sz="2800" spc="-1" strike="noStrike">
                <a:solidFill>
                  <a:srgbClr val="000000"/>
                </a:solidFill>
                <a:latin typeface="Abadi MT Condensed Light"/>
                <a:ea typeface="黑体"/>
              </a:rPr>
              <a:t>而可以终身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Abadi MT Condensed Light"/>
                <a:ea typeface="黑体"/>
              </a:rPr>
              <a:t>行</a:t>
            </a:r>
            <a:r>
              <a:rPr b="1" lang="zh-CN" sz="2800" spc="-1" strike="noStrike">
                <a:solidFill>
                  <a:srgbClr val="000000"/>
                </a:solidFill>
                <a:latin typeface="Abadi MT Condensed Light"/>
                <a:ea typeface="黑体"/>
              </a:rPr>
              <a:t>之者乎？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badi MT Condensed Light"/>
                <a:ea typeface="黑体"/>
              </a:rPr>
              <a:t>子曰：“</a:t>
            </a:r>
            <a:r>
              <a:rPr b="1" lang="zh-CN" sz="2800" spc="-1" strike="noStrike">
                <a:solidFill>
                  <a:srgbClr val="cc0000"/>
                </a:solidFill>
                <a:latin typeface="Abadi MT Condensed Light"/>
                <a:ea typeface="黑体"/>
              </a:rPr>
              <a:t>其恕</a:t>
            </a:r>
            <a:r>
              <a:rPr b="1" lang="zh-CN" sz="2800" spc="-1" strike="noStrike">
                <a:solidFill>
                  <a:srgbClr val="000000"/>
                </a:solidFill>
                <a:latin typeface="Abadi MT Condensed Light"/>
                <a:ea typeface="黑体"/>
              </a:rPr>
              <a:t>乎！已所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Abadi MT Condensed Light"/>
                <a:ea typeface="黑体"/>
              </a:rPr>
              <a:t>不欲</a:t>
            </a:r>
            <a:r>
              <a:rPr b="1" lang="zh-CN" sz="2800" spc="-1" strike="noStrike">
                <a:solidFill>
                  <a:srgbClr val="000000"/>
                </a:solidFill>
                <a:latin typeface="Abadi MT Condensed Light"/>
                <a:ea typeface="黑体"/>
              </a:rPr>
              <a:t>，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Abadi MT Condensed Light"/>
                <a:ea typeface="黑体"/>
              </a:rPr>
              <a:t>勿施</a:t>
            </a:r>
            <a:r>
              <a:rPr b="1" lang="zh-CN" sz="2800" spc="-1" strike="noStrike">
                <a:solidFill>
                  <a:srgbClr val="000000"/>
                </a:solidFill>
                <a:latin typeface="Abadi MT Condensed Light"/>
                <a:ea typeface="黑体"/>
              </a:rPr>
              <a:t>于人。”</a:t>
            </a:r>
            <a:r>
              <a:rPr b="1" lang="zh-CN" sz="2000" spc="-1" strike="noStrike">
                <a:solidFill>
                  <a:srgbClr val="000000"/>
                </a:solidFill>
                <a:latin typeface="Abadi MT Condensed Light"/>
                <a:ea typeface="黑体"/>
              </a:rPr>
              <a:t>（《卫灵公》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-7200" y="11430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2520" y="4654440"/>
            <a:ext cx="18396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89400" y="40305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41160" y="7002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05040" y="623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奉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56920" y="2286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讨厌的事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34000" y="3367080"/>
            <a:ext cx="10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不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93960" y="2286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施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4038480"/>
            <a:ext cx="84880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10. 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子贡问道：“有没有一句可以凭借终身奉行的话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?”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孔子说：“那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大概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是‘恕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道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)’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吧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!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自己所讨厌的事情，不要施加在别人身上</a:t>
            </a:r>
            <a:r>
              <a:rPr b="1" lang="zh-CN" sz="2400" spc="-1" strike="noStrike">
                <a:solidFill>
                  <a:srgbClr val="009900"/>
                </a:solidFill>
                <a:latin typeface="黑体"/>
                <a:ea typeface="黑体"/>
              </a:rPr>
              <a:t>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533520"/>
            <a:ext cx="86104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64240" y="333360"/>
            <a:ext cx="51184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清代著名学者唐甄所著《潜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·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良功》里举了他妻子的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。其妻小时候与姐姐同床而睡，姐姐让她赶帐中的蚊子，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很不耐烦。进得帐中，她只把自己这边蚊子赶走就塞好帐子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觉。保姆觉得好笑，问她缘故，她说：“我哪有工夫给别人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蚊子？给自己赶赶就行了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27320" y="2781360"/>
            <a:ext cx="119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人常犯的毛病是把自己看得太重要，一丝亏也不肯吃，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于对待他人则漫不经心，常会把自己觉得烦难、痛苦的事随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地丢在别人头上。譬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25440" y="422100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有人很不愿意借钱给朋友、同事，却又非常爱向别人借钱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对方稍露为难之色，就骂人家不够朋友，这真是当别人是圣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或上帝，自己又没一点与人为善的心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9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4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9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4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9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4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9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4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9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9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4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3000" y="1447920"/>
            <a:ext cx="59500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96720" y="1752480"/>
            <a:ext cx="396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理解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关于思想品德修养和“仁”的概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3200400"/>
            <a:ext cx="8153280" cy="42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忠”和“恕”是孔子“仁”的学说的两个方面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忠”——“己欲立而立人，己欲达而达人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恕”——己所不欲，勿施于人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7243560" y="25416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本课成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07680" y="114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温故知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91720" y="1600200"/>
            <a:ext cx="210096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择善而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三人行，必有我师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任重道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19480" y="457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不亦乐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34290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死而后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3962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见贤思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4495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知之为知之，不知为不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51055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己所不欲，勿施于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75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75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6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1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712960" y="639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一）关于学习态度和方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4600" y="1219320"/>
            <a:ext cx="419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0160" y="17524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二）关于思想品德修养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86640" y="2362320"/>
            <a:ext cx="49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03760" y="292248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三）关于孔子思想体系的核心—“仁”的概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90240" y="3519360"/>
            <a:ext cx="172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472160" y="41940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内容小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44840" y="1295280"/>
            <a:ext cx="131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你喜欢哪一则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40120" y="2362320"/>
            <a:ext cx="131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你觉得哪一则对你启发最大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48320" y="4495680"/>
            <a:ext cx="552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你还知道哪些指导我们如何学习的名言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71440" y="25020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迁移讨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18080" y="596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14240" y="3429000"/>
            <a:ext cx="44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你觉得怎样才能真正学到知识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388960" y="485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一）文言文翻译的原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6477120" y="1117440"/>
            <a:ext cx="1537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1“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信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　　　　　　　　　　　　　　　    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（忠实于原文，字字落实，句句落实，不随意增减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-3206160" y="2286000"/>
            <a:ext cx="851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2“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达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　　　　　　　　　　    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（表意明确，语言通畅，语气不走样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-5283360" y="3551400"/>
            <a:ext cx="144273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                                                          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3“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雅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　　　　　　　　　             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（用简明、优美，富有文采的现代汉语把原文的内容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                        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形式和风格准确地表达出来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195760" y="6094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814840" y="3348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二）文言文九字翻译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18080" y="928800"/>
            <a:ext cx="6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留（专有名词，人名等照译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53760" y="1461960"/>
            <a:ext cx="38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补（补出省略成分，如主语，宾语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27160" y="1919160"/>
            <a:ext cx="25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删（删去不译的词语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98440" y="245268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换（把古词换成现代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27160" y="2971800"/>
            <a:ext cx="25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调（调整倒装句句序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2080" y="3429000"/>
            <a:ext cx="38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选（根据上下文，选用恰当的词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39080" y="3976560"/>
            <a:ext cx="42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译（译出实词、虚词、活用的词和通假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69360" y="4433760"/>
            <a:ext cx="30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固（固定格式的固定译法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62760" y="4952880"/>
            <a:ext cx="286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意译（文言文中的比喻、借代、引申，直译不通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用意译）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195760" y="6094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952880" y="380880"/>
            <a:ext cx="3730680" cy="594360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228600" y="0"/>
            <a:ext cx="4502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孔子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前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551~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前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479)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，名丘，字仲尼，春秋时期鲁国陬邑人（今山东曲阜）人。我国古代伟大的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思想家、教育家，儒家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学派的创始人，被誉为“万世师表”、“千古圣人”，世界十大思想家之首。他对我国古代文化的整理、研究和传播，他的思想和学说，为中国文化乃至世界文明作出了不朽的贡献，联合国教科文组织把他列为世界十大名人之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2120" y="1209600"/>
            <a:ext cx="769608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孔子对鬼神宗教迷信活动采取存疑态度，首创私人讲学之风，主张“有教无类”，因材施教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注重“学”“思”结合，其理论从修身齐家，到治国平天下，政治、经济、军事、伦理、教育，几乎无所不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124080" y="685800"/>
            <a:ext cx="327672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关于孔子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7618320" cy="4635360"/>
          </a:xfrm>
          <a:prstGeom prst="rect">
            <a:avLst/>
          </a:prstGeom>
          <a:ln w="76320">
            <a:solidFill>
              <a:srgbClr val="00008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1965240" y="600876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29040" y="5791320"/>
            <a:ext cx="455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相传孔子出生地</a:t>
            </a: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----</a:t>
            </a: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山东曲阜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尼山</a:t>
            </a: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全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57120" y="1371600"/>
            <a:ext cx="3681360" cy="4105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267080" y="1494000"/>
            <a:ext cx="4570560" cy="3763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036480" y="548640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  <a:ea typeface="黑体"/>
              </a:rPr>
              <a:t>孔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  <a:ea typeface="黑体"/>
              </a:rPr>
              <a:t>祭祀孔子的地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13120" y="5562720"/>
            <a:ext cx="21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  <a:ea typeface="黑体"/>
              </a:rPr>
              <a:t>孔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  <a:ea typeface="黑体"/>
              </a:rPr>
              <a:t>孔子嫡系子孙居住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20560" y="7761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  <a:ea typeface="黑体"/>
              </a:rPr>
              <a:t>孔林：孔子墓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46040" y="77616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  <a:ea typeface="黑体"/>
              </a:rPr>
              <a:t>山东曲阜“三孔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48040" y="6118200"/>
            <a:ext cx="455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800080"/>
                </a:solidFill>
                <a:uFillTx/>
                <a:latin typeface="Times New Roman"/>
                <a:hlinkClick r:id="rId4" action="ppaction://hlinksldjump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0880" y="163836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　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《论语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属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语录体散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是孔子弟子及其再传弟子关于孔子言行的记录，共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篇 。内容有孔子谈话，答弟子问及弟子间的相互讨论。它是研究孔子思想的主要依据。南宋时，朱熹把它列为“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四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之一，成为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儒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重要经典。宋朝宰相赵普曾赞颂说“半部《论语》治天下”。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048120" y="838080"/>
            <a:ext cx="27050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《论语》</a:t>
            </a:r>
            <a:endParaRPr b="1" lang="en-US" sz="40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p:transition>
    <p:blinds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043720" y="304920"/>
            <a:ext cx="5200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曰：“学而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黑体"/>
                <a:ea typeface="黑体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习之，不亦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黑体"/>
                <a:ea typeface="黑体"/>
              </a:rPr>
              <a:t>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乎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有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Times New Roman"/>
                <a:ea typeface="黑体"/>
              </a:rPr>
              <a:t>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自远方来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不亦乐乎？人不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Times New Roman"/>
                <a:ea typeface="黑体"/>
              </a:rPr>
              <a:t>知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黑体"/>
                <a:ea typeface="黑体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黑体"/>
                <a:ea typeface="黑体"/>
              </a:rPr>
              <a:t>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不亦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黑体"/>
                <a:ea typeface="黑体"/>
              </a:rPr>
              <a:t>君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乎？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37800" y="914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按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14640" y="838080"/>
            <a:ext cx="9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通“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愉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38560" y="9144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志同道合的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1840" y="2590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41280" y="2666880"/>
            <a:ext cx="12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怨恨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恼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91480" y="2590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有道德修养的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79480" y="16002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85440" y="3124080"/>
            <a:ext cx="55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固定句式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:“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不亦……乎？”译作“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不也是……吗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？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645000"/>
            <a:ext cx="89154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先生说：“学习了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知识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，然后按一定的时间去实习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温习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它，不也高兴吗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有志同道合的人从远处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到这里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来，不也快乐吗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人家不了解我，我却不怨恨，不也是道德上有修养的人吗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?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912760" y="663480"/>
            <a:ext cx="122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理解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讨论学习方法、态度与个人修养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32560" y="1371600"/>
            <a:ext cx="34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断实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能牢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习之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32920" y="1981080"/>
            <a:ext cx="34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远道而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切磋促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生之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32920" y="2666880"/>
            <a:ext cx="34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求长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怨他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高修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5760" y="3745080"/>
            <a:ext cx="82929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注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孔子讲的学习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包括礼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礼节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乐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音乐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射箭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御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驾车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书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书法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数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算术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。既要学书本知识，又要实习各种技能，还要跟德育结合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92800" y="601992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800080"/>
                </a:solidFill>
                <a:uFillTx/>
                <a:latin typeface="Times New Roman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5T15:03:43Z</dcterms:created>
  <dc:creator>wutao</dc:creator>
  <dc:description/>
  <dc:language>en-US</dc:language>
  <cp:lastModifiedBy>hfzx</cp:lastModifiedBy>
  <dcterms:modified xsi:type="dcterms:W3CDTF">2003-09-30T01:42:08Z</dcterms:modified>
  <cp:revision>100</cp:revision>
  <dc:subject/>
  <dc:title>PowerPoint 演示文稿</dc:title>
</cp:coreProperties>
</file>