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A35-F1A9-4471-99A8-7A3DE0F6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AC7-0481-4B19-B5E1-3413FDD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030-9A71-4B10-BBD4-8C87E218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ED6-E093-46AD-AC2C-44201B68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C1FF-4568-4118-B616-50FC49E6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D42A-E541-40FA-8AFA-AAE3AB61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66D4-B392-47A3-A23E-22CDD960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B7D4-EEE3-498F-A8F7-CBB03EC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81CE-6F0D-4528-95AE-0BEF8E7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0E17-EB39-4270-9C3A-42A84A10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E5DC-7694-4C79-AF61-73CC1F8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C9F-987D-433C-B2C0-27975BB0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A1A7-873F-40DE-ACC8-8F0B742A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B81-F098-4BE7-A77E-DA3E124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4352-47E1-4938-9DB4-5135BD9C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993B-2B21-4EF0-89A5-146D6CA0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A48C-A1A6-4402-B297-DB7648EE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C8A-D984-4AB0-9E49-D33B855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C2B-4689-4422-8B50-923F144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7D2-8530-45B4-956F-F92ADDA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14F-790D-466E-A842-C534AA2A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EFD-82AB-4D71-9EAA-893CA95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AA4-F8E0-4C8F-9156-83AA7084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DAE-BB12-4843-BC0C-4983C51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CED5-F7A3-4CAC-A6A9-CA2459F2D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E9D1-5571-4769-81B3-2A70535D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onfuciusta.com/rujiawenhua/index.htm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《论语》十则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2971440"/>
            <a:ext cx="83059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cffcc"/>
                </a:solidFill>
                <a:latin typeface="宋体"/>
              </a:rPr>
              <a:t>  </a:t>
            </a:r>
            <a:r>
              <a:rPr b="0" lang="zh-CN" sz="3400" spc="-1" strike="noStrike">
                <a:solidFill>
                  <a:srgbClr val="ccffcc"/>
                </a:solidFill>
                <a:latin typeface="宋体"/>
              </a:rPr>
              <a:t>本课有的谈求知态度，有的谈学习方法，有的谈修身做人。语言简练，含义深远。学习时要熟读，深思，牢记。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1602000" cy="2133360"/>
          </a:xfrm>
          <a:prstGeom prst="rect">
            <a:avLst/>
          </a:prstGeom>
          <a:ln w="0">
            <a:noFill/>
          </a:ln>
        </p:spPr>
      </p:pic>
      <p:pic>
        <p:nvPicPr>
          <p:cNvPr id="85" name="kongzi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51776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54100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4724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游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6~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），姓言，名偃，字子游，亦称言游、叔氏。春秋末年吴国人。约生于公元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卒年不详。小孔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和子真、子张、曾子等同年辈，，是孔门中的少年弟子。子游在孔子周游列国后期入学孔门，虽然从师较晚，但能学而又称。孔门有四科，“德行：颜渊、闵子骞、冉伯牛、仲弓；言语：宰我、子贡；政事：冉有、季路；文学：子游、 子夏。”（《论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进》），在文学一科中他占第一位。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9528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ziyou" descr=""/>
          <p:cNvPicPr/>
          <p:nvPr/>
        </p:nvPicPr>
        <p:blipFill>
          <a:blip r:embed="rId2"/>
          <a:stretch/>
        </p:blipFill>
        <p:spPr>
          <a:xfrm>
            <a:off x="5334120" y="685800"/>
            <a:ext cx="3352680" cy="556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08880" y="646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68580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学而时习之，不亦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ｙ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è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朋自远方来，不亦乐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不知而不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不亦君子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3434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学习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按一定的时间去实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，不也高兴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志同道合的人从远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这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不也快乐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家不了解我，我却不怨恨，不也是君子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4724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说：“我每天多次地反省自己：替别人办事是不是尽心竭力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朋友往来是不是诚实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传授的学业是不是复习过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762120"/>
            <a:ext cx="7391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曾子曰：“吾日三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ｎ</a:t>
            </a:r>
            <a:r>
              <a:rPr b="1" lang="en-US" sz="32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吾身：为人谋而不忠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朋友交而不信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不习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在温习旧知识后，能有新体会、新发现，就可以当老师了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76212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故而知新，可以为师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只读书却不思考，就会迷惑而无所得；只是空想却不读书，就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陷入邪说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险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学而不思则罔，思而不学则殆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5181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孔子说：“由，教给你对待知与不知的态度吧：知道就是知道，不知道就是不知道这就是聪明智慧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762120"/>
            <a:ext cx="7696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由，诲女知之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之为知之，不知为不知，是知也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5181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看见贤人要想着向他看齐，看见不贤的人要反省自己有没有跟他相似的毛病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83808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见贤思齐焉，见不贤而内自省也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4724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几个人一同走路，其中必定有我的老师，我要选择他们的长处来学习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自己也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那些短处就要改正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621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三人行，必有我师焉；择其善者而从之，其不善者而改之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72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子说：“士人不可以不胸怀宽广、意志坚定，因为他肩负着重大的使命，路程又很遥远。把实现‘仁’的理想看作自己的使命，不也很重大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死为止，不也很遥远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762120"/>
            <a:ext cx="8686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曾子曰：“士不可以不弘毅，任重而道远。仁以为己任，不亦重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死而后已，不亦远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5029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碰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冷的冬天，才知道松柏树是最后落叶的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838080"/>
            <a:ext cx="7696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岁寒，然后知松柏之后凋也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57600" y="162864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kongzi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3822840" cy="5181840"/>
          </a:xfrm>
          <a:prstGeom prst="rect">
            <a:avLst/>
          </a:prstGeom>
          <a:ln w="0">
            <a:noFill/>
          </a:ln>
        </p:spPr>
      </p:pic>
      <p:pic>
        <p:nvPicPr>
          <p:cNvPr id="89" name="21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3888000" cy="5181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53280" y="6477120"/>
            <a:ext cx="838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4724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贡问道：“有没有一句可以终身奉行的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“那大概是‘恕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所讨厌的事情，不要施加在别人身上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762120"/>
            <a:ext cx="81536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贡问曰：“有一言而可以终身行之者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其恕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己所不欲，勿施于人。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620120" cy="5667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9880" y="4876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孔庙，是中国历代封建王朝祭祀春秋时期思想家、政治家、教育家孔子的庙宇</a:t>
            </a: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xin4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48320" y="51814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孔林亦称至圣林， 是埋葬孔子及其家族的墓地</a:t>
            </a: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52280" y="685800"/>
            <a:ext cx="8763120" cy="5527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孔府是孔子嫡长孙世袭衍圣公的衙署和府第，有“天下第一家”之称</a:t>
            </a:r>
            <a:r>
              <a:rPr b="0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...</a:t>
            </a:r>
            <a:r>
              <a:rPr b="0" lang="zh-CN" sz="2400" spc="-1" strike="noStrike">
                <a:solidFill>
                  <a:srgbClr val="336633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08880" y="645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685800"/>
            <a:ext cx="868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简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史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世家》摘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“生而首上圩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边高，中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因名曰丘，字仲尼，姓孔氏”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贫且贱，及长，尝为季氏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仓库管理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料量平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长九尺有六寸，人皆谓之‘长人’而异之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4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定公以孔子为中都宰，一年，四方皆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效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，由中都宰为司空，由司空为大司寇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5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已而去鲁，斥乎齐，逐乎宋、卫，困于陈蔡之间，于是反鲁”“孔子之去鲁凡十四岁而反乎鲁”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6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以诗书礼乐教，弟子盖三千焉，身通六艺者七十有二人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7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乃因史记作《春秋》”“《春秋》之义行，则天下乱臣贼子惧焉”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8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子葬鲁城北泗上，弟子皆服三年。三年心丧毕，相诀而志，则哭，各复尽哀；或复留。唯子贡庐于冢上，凡六年，然后去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10666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论语》简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论语》是一部记录孔子和他若干弟子的言行的书，由若干篇章组成，前后两章之间不一定有什么关联。各章的体式也不尽相同，归纳起来，有以下几种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是语录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称格言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仅指明是孔子的话，不写出说话的环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说话的对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内容大多是关于学习、道德修养、为人处事的一般原则，这篇课文中的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都属于这种体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8880" y="64548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685800"/>
            <a:ext cx="8915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是对话体，记录孔子对弟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其他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问题所作的回答。这种体式的写法很灵活：有时写出提问者的原话，有时只写某人问什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如“孟武伯问孝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有时写出对话的环境或背景，有时不写。课文中的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属于这种体式，它写出了提问者的原话，但没有写谈话的背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是叙事体，其中多少有一点情节，但也往往是以记录孔子的话为主。这种体式我们以后才能学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论语》是研究孔子思想的主要资料。从汉朝初年到五四运动以前的两千年间，它一直是学童们的一本必读书，影响很大，书中有不少语句都作为成语保留在现代语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08880" y="64548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914400"/>
            <a:ext cx="83822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孔门弟子简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引号中语皆出自《史记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宋体"/>
                <a:hlinkClick r:id="rId2" action="ppaction://hlinksldjump"/>
              </a:rPr>
              <a:t>子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仲由字子路，卞人也。少孔子九岁。子路性鄙，好勇力，志伉直，冠雄鸡，佩豚，陵暴孔子。孔子设礼稍诱子路，子路后儒服委质，因门人请为弟子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贡：“端木赐，卫人，字子贡。少孔子三十一岁。”“子贡利口巧辞”。齐田常欲伐鲁，孔子思求他国援兵，诸弟子皆请行，孔子独许子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曾参：“孔子以为能通孝道，故授之业，作《孝经》”。颜回死后，他成为孔子的继承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08880" y="64548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路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42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姓仲名由，字子路，又称季路。春秋末年鲁国卞（今山东泗水县人）。生于鲁襄公十一年，卒于鲁哀公十五年，小孔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，是孔子门中年龄较大的弟子。出身寒微，其性耿直好勇，为人爽直、粗莽。从师以后先后在鲁、卫两国当官，后随孔子游学于列国。鲁哀公十一年，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随孔子结束游历回到鲁国，，继续参与一些政治活动。鲁哀公十五年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卫国发生内乱，子路不顾安危挺身入险，死于乱中，时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4288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zilu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78288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冉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2-?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姓冉名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子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亦称冉有、冉子、有子。春秋末年鲁国人（今山东曲阜）。生于鲁昭公二十年，卒年不详。小孔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出身微贱，与仲弓、冉伯牛同宗。青年时作过鲁季氏家臣，后拜师孔子，并辞官随孔子周游列国。鲁哀公五年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秋，经公之鲁推荐，回鲁当上季氏家族的总管。期间曾率鲁军击退齐军的侵犯，立下赫赫战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86280" y="58896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anqiu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317484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228600" y="761760"/>
            <a:ext cx="5943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颜回（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1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是孔子最得意的门生。姓颜，名回，字子渊，亦称颜渊后世也称作“颜叔”，“颜生”。春秋末年鲁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山东曲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于鲁昭公二十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1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卒于鲁哀公十四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孔子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孔门弟子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颜回以突出的德行修养而著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仰之弥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孔门哲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坚守先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耻下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教会，一起毕生精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研之弥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欲罢不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深得孔子的赞赏。 自汉代起，颜回被列为七十二贤之首，有时祭孔时独以颜回配享。此后历代统治者不断追加谥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太宗尊之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唐玄宗尊之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兖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宋真宗加封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兖国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元文宗又尊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兖国复圣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明嘉靖九年改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山东曲阜还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圣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9528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yanzi" descr=""/>
          <p:cNvPicPr/>
          <p:nvPr/>
        </p:nvPicPr>
        <p:blipFill>
          <a:blip r:embed="rId2"/>
          <a:stretch/>
        </p:blipFill>
        <p:spPr>
          <a:xfrm>
            <a:off x="5837400" y="838080"/>
            <a:ext cx="3076560" cy="5105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408880" y="6461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3:03:36Z</dcterms:created>
  <dc:creator>wutao</dc:creator>
  <dc:description/>
  <dc:language>en-US</dc:language>
  <cp:lastModifiedBy>周璟</cp:lastModifiedBy>
  <dcterms:modified xsi:type="dcterms:W3CDTF">2004-10-28T03:31:46Z</dcterms:modified>
  <cp:revision>100</cp:revision>
  <dc:subject/>
  <dc:title>PowerPoint 演示文稿</dc:title>
</cp:coreProperties>
</file>