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2D8-9A37-4CB8-8056-6BE9F28A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2DF-36C1-4845-91B8-FB609ED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179-E966-4C86-9396-AAF581C2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F32-F97D-4DC5-83B5-5675F2D4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5CF-E183-46ED-B1BF-AC50706A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13F-3BF6-4B68-9C76-AE781A4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08A-7EC5-4DC4-B8A7-BFBCA6D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FAC-E1BA-421E-89E8-E9F1F3A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731-23AE-40A3-A0DB-403E2827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2CA-06F2-420D-9A36-5E2E9B4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815-7C0E-4ACB-AEC7-A6EE6BB5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CB5-FEF8-40E3-A754-6C2BED5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354-16B0-4D8A-9D64-190D85482D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447920"/>
            <a:ext cx="6400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《论语》十则</a:t>
            </a:r>
            <a:r>
              <a:rPr b="0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62120"/>
            <a:ext cx="84582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7194b"/>
                </a:solidFill>
                <a:latin typeface="华文彩云"/>
                <a:ea typeface="华文彩云"/>
              </a:rPr>
              <a:t>作业 </a:t>
            </a:r>
            <a:r>
              <a:rPr b="1" i="1" lang="zh-CN" sz="5400" spc="-1" strike="noStrike">
                <a:solidFill>
                  <a:srgbClr val="c7194b"/>
                </a:solidFill>
                <a:latin typeface="华文彩云"/>
                <a:ea typeface="华文彩云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搜集整理《论语》其他篇章中出现的成语、格言、警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—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，要求注明出处、含义，并制作资料卡在班上交流展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z" descr=""/>
          <p:cNvPicPr/>
          <p:nvPr/>
        </p:nvPicPr>
        <p:blipFill>
          <a:blip r:embed="rId1"/>
          <a:stretch/>
        </p:blipFill>
        <p:spPr>
          <a:xfrm>
            <a:off x="2610000" y="0"/>
            <a:ext cx="392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47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名丘，字仲尼，春秋时期鲁国陬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今山东曲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，是我国历史上伟大的思想家、教育家，儒家学派的创始人，被尊称为“大成至圣”。他对我国古代文化的整理、研究和传播，他的思想和学说，为中国文化乃至世界文明做出了不朽的贡献，联合国教科文组织把他列为世界十大名人之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54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关于孔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《论语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“语言的论纂”，也就是语录的意思，是记录孔子和他的弟子言行的一部书，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篇，是儒家经典著作之一。体例主要是语录体、对话体、叙事体。内容上以教育为主，包括哲学、历史、政治、经济、艺术、宗教等方面。从中可以看出许多当时社会的政治生活情况，看出孔子和他的弟子们的人格修养、治学态度和处世方法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71720"/>
            <a:ext cx="9144000" cy="58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人不知而不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学而不思则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思而不学则殆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亦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乎      三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吾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习乎  诲女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之乎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知为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知 是知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ù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2057400"/>
            <a:ext cx="15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ǎn</a:t>
            </a:r>
            <a:r>
              <a:rPr b="1" lang="zh-CN" sz="44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31240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yu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4114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xǐn</a:t>
            </a:r>
            <a:r>
              <a:rPr b="1" lang="zh-CN" sz="44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02920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u</a:t>
            </a:r>
            <a:r>
              <a:rPr b="1" lang="en-US" sz="44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105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é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60958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z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读一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057400"/>
            <a:ext cx="83055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结合具体语言环境，读准字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处理好停顿和语速、语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朗读文言文要注意的问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了这篇课文，你认为哪些内容使你收获最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谈感想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课文自相对照，谈谈自己在哪些方面做得好些，在哪些方面还有欠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怎样改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故而知新”对于指导我们的学习有什么重要意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透过表面文字，理解“岁寒，然后知松柏之后凋也”的深刻含义。试着模仿这种写法，也写几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4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而时习之，不亦说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不知而不愠，不亦君子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而不思则罔，思而不学则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诲女知之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之为知之，不知为不知，是知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吾日三省吾身。  ◆温故而知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见贤思齐焉。       ◆士不可以不弘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死而后已。           ◆知松柏之后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恕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                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己所不欲，勿施于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： ●温故知新         ●死而后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任重道远        ●见贤思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善而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人行， 必有我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己所不欲，勿施于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之为知之，不知为不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8600"/>
            <a:ext cx="51055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归纳成语、格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0:16:50Z</dcterms:created>
  <dc:creator>wutao</dc:creator>
  <dc:description/>
  <dc:language>en-US</dc:language>
  <cp:lastModifiedBy>周璟</cp:lastModifiedBy>
  <dcterms:modified xsi:type="dcterms:W3CDTF">2004-10-28T03:35:58Z</dcterms:modified>
  <cp:revision>100</cp:revision>
  <dc:subject/>
  <dc:title>PowerPoint 演示文稿</dc:title>
</cp:coreProperties>
</file>