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53D-2250-4118-88A0-B3D58EC5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8B1-C61E-4E9C-961C-9EF3B9A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7CE-9279-4834-AB39-A30BC07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4C2-7392-4F45-B76D-C5BF97EA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1B2-AF95-499F-B68D-B0BD3FEA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BFE3-49A7-4ECD-A1BB-E36D7E9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2B6-B48D-4362-B0A8-AEC6801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E54-6CA0-4B7F-8BE6-0D155EE4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B24-4A5E-41E3-8674-2A93D58B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677D-0945-4DF4-9046-8763ED0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4C64-DC73-4873-86EE-5FA6926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92A-B617-431D-B9E1-D9D8A2AD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E6C2-4DBD-42A3-AE2E-9257586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1756-9A28-4F11-9E5E-574BD28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B34-2019-4F28-B885-BFBDA521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B1A-00F4-4589-832D-0A192047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8893-EBA4-4A1C-9C86-75940095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F9F-381A-4688-B4B0-CD308A96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20F-14AF-42B1-8CFE-E9878F3D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98C-E8B7-4C2C-A21D-0AD26B3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BC7-A3FA-4B3E-A1B7-685C59B8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F21-0A06-4A11-B8C9-7D827DF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D03-269C-4961-BFFD-381B73C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2BD-FF7B-4EB8-AA2A-DCFE616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2DC-DDF8-4DD1-988C-2E2AE8A3EFD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A52-9B75-4DB9-8F52-4236E1A5849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304920"/>
            <a:ext cx="28958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 baseline="10000">
                <a:solidFill>
                  <a:srgbClr val="00ff00"/>
                </a:solidFill>
                <a:latin typeface="Times New Roman"/>
                <a:ea typeface="隶书"/>
              </a:rPr>
              <a:t>春</a:t>
            </a:r>
            <a:endParaRPr b="0" lang="en-US" sz="30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733920"/>
            <a:ext cx="2438280" cy="685800"/>
          </a:xfrm>
          <a:prstGeom prst="rect">
            <a:avLst/>
          </a:prstGeom>
          <a:solidFill>
            <a:srgbClr val="8bae6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朱自清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1066680" cy="9907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下一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7920" y="327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6240" y="479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第一课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20120" y="6553080"/>
            <a:ext cx="15238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533520"/>
            <a:ext cx="8305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143000" y="379800"/>
            <a:ext cx="1158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草偷偷地从土里钻出来，嫩嫩的，绿绿的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园子里，田野里，瞧去，一大片一大片满是 的。坐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着，躺着，打两个滚，踢几脚球，赛几趟跑，捉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回迷藏。风轻悄悄的，草软绵绵的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91120" y="456480"/>
            <a:ext cx="3584880" cy="1160640"/>
            <a:chOff x="4191120" y="456480"/>
            <a:chExt cx="3584880" cy="1160640"/>
          </a:xfrm>
        </p:grpSpPr>
        <p:sp>
          <p:nvSpPr>
            <p:cNvPr id="174" name=""/>
            <p:cNvSpPr/>
            <p:nvPr/>
          </p:nvSpPr>
          <p:spPr>
            <a:xfrm>
              <a:off x="4191120" y="456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89480" y="913680"/>
              <a:ext cx="68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esk-ss-saku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721080" y="360"/>
            <a:ext cx="1059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桃树、杏树、梨树，你不让我，我不让你，都开满了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花赶趟儿。红的像火，粉的像霞，白的像雪。花里带着甜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味儿；闭了眼，树上仿佛已经满是桃儿、杏儿、梨儿。花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成千成百的蜜蜂嗡嗡地闹着，大小的蝴蝶飞来飞去。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花遍地是：杂样儿，有名字的，没名字的，散在草丛里像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眼睛，像星星，还眨呀眨的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23623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野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6553080"/>
            <a:ext cx="8380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风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229600" y="6477120"/>
            <a:ext cx="9144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0560" y="68544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花遍地是：杂样儿，有名字的，没名字的，散在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丛里，像眼睛，像星星，还眨呀眨的。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018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005" descr=""/>
          <p:cNvPicPr/>
          <p:nvPr/>
        </p:nvPicPr>
        <p:blipFill>
          <a:blip r:embed="rId2"/>
          <a:stretch/>
        </p:blipFill>
        <p:spPr>
          <a:xfrm>
            <a:off x="0" y="3105000"/>
            <a:ext cx="4572000" cy="3314880"/>
          </a:xfrm>
          <a:prstGeom prst="rect">
            <a:avLst/>
          </a:prstGeom>
          <a:ln w="0">
            <a:noFill/>
          </a:ln>
        </p:spPr>
      </p:pic>
      <p:pic>
        <p:nvPicPr>
          <p:cNvPr id="185" name="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14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58080" y="35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春天像刚落地的娃娃，从头到脚都是新的，它生长着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36400" y="1218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2970720"/>
            <a:ext cx="445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春天像小姑娘，花枝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展的，笑着，走着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4080" y="4647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美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4320" y="3260520"/>
            <a:ext cx="45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春天像健壮的青年，有铁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的胳膊和腰脚，领着我们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前去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080" y="4571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6553080"/>
            <a:ext cx="114300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00258%2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67400" y="301680"/>
            <a:ext cx="49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雨是最寻常的，一下就是三两天。可别恼。看，像牛毛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像花针，像细丝，密密地斜织着，人家屋顶上全笼着一层 薄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烟。树叶儿却绿得发亮，小草儿也青得逼你的眼。傍晚 时候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上灯了，一点点黄晕的光，烘托出一片安静而和平的夜。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乡下，小路上，石桥边，有撑起伞慢慢走着的人，地里还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工作的农民，披着蓑戴着笠。他们的房屋，稀稀疏疏的，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雨里静默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477120"/>
            <a:ext cx="9144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迎春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197" name="1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743200" cy="65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04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3124080" cy="66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16%20副本" descr=""/>
            <p:cNvPicPr/>
            <p:nvPr/>
          </p:nvPicPr>
          <p:blipFill>
            <a:blip r:embed="rId3"/>
            <a:stretch/>
          </p:blipFill>
          <p:spPr>
            <a:xfrm>
              <a:off x="5867280" y="0"/>
              <a:ext cx="3276720" cy="66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1676880" y="302400"/>
            <a:ext cx="530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吹面不寒杨柳风”，不错的，像母亲的手抚摸着你。风里带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些新翻的泥土的气息，混着青草味儿，还有各种花的香，都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微润湿的空气里酝酿。鸟儿将巢安在繁花嫩叶当中，高兴起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，呼朋引伴地卖弄清脆的喉咙，唱出宛转的曲子，跟轻风流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和着。牛背上牧童的短笛，这时候也成天嘹亮地响着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6553080"/>
            <a:ext cx="15238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春雨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7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9440" y="2278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2560" y="60876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21320" y="6087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0680" y="99000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1066680"/>
            <a:ext cx="0" cy="3812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880" y="227880"/>
            <a:ext cx="7697520" cy="2227320"/>
            <a:chOff x="2880" y="227880"/>
            <a:chExt cx="7697520" cy="2227320"/>
          </a:xfrm>
        </p:grpSpPr>
        <p:sp>
          <p:nvSpPr>
            <p:cNvPr id="209" name=""/>
            <p:cNvSpPr/>
            <p:nvPr/>
          </p:nvSpPr>
          <p:spPr>
            <a:xfrm>
              <a:off x="6172200" y="380880"/>
              <a:ext cx="0" cy="3812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880" y="227880"/>
              <a:ext cx="7697520" cy="2227320"/>
              <a:chOff x="2880" y="227880"/>
              <a:chExt cx="7697520" cy="2227320"/>
            </a:xfrm>
          </p:grpSpPr>
          <p:sp>
            <p:nvSpPr>
              <p:cNvPr id="211" name=""/>
              <p:cNvSpPr/>
              <p:nvPr/>
            </p:nvSpPr>
            <p:spPr>
              <a:xfrm>
                <a:off x="5184360" y="1294560"/>
                <a:ext cx="68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9900"/>
                    </a:solidFill>
                    <a:latin typeface="Times New Roman"/>
                  </a:rPr>
                  <a:t>.  .</a:t>
                </a:r>
                <a:endParaRPr b="0" lang="en-US" sz="4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62160" y="1675800"/>
                <a:ext cx="68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9900"/>
                    </a:solidFill>
                    <a:latin typeface="Times New Roman"/>
                  </a:rPr>
                  <a:t>.  .</a:t>
                </a:r>
                <a:endParaRPr b="0" lang="en-US" sz="4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2880" y="227880"/>
                <a:ext cx="7697520" cy="2227320"/>
                <a:chOff x="2880" y="227880"/>
                <a:chExt cx="7697520" cy="2227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60680" y="2278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75080" y="2278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603080" y="608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041360" y="608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50840" y="61848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93320" y="608760"/>
                  <a:ext cx="307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41160" y="9900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31880" y="986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93840" y="9900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746080" y="12945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80" y="175176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050640" y="1675800"/>
                  <a:ext cx="686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9900"/>
                      </a:solidFill>
                      <a:latin typeface="Times New Roman"/>
                    </a:rPr>
                    <a:t>.  .</a:t>
                  </a:r>
                  <a:endParaRPr b="0" lang="en-US" sz="40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48320" y="1076400"/>
                  <a:ext cx="0" cy="380880"/>
                </a:xfrm>
                <a:prstGeom prst="line">
                  <a:avLst/>
                </a:prstGeom>
                <a:ln w="63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3600" y="228600"/>
                  <a:ext cx="457200" cy="152280"/>
                </a:xfrm>
                <a:custGeom>
                  <a:avLst/>
                  <a:gdLst/>
                  <a:ahLst/>
                  <a:rect l="l" t="t" r="r" b="b"/>
                  <a:pathLst>
                    <a:path w="240" h="104">
                      <a:moveTo>
                        <a:pt x="0" y="56"/>
                      </a:moveTo>
                      <a:cubicBezTo>
                        <a:pt x="52" y="28"/>
                        <a:pt x="104" y="0"/>
                        <a:pt x="144" y="8"/>
                      </a:cubicBezTo>
                      <a:cubicBezTo>
                        <a:pt x="184" y="16"/>
                        <a:pt x="224" y="88"/>
                        <a:pt x="240" y="104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3505320" y="10666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240" h="104">
                    <a:moveTo>
                      <a:pt x="0" y="56"/>
                    </a:moveTo>
                    <a:cubicBezTo>
                      <a:pt x="52" y="28"/>
                      <a:pt x="104" y="0"/>
                      <a:pt x="144" y="8"/>
                    </a:cubicBezTo>
                    <a:cubicBezTo>
                      <a:pt x="184" y="16"/>
                      <a:pt x="224" y="88"/>
                      <a:pt x="240" y="104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91120" y="10666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240" h="104">
                    <a:moveTo>
                      <a:pt x="0" y="56"/>
                    </a:moveTo>
                    <a:cubicBezTo>
                      <a:pt x="52" y="28"/>
                      <a:pt x="104" y="0"/>
                      <a:pt x="144" y="8"/>
                    </a:cubicBezTo>
                    <a:cubicBezTo>
                      <a:pt x="184" y="16"/>
                      <a:pt x="224" y="88"/>
                      <a:pt x="240" y="104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231" name="123%20副本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7048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789%20副本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724280" cy="655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1890000" y="30276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天上风筝渐渐多了，地上孩子也多了。城里乡下，家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户户，老老小小，出赶趟儿似的，一个个都出来了。舒活舒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活筋骨，抖擞抖擞精神，各做各的一份事去。“一年之计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于春”，刚起头儿，有的是工夫，有的是希望。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6477120"/>
            <a:ext cx="1371600" cy="3808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565640" y="3124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明确教学目标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114300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提出听读要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41008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正            音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5832720" y="3732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理清文章思路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5169600" y="4799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朗   读  训  练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9560" y="48762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课 文 范 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2960" y="-720"/>
            <a:ext cx="322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6600ff"/>
                </a:solidFill>
                <a:latin typeface="Times New Roman"/>
                <a:ea typeface="隶书"/>
              </a:rPr>
              <a:t>教学过程</a:t>
            </a:r>
            <a:endParaRPr b="0" lang="en-US" sz="10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94000" y="22093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导 入 新 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02920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1911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9528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38098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43828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2767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362320"/>
            <a:ext cx="38124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1143000"/>
            <a:ext cx="5791320" cy="289548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目标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5943600"/>
            <a:ext cx="838080" cy="457200"/>
          </a:xfrm>
          <a:prstGeom prst="rect">
            <a:avLst/>
          </a:prstGeom>
          <a:solidFill>
            <a:srgbClr val="8bae6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2840" y="441936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培养通过朗读领会文章思想感情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5ff1"/>
                </a:solidFill>
                <a:latin typeface="Times New Roman"/>
              </a:rPr>
              <a:t>以及抓住特点描写景物的能力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495680"/>
            <a:ext cx="609840" cy="381240"/>
          </a:xfrm>
          <a:prstGeom prst="rightArrow">
            <a:avLst>
              <a:gd name="adj1" fmla="val 39167"/>
              <a:gd name="adj2" fmla="val 48322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0720" y="3275640"/>
            <a:ext cx="19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听读要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666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1893"/>
                </a:lnTo>
                <a:cubicBezTo>
                  <a:pt x="10800" y="11893"/>
                  <a:pt x="5400" y="11893"/>
                  <a:pt x="0" y="11893"/>
                </a:cubicBezTo>
                <a:cubicBezTo>
                  <a:pt x="5400" y="11893"/>
                  <a:pt x="10800" y="11893"/>
                  <a:pt x="10800" y="1189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6840" y="2437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、注意有没有读错的字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29160" y="42663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5ff1"/>
                </a:solidFill>
                <a:latin typeface="Times New Roman"/>
              </a:rPr>
              <a:t>、看朱自清先生是怎样表现春天的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696080" y="5715000"/>
            <a:ext cx="12193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876960" y="28951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水</a:t>
            </a: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起来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60640" y="3047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涨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132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zh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g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08960" y="3504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散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4880" y="441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在草丛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0840" y="281844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ff66ff"/>
                </a:solidFill>
                <a:latin typeface="zypyyb"/>
                <a:ea typeface="zypyyb"/>
              </a:rPr>
              <a:t>3</a:t>
            </a: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6094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4340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文章思路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8320" y="3048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66ff"/>
                </a:solidFill>
                <a:latin typeface="Times New Roman"/>
              </a:rPr>
              <a:t>春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905120"/>
            <a:ext cx="457200" cy="4267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6920" y="17524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1" action="ppaction://hlinksldjump"/>
              </a:rPr>
              <a:t>盼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0600" y="3809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绘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4640" y="57150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3" action="ppaction://hlinksldjump"/>
              </a:rPr>
              <a:t>赞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74320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2096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4" action="ppaction://hlinksldjump"/>
              </a:rPr>
              <a:t>春草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28954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5" action="ppaction://hlinksldjump"/>
              </a:rPr>
              <a:t>春花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581280"/>
            <a:ext cx="12952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春风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267080"/>
            <a:ext cx="12952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春雨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952880"/>
            <a:ext cx="12952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迎春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560" y="167580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轻快　热切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981080"/>
            <a:ext cx="53352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2600" y="586656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高昂　振奋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6019920"/>
            <a:ext cx="4572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715000"/>
            <a:ext cx="1371600" cy="6858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hlinkClick r:id="rId6" action="ppaction://hlinksldjump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46760" y="4341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欢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愉悦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362680"/>
            <a:ext cx="60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朗读要领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36232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0920" y="2133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１、用普通话朗读，读音要准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1560" y="48002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２、处理好朗读时的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重缓急等语调问题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791320"/>
            <a:ext cx="1219320" cy="609480"/>
          </a:xfrm>
          <a:prstGeom prst="ellipse">
            <a:avLst/>
          </a:prstGeom>
          <a:solidFill>
            <a:srgbClr val="8bae6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8000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72440" y="380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盼望着，盼望着，东风来了，春天的脚步近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6553080"/>
            <a:ext cx="114300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800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66680" y="456480"/>
            <a:ext cx="6786000" cy="703440"/>
            <a:chOff x="1066680" y="456480"/>
            <a:chExt cx="6786000" cy="703440"/>
          </a:xfrm>
        </p:grpSpPr>
        <p:sp>
          <p:nvSpPr>
            <p:cNvPr id="157" name=""/>
            <p:cNvSpPr/>
            <p:nvPr/>
          </p:nvSpPr>
          <p:spPr>
            <a:xfrm>
              <a:off x="1066680" y="456480"/>
              <a:ext cx="8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1160" y="4564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456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45600" y="4564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fj1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077320" y="6553080"/>
            <a:ext cx="1066680" cy="3049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春草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7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切都像刚睡醒的样子，欣欣然张开了眼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山朗润起来了，水涨起来了，太阳的脸红起来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40960" y="913680"/>
            <a:ext cx="6277320" cy="1617840"/>
            <a:chOff x="840960" y="913680"/>
            <a:chExt cx="6277320" cy="1617840"/>
          </a:xfrm>
        </p:grpSpPr>
        <p:sp>
          <p:nvSpPr>
            <p:cNvPr id="165" name=""/>
            <p:cNvSpPr/>
            <p:nvPr/>
          </p:nvSpPr>
          <p:spPr>
            <a:xfrm>
              <a:off x="1222200" y="9136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0960" y="18280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1520" y="182808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1828080"/>
              <a:ext cx="56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9:54:23Z</dcterms:created>
  <dc:creator>wutao</dc:creator>
  <dc:description/>
  <dc:language>en-US</dc:language>
  <cp:lastModifiedBy>周璟</cp:lastModifiedBy>
  <dcterms:modified xsi:type="dcterms:W3CDTF">2004-10-29T07:24:25Z</dcterms:modified>
  <cp:revision>100</cp:revision>
  <dc:subject/>
  <dc:title>没有幻灯片标题</dc:title>
</cp:coreProperties>
</file>