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667-C188-45B5-B6AF-B2B9505A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D1C4-6DD1-49B7-BBDF-A56533B5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73B3-2EFE-4997-A415-CDD1074A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AE5E-D6C9-4DB1-AC38-C4778C09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67FB-5882-4AA2-A912-C605B84E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30FD-94FE-4A7A-A7EC-BA375383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93E1-D250-4C40-A8A2-43E63221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A16D-C47E-491D-A545-186E798B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FDA5-595F-441E-99CE-434EC5C3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3881-99A9-4C23-B0AD-A5761F79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9081-C592-4E00-85D6-99438F2D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5F1-F70D-46A1-B98B-1C39C7FD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D0A9-7F6F-415F-8BF3-E7ADA7C3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6AB6-3208-4CFF-96AE-2A4D0EAA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24BC-8FF7-4481-BE2A-F5A230C4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3B6B-6EAA-4C33-9648-A1A67474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9634-5394-442F-855F-A2B14A99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1DD-DE32-4624-B702-B6B424A7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824-CB21-4DBF-AFC4-5C8FA50B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2A6D-ECE3-4559-960B-C71A0D59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CC1-1144-429B-8BD1-14E92671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BAE-DB59-4C61-852D-172036F1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358-F9C0-4AC7-9E2A-C0FD505C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0BA-2318-4AA3-97EB-D22D935A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3319-E259-422A-8D2D-E69DF27BF7CD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E9C6-BF3B-490A-BFA5-21482FE2372A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4080" y="304920"/>
            <a:ext cx="28958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 baseline="10000">
                <a:solidFill>
                  <a:srgbClr val="00ff00"/>
                </a:solidFill>
                <a:latin typeface="Times New Roman"/>
                <a:ea typeface="隶书"/>
              </a:rPr>
              <a:t>春</a:t>
            </a:r>
            <a:endParaRPr b="0" lang="en-US" sz="30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3733920"/>
            <a:ext cx="2438280" cy="685800"/>
          </a:xfrm>
          <a:prstGeom prst="rect">
            <a:avLst/>
          </a:prstGeom>
          <a:solidFill>
            <a:srgbClr val="8bae6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朱自清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077320" y="5867280"/>
            <a:ext cx="1066680" cy="9907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隶书"/>
              </a:rPr>
              <a:t>下一页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7920" y="327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16240" y="4799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第一课时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896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7620120" y="6553080"/>
            <a:ext cx="1523880" cy="3049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春花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533520"/>
            <a:ext cx="8305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1143000" y="379800"/>
            <a:ext cx="1158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小草偷偷地从土里钻出来，嫩嫩的，绿绿的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园子里，田野里，瞧去，一大片一大片满是 的。坐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着，躺着，打两个滚，踢几脚球，赛几趟跑，捉几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回迷藏。风轻悄悄的，草软绵绵的。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           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191120" y="456480"/>
            <a:ext cx="3584880" cy="1160640"/>
            <a:chOff x="4191120" y="456480"/>
            <a:chExt cx="3584880" cy="1160640"/>
          </a:xfrm>
        </p:grpSpPr>
        <p:sp>
          <p:nvSpPr>
            <p:cNvPr id="174" name=""/>
            <p:cNvSpPr/>
            <p:nvPr/>
          </p:nvSpPr>
          <p:spPr>
            <a:xfrm>
              <a:off x="4191120" y="4564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Times New Roman"/>
                </a:rPr>
                <a:t>. 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89480" y="913680"/>
              <a:ext cx="68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Times New Roman"/>
                </a:rPr>
                <a:t>.   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desk-ss-sakur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-721080" y="360"/>
            <a:ext cx="10595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桃树、杏树、梨树，你不让我，我不让你，都开满了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花赶趟儿。红的像火，粉的像霞，白的像雪。花里带着甜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味儿；闭了眼，树上仿佛已经满是桃儿、杏儿、梨儿。花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下成千成百的蜜蜂嗡嗡地闹着，大小的蝴蝶飞来飞去。野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花遍地是：杂样儿，有名字的，没名字的，散在草丛里像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眼睛，像星星，还眨呀眨的。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72400" y="236232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808000"/>
                </a:solidFill>
                <a:uFillTx/>
                <a:latin typeface="Times New Roman"/>
                <a:hlinkClick r:id="rId2" action="ppaction://hlinksldjump"/>
              </a:rPr>
              <a:t>野花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6553080"/>
            <a:ext cx="838080" cy="3049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春风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229600" y="6477120"/>
            <a:ext cx="914400" cy="380880"/>
          </a:xfrm>
          <a:prstGeom prst="ellipse">
            <a:avLst/>
          </a:prstGeom>
          <a:solidFill>
            <a:srgbClr val="8bae6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808000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0560" y="685440"/>
            <a:ext cx="666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野花遍地是：杂样儿，有名字的，没名字的，散在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草丛里，像眼睛，像星星，还眨呀眨的。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           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018" descr=""/>
          <p:cNvPicPr/>
          <p:nvPr/>
        </p:nvPicPr>
        <p:blipFill>
          <a:blip r:embed="rId1"/>
          <a:stretch/>
        </p:blipFill>
        <p:spPr>
          <a:xfrm>
            <a:off x="4572000" y="3124080"/>
            <a:ext cx="4572000" cy="3276720"/>
          </a:xfrm>
          <a:prstGeom prst="rect">
            <a:avLst/>
          </a:prstGeom>
          <a:ln w="0">
            <a:noFill/>
          </a:ln>
        </p:spPr>
      </p:pic>
      <p:pic>
        <p:nvPicPr>
          <p:cNvPr id="184" name="005" descr=""/>
          <p:cNvPicPr/>
          <p:nvPr/>
        </p:nvPicPr>
        <p:blipFill>
          <a:blip r:embed="rId2"/>
          <a:stretch/>
        </p:blipFill>
        <p:spPr>
          <a:xfrm>
            <a:off x="0" y="3105000"/>
            <a:ext cx="4572000" cy="3314880"/>
          </a:xfrm>
          <a:prstGeom prst="rect">
            <a:avLst/>
          </a:prstGeom>
          <a:ln w="0">
            <a:noFill/>
          </a:ln>
        </p:spPr>
      </p:pic>
      <p:pic>
        <p:nvPicPr>
          <p:cNvPr id="185" name="00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149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258080" y="350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春天像刚落地的娃娃，从头到脚都是新的，它生长着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36400" y="12186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新</a:t>
            </a:r>
            <a:endParaRPr b="0" lang="en-US" sz="9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360" y="2970720"/>
            <a:ext cx="445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春天像小姑娘，花枝招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展的，笑着，走着。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            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4080" y="46476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美</a:t>
            </a:r>
            <a:endParaRPr b="0" lang="en-US" sz="9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04320" y="3260520"/>
            <a:ext cx="458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春天像健壮的青年，有铁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一般的胳膊和腰脚，领着我们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上前去。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46080" y="45716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力</a:t>
            </a:r>
            <a:endParaRPr b="0" lang="en-US" sz="9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6553080"/>
            <a:ext cx="1143000" cy="3049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00258%20副本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07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967400" y="301680"/>
            <a:ext cx="493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雨是最寻常的，一下就是三两天。可别恼。看，像牛毛，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像花针，像细丝，密密地斜织着，人家屋顶上全笼着一层 薄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烟。树叶儿却绿得发亮，小草儿也青得逼你的眼。傍晚 时候，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上灯了，一点点黄晕的光，烘托出一片安静而和平的夜。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乡下，小路上，石桥边，有撑起伞慢慢走着的人，地里还有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工作的农民，披着蓑戴着笠。他们的房屋，稀稀疏疏的，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雨里静默着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6477120"/>
            <a:ext cx="914400" cy="380880"/>
          </a:xfrm>
          <a:prstGeom prst="ellipse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迎春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197" name="1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743200" cy="655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04" descr=""/>
            <p:cNvPicPr/>
            <p:nvPr/>
          </p:nvPicPr>
          <p:blipFill>
            <a:blip r:embed="rId2"/>
            <a:stretch/>
          </p:blipFill>
          <p:spPr>
            <a:xfrm>
              <a:off x="2743200" y="0"/>
              <a:ext cx="3124080" cy="66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16%20副本" descr=""/>
            <p:cNvPicPr/>
            <p:nvPr/>
          </p:nvPicPr>
          <p:blipFill>
            <a:blip r:embed="rId3"/>
            <a:stretch/>
          </p:blipFill>
          <p:spPr>
            <a:xfrm>
              <a:off x="5867280" y="0"/>
              <a:ext cx="3276720" cy="662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1676880" y="302400"/>
            <a:ext cx="530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吹面不寒杨柳风”，不错的，像母亲的手抚摸着你。风里带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些新翻的泥土的气息，混着青草味儿，还有各种花的香，都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微微润湿的空气里酝酿。鸟儿将巢安在繁花嫩叶当中，高兴起来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了，呼朋引伴地卖弄清脆的喉咙，唱出宛转的曲子，跟轻风流水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和着。牛背上牧童的短笛，这时候也成天嘹亮地响着。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0120" y="6553080"/>
            <a:ext cx="1523880" cy="3049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春雨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278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9440" y="2278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12560" y="608760"/>
            <a:ext cx="6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.  .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21320" y="60876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60680" y="990000"/>
            <a:ext cx="6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.  .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1066680"/>
            <a:ext cx="0" cy="381240"/>
          </a:xfrm>
          <a:prstGeom prst="line">
            <a:avLst/>
          </a:prstGeom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880" y="227880"/>
            <a:ext cx="7697520" cy="2227320"/>
            <a:chOff x="2880" y="227880"/>
            <a:chExt cx="7697520" cy="2227320"/>
          </a:xfrm>
        </p:grpSpPr>
        <p:sp>
          <p:nvSpPr>
            <p:cNvPr id="209" name=""/>
            <p:cNvSpPr/>
            <p:nvPr/>
          </p:nvSpPr>
          <p:spPr>
            <a:xfrm>
              <a:off x="6172200" y="380880"/>
              <a:ext cx="0" cy="38124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880" y="227880"/>
              <a:ext cx="7697520" cy="2227320"/>
              <a:chOff x="2880" y="227880"/>
              <a:chExt cx="7697520" cy="2227320"/>
            </a:xfrm>
          </p:grpSpPr>
          <p:sp>
            <p:nvSpPr>
              <p:cNvPr id="211" name=""/>
              <p:cNvSpPr/>
              <p:nvPr/>
            </p:nvSpPr>
            <p:spPr>
              <a:xfrm>
                <a:off x="5184360" y="1294560"/>
                <a:ext cx="686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9900"/>
                    </a:solidFill>
                    <a:latin typeface="Times New Roman"/>
                  </a:rPr>
                  <a:t>.  .</a:t>
                </a:r>
                <a:endParaRPr b="0" lang="en-US" sz="4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62160" y="1675800"/>
                <a:ext cx="686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9900"/>
                    </a:solidFill>
                    <a:latin typeface="Times New Roman"/>
                  </a:rPr>
                  <a:t>.  .</a:t>
                </a:r>
                <a:endParaRPr b="0" lang="en-US" sz="4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2880" y="227880"/>
                <a:ext cx="7697520" cy="2227320"/>
                <a:chOff x="2880" y="227880"/>
                <a:chExt cx="7697520" cy="2227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260680" y="227880"/>
                  <a:ext cx="686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  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175080" y="227880"/>
                  <a:ext cx="686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  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603080" y="608760"/>
                  <a:ext cx="686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  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041360" y="608760"/>
                  <a:ext cx="686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  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650840" y="618480"/>
                  <a:ext cx="686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  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393320" y="608760"/>
                  <a:ext cx="3070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441160" y="990000"/>
                  <a:ext cx="686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  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431880" y="986760"/>
                  <a:ext cx="686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  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793840" y="990000"/>
                  <a:ext cx="686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  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746080" y="1294560"/>
                  <a:ext cx="686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  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880" y="1751760"/>
                  <a:ext cx="686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  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050640" y="1675800"/>
                  <a:ext cx="686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  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648320" y="1076400"/>
                  <a:ext cx="0" cy="380880"/>
                </a:xfrm>
                <a:prstGeom prst="line">
                  <a:avLst/>
                </a:prstGeom>
                <a:ln w="63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43600" y="228600"/>
                  <a:ext cx="457200" cy="152280"/>
                </a:xfrm>
                <a:custGeom>
                  <a:avLst/>
                  <a:gdLst/>
                  <a:ahLst/>
                  <a:rect l="l" t="t" r="r" b="b"/>
                  <a:pathLst>
                    <a:path w="240" h="104">
                      <a:moveTo>
                        <a:pt x="0" y="56"/>
                      </a:moveTo>
                      <a:cubicBezTo>
                        <a:pt x="52" y="28"/>
                        <a:pt x="104" y="0"/>
                        <a:pt x="144" y="8"/>
                      </a:cubicBezTo>
                      <a:cubicBezTo>
                        <a:pt x="184" y="16"/>
                        <a:pt x="224" y="88"/>
                        <a:pt x="240" y="104"/>
                      </a:cubicBezTo>
                    </a:path>
                  </a:pathLst>
                </a:custGeom>
                <a:noFill/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3505320" y="1066680"/>
                <a:ext cx="457200" cy="76320"/>
              </a:xfrm>
              <a:custGeom>
                <a:avLst/>
                <a:gdLst/>
                <a:ahLst/>
                <a:rect l="l" t="t" r="r" b="b"/>
                <a:pathLst>
                  <a:path w="240" h="104">
                    <a:moveTo>
                      <a:pt x="0" y="56"/>
                    </a:moveTo>
                    <a:cubicBezTo>
                      <a:pt x="52" y="28"/>
                      <a:pt x="104" y="0"/>
                      <a:pt x="144" y="8"/>
                    </a:cubicBezTo>
                    <a:cubicBezTo>
                      <a:pt x="184" y="16"/>
                      <a:pt x="224" y="88"/>
                      <a:pt x="240" y="104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0600" bIns="30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191120" y="1066680"/>
                <a:ext cx="457200" cy="76320"/>
              </a:xfrm>
              <a:custGeom>
                <a:avLst/>
                <a:gdLst/>
                <a:ahLst/>
                <a:rect l="l" t="t" r="r" b="b"/>
                <a:pathLst>
                  <a:path w="240" h="104">
                    <a:moveTo>
                      <a:pt x="0" y="56"/>
                    </a:moveTo>
                    <a:cubicBezTo>
                      <a:pt x="52" y="28"/>
                      <a:pt x="104" y="0"/>
                      <a:pt x="144" y="8"/>
                    </a:cubicBezTo>
                    <a:cubicBezTo>
                      <a:pt x="184" y="16"/>
                      <a:pt x="224" y="88"/>
                      <a:pt x="240" y="104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0600" bIns="30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9144000" cy="6553080"/>
            <a:chOff x="0" y="0"/>
            <a:chExt cx="9144000" cy="6553080"/>
          </a:xfrm>
        </p:grpSpPr>
        <p:pic>
          <p:nvPicPr>
            <p:cNvPr id="231" name="123%20副本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470480" cy="64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789%20副本" descr=""/>
            <p:cNvPicPr/>
            <p:nvPr/>
          </p:nvPicPr>
          <p:blipFill>
            <a:blip r:embed="rId2"/>
            <a:stretch/>
          </p:blipFill>
          <p:spPr>
            <a:xfrm>
              <a:off x="4419720" y="0"/>
              <a:ext cx="4724280" cy="655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"/>
          <p:cNvSpPr/>
          <p:nvPr/>
        </p:nvSpPr>
        <p:spPr>
          <a:xfrm>
            <a:off x="1890000" y="302760"/>
            <a:ext cx="53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天上风筝渐渐多了，地上孩子也多了。城里乡下，家家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户户，老老小小，出赶趟儿似的，一个个都出来了。舒活舒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活筋骨，抖擞抖擞精神，各做各的一份事去。“一年之计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于春”，刚起头儿，有的是工夫，有的是希望。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72400" y="6477120"/>
            <a:ext cx="1371600" cy="380880"/>
          </a:xfrm>
          <a:prstGeom prst="ellipse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1565640" y="31240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明确教学目标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1143000" y="40384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提出听读要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5410080" y="2286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正            音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5832720" y="37328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理清文章思路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">
            <a:hlinkClick r:id="rId5" action="ppaction://hlinksldjump"/>
          </p:cNvPr>
          <p:cNvSpPr/>
          <p:nvPr/>
        </p:nvSpPr>
        <p:spPr>
          <a:xfrm>
            <a:off x="5169600" y="47998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朗   读  训  练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29560" y="487620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课 文 范 读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12960" y="-720"/>
            <a:ext cx="3228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6600ff"/>
                </a:solidFill>
                <a:latin typeface="Times New Roman"/>
                <a:ea typeface="隶书"/>
              </a:rPr>
              <a:t>教学过程</a:t>
            </a:r>
            <a:endParaRPr b="0" lang="en-US" sz="10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94000" y="220932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导 入 新 课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029200"/>
            <a:ext cx="38124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191120"/>
            <a:ext cx="38124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4952880"/>
            <a:ext cx="38124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3809880"/>
            <a:ext cx="38124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2438280"/>
            <a:ext cx="38124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3276720"/>
            <a:ext cx="38124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362320"/>
            <a:ext cx="38124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81080" y="1143000"/>
            <a:ext cx="5791320" cy="289548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Times New Roman"/>
                <a:ea typeface="隶书"/>
              </a:rPr>
              <a:t>教学目标</a:t>
            </a:r>
            <a:endParaRPr b="0" lang="en-US" sz="7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5943600"/>
            <a:ext cx="838080" cy="457200"/>
          </a:xfrm>
          <a:prstGeom prst="rect">
            <a:avLst/>
          </a:prstGeom>
          <a:solidFill>
            <a:srgbClr val="8bae6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808000"/>
                </a:solidFill>
                <a:uFillTx/>
                <a:latin typeface="Times New Roman"/>
                <a:ea typeface="隶书"/>
                <a:hlinkClick r:id="rId1" action="ppaction://hlinksldjump"/>
              </a:rPr>
              <a:t>返回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2840" y="4419360"/>
            <a:ext cx="60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5ff1"/>
                </a:solidFill>
                <a:latin typeface="Times New Roman"/>
              </a:rPr>
              <a:t>                </a:t>
            </a:r>
            <a:r>
              <a:rPr b="1" lang="zh-CN" sz="3600" spc="-1" strike="noStrike">
                <a:solidFill>
                  <a:srgbClr val="705ff1"/>
                </a:solidFill>
                <a:latin typeface="Times New Roman"/>
              </a:rPr>
              <a:t>培养通过朗读领会文章思想感情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5ff1"/>
                </a:solidFill>
                <a:latin typeface="Times New Roman"/>
              </a:rPr>
              <a:t>以及抓住特点描写景物的能力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495680"/>
            <a:ext cx="609840" cy="381240"/>
          </a:xfrm>
          <a:prstGeom prst="rightArrow">
            <a:avLst>
              <a:gd name="adj1" fmla="val 39167"/>
              <a:gd name="adj2" fmla="val 48322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0720" y="3275640"/>
            <a:ext cx="19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听读要求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2666880"/>
            <a:ext cx="457200" cy="1905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1893"/>
                </a:lnTo>
                <a:cubicBezTo>
                  <a:pt x="10800" y="11893"/>
                  <a:pt x="5400" y="11893"/>
                  <a:pt x="0" y="11893"/>
                </a:cubicBezTo>
                <a:cubicBezTo>
                  <a:pt x="5400" y="11893"/>
                  <a:pt x="10800" y="11893"/>
                  <a:pt x="10800" y="11893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06840" y="243756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5ff1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705ff1"/>
                </a:solidFill>
                <a:latin typeface="Times New Roman"/>
              </a:rPr>
              <a:t>、注意有没有读错的字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29160" y="426636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5ff1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705ff1"/>
                </a:solidFill>
                <a:latin typeface="Times New Roman"/>
              </a:rPr>
              <a:t>、看朱自清先生是怎样表现春天的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696080" y="5715000"/>
            <a:ext cx="1219320" cy="533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876960" y="289512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水</a:t>
            </a:r>
            <a:r>
              <a:rPr b="1" lang="zh-CN" sz="96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起来了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60640" y="30474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Times New Roman"/>
                <a:ea typeface="隶书"/>
              </a:rPr>
              <a:t>涨</a:t>
            </a:r>
            <a:endParaRPr b="0" lang="en-US" sz="9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13264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ff"/>
                </a:solidFill>
                <a:latin typeface="Times New Roman"/>
              </a:rPr>
              <a:t>zh</a:t>
            </a:r>
            <a:r>
              <a:rPr b="0" lang="en-US" sz="6000" spc="-1" strike="noStrike">
                <a:solidFill>
                  <a:srgbClr val="ff66ff"/>
                </a:solidFill>
                <a:latin typeface="zypyyb"/>
                <a:ea typeface="zypyyb"/>
              </a:rPr>
              <a:t>3</a:t>
            </a:r>
            <a:r>
              <a:rPr b="0" lang="en-US" sz="6000" spc="-1" strike="noStrike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6000" spc="-1" strike="noStrike">
                <a:solidFill>
                  <a:srgbClr val="ff66ff"/>
                </a:solidFill>
                <a:latin typeface="zypyyb"/>
                <a:ea typeface="zypyyb"/>
              </a:rPr>
              <a:t>g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08960" y="35046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Times New Roman"/>
                <a:ea typeface="隶书"/>
              </a:rPr>
              <a:t>散</a:t>
            </a:r>
            <a:endParaRPr b="0" lang="en-US" sz="9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84880" y="4418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在草丛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30840" y="281844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6000" spc="-1" strike="noStrike">
                <a:solidFill>
                  <a:srgbClr val="ff66ff"/>
                </a:solidFill>
                <a:latin typeface="zypyyb"/>
                <a:ea typeface="zypyyb"/>
              </a:rPr>
              <a:t>3</a:t>
            </a:r>
            <a:r>
              <a:rPr b="0" lang="en-US" sz="6000" spc="-1" strike="noStrike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609480"/>
          </a:xfrm>
          <a:prstGeom prst="ellipse">
            <a:avLst/>
          </a:prstGeom>
          <a:solidFill>
            <a:srgbClr val="8bae6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443400" y="3808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仿宋_GB2312"/>
              </a:rPr>
              <a:t>文章思路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8320" y="30481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66ff"/>
                </a:solidFill>
                <a:latin typeface="Times New Roman"/>
              </a:rPr>
              <a:t>春</a:t>
            </a:r>
            <a:endParaRPr b="0" lang="en-US" sz="9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1905120"/>
            <a:ext cx="457200" cy="4267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56920" y="175248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808000"/>
                </a:solidFill>
                <a:uFillTx/>
                <a:latin typeface="Times New Roman"/>
                <a:hlinkClick r:id="rId1" action="ppaction://hlinksldjump"/>
              </a:rPr>
              <a:t>盼春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0600" y="380988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808000"/>
                </a:solidFill>
                <a:uFillTx/>
                <a:latin typeface="Times New Roman"/>
                <a:hlinkClick r:id="rId2" action="ppaction://hlinksldjump"/>
              </a:rPr>
              <a:t>绘春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4640" y="571500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808000"/>
                </a:solidFill>
                <a:uFillTx/>
                <a:latin typeface="Times New Roman"/>
                <a:hlinkClick r:id="rId3" action="ppaction://hlinksldjump"/>
              </a:rPr>
              <a:t>赞春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743200"/>
            <a:ext cx="457200" cy="25909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2209680"/>
            <a:ext cx="129528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808000"/>
                </a:solidFill>
                <a:uFillTx/>
                <a:latin typeface="Times New Roman"/>
                <a:hlinkClick r:id="rId4" action="ppaction://hlinksldjump"/>
              </a:rPr>
              <a:t>春草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2895480"/>
            <a:ext cx="129528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808000"/>
                </a:solidFill>
                <a:uFillTx/>
                <a:latin typeface="Times New Roman"/>
                <a:hlinkClick r:id="rId5" action="ppaction://hlinksldjump"/>
              </a:rPr>
              <a:t>春花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581280"/>
            <a:ext cx="129528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春风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4267080"/>
            <a:ext cx="129528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春雨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952880"/>
            <a:ext cx="129528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迎春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0560" y="167580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轻快　热切）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1981080"/>
            <a:ext cx="533520" cy="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92600" y="5866560"/>
            <a:ext cx="18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高昂　振奋）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6019920"/>
            <a:ext cx="457200" cy="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5715000"/>
            <a:ext cx="1371600" cy="6858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808000"/>
                </a:solidFill>
                <a:uFillTx/>
                <a:latin typeface="Times New Roman"/>
                <a:hlinkClick r:id="rId6" action="ppaction://hlinksldjump"/>
              </a:rPr>
              <a:t>返回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46760" y="4341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欢快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愉悦）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4400" y="2362680"/>
            <a:ext cx="609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Times New Roman"/>
                <a:ea typeface="隶书"/>
              </a:rPr>
              <a:t>朗读要领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2362320"/>
            <a:ext cx="609480" cy="3200400"/>
          </a:xfrm>
          <a:custGeom>
            <a:avLst/>
            <a:gdLst>
              <a:gd name="textAreaLeft" fmla="*/ 389520 w 609480"/>
              <a:gd name="textAreaRight" fmla="*/ 609840 w 6094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30920" y="213300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１、用普通话朗读，读音要准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11560" y="480024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２、处理好朗读时的轻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重缓急等语调问题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24680" y="5791320"/>
            <a:ext cx="1219320" cy="609480"/>
          </a:xfrm>
          <a:prstGeom prst="ellipse">
            <a:avLst/>
          </a:prstGeom>
          <a:solidFill>
            <a:srgbClr val="8bae6c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808000"/>
                </a:solidFill>
                <a:uFillTx/>
                <a:latin typeface="Times New Roman"/>
                <a:ea typeface="隶书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0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672440" y="3801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盼望着，盼望着，东风来了，春天的脚步近了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01000" y="6553080"/>
            <a:ext cx="1143000" cy="3049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808000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066680" y="456480"/>
            <a:ext cx="6786000" cy="703440"/>
            <a:chOff x="1066680" y="456480"/>
            <a:chExt cx="6786000" cy="703440"/>
          </a:xfrm>
        </p:grpSpPr>
        <p:sp>
          <p:nvSpPr>
            <p:cNvPr id="157" name=""/>
            <p:cNvSpPr/>
            <p:nvPr/>
          </p:nvSpPr>
          <p:spPr>
            <a:xfrm>
              <a:off x="1066680" y="456480"/>
              <a:ext cx="81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Times New Roman"/>
                </a:rPr>
                <a:t>.   .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41160" y="456480"/>
              <a:ext cx="81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Times New Roman"/>
                </a:rPr>
                <a:t>.   .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19720" y="4564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Times New Roman"/>
                </a:rPr>
                <a:t>.  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45600" y="45648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fj12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077320" y="6553080"/>
            <a:ext cx="1066680" cy="3049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春草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4730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一切都像刚睡醒的样子，欣欣然张开了眼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山朗润起来了，水涨起来了，太阳的脸红起来了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840960" y="913680"/>
            <a:ext cx="6277320" cy="1617840"/>
            <a:chOff x="840960" y="913680"/>
            <a:chExt cx="6277320" cy="1617840"/>
          </a:xfrm>
        </p:grpSpPr>
        <p:sp>
          <p:nvSpPr>
            <p:cNvPr id="165" name=""/>
            <p:cNvSpPr/>
            <p:nvPr/>
          </p:nvSpPr>
          <p:spPr>
            <a:xfrm>
              <a:off x="1222200" y="913680"/>
              <a:ext cx="81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Times New Roman"/>
                </a:rPr>
                <a:t>.   .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0960" y="1828080"/>
              <a:ext cx="81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Times New Roman"/>
                </a:rPr>
                <a:t>.   .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31520" y="182808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Times New Roman"/>
                </a:rPr>
                <a:t>.  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53080" y="1828080"/>
              <a:ext cx="56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Times New Roman"/>
                </a:rPr>
                <a:t>.  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09:54:23Z</dcterms:created>
  <dc:creator>wutao</dc:creator>
  <dc:description/>
  <dc:language>en-US</dc:language>
  <cp:lastModifiedBy>周璟</cp:lastModifiedBy>
  <dcterms:modified xsi:type="dcterms:W3CDTF">2004-10-29T07:24:25Z</dcterms:modified>
  <cp:revision>100</cp:revision>
  <dc:subject/>
  <dc:title>没有幻灯片标题</dc:title>
</cp:coreProperties>
</file>