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53C-1931-4389-AE50-E00EDD87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524-55B0-48B2-B581-19B6C9F1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5FB-A15A-4ECD-AFE4-719DB614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E7F-97C8-4DC1-87AE-CD6DD682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F56-5FAD-4154-9060-30351E9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E0E-A148-4125-9E3A-620008C6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5E1-07BE-4AF1-8CFA-BBB15816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ECF-6730-46DD-84E2-D745AAC5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3E0-1DE4-41C6-8455-1F348524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5A4-ABD4-4CC1-AE9C-D1B314C0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A59-4EC6-497E-AE3C-1677ED5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164-B59B-4016-A55B-A440A14F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8010-893F-4F05-B536-ACFA170ACC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jpeg"/><Relationship Id="rId4" Type="http://schemas.openxmlformats.org/officeDocument/2006/relationships/slide" Target="slide4.xml"/><Relationship Id="rId5" Type="http://schemas.openxmlformats.org/officeDocument/2006/relationships/image" Target="../media/image3.jpeg"/><Relationship Id="rId6" Type="http://schemas.openxmlformats.org/officeDocument/2006/relationships/slide" Target="slide4.xml"/><Relationship Id="rId7" Type="http://schemas.openxmlformats.org/officeDocument/2006/relationships/image" Target="../media/image4.jpeg"/><Relationship Id="rId8" Type="http://schemas.openxmlformats.org/officeDocument/2006/relationships/slide" Target="slide4.xml"/><Relationship Id="rId9" Type="http://schemas.openxmlformats.org/officeDocument/2006/relationships/image" Target="../media/image5.jpe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5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atur1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71600" y="68580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42" name="natur16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81480" y="7621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43" name="0612007l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05520" y="35812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Dcp0073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371600" y="358128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10" action="ppaction://hlinksldjump"/>
          </p:cNvPr>
          <p:cNvSpPr/>
          <p:nvPr/>
        </p:nvSpPr>
        <p:spPr>
          <a:xfrm>
            <a:off x="75438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8E6-F5B5-4BF3-826E-0B3F0792E3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297F-5E75-4AA6-9A16-4BF112882B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</p:pic>
      <p:sp>
        <p:nvSpPr>
          <p:cNvPr id="117" name=""/>
          <p:cNvSpPr/>
          <p:nvPr/>
        </p:nvSpPr>
        <p:spPr>
          <a:xfrm>
            <a:off x="3352680" y="5867280"/>
            <a:ext cx="25146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5867280"/>
            <a:ext cx="23623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066680"/>
            <a:ext cx="2667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6477120" y="58672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5867280"/>
            <a:ext cx="25146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286000"/>
            <a:ext cx="167652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ff00"/>
                </a:solidFill>
                <a:latin typeface="Times New Roman"/>
                <a:ea typeface="隶书"/>
              </a:rPr>
              <a:t>春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505320" y="4952880"/>
            <a:ext cx="2438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80880" y="5815080"/>
            <a:ext cx="2514600" cy="662040"/>
          </a:xfrm>
          <a:custGeom>
            <a:avLst/>
            <a:gdLst>
              <a:gd name="textAreaLeft" fmla="*/ 42840 w 2514600"/>
              <a:gd name="textAreaRight" fmla="*/ 2471760 w 25146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82010" h="21600">
                <a:moveTo>
                  <a:pt x="0" y="0"/>
                </a:moveTo>
                <a:lnTo>
                  <a:pt x="82010" y="0"/>
                </a:lnTo>
                <a:lnTo>
                  <a:pt x="82010" y="21600"/>
                </a:lnTo>
                <a:lnTo>
                  <a:pt x="0" y="21600"/>
                </a:lnTo>
                <a:close/>
              </a:path>
              <a:path fill="lightenLess" w="82010" h="21600">
                <a:moveTo>
                  <a:pt x="0" y="0"/>
                </a:moveTo>
                <a:lnTo>
                  <a:pt x="82010" y="0"/>
                </a:lnTo>
                <a:lnTo>
                  <a:pt x="80610" y="1400"/>
                </a:lnTo>
                <a:lnTo>
                  <a:pt x="1400" y="1400"/>
                </a:lnTo>
                <a:close/>
              </a:path>
              <a:path fill="darken" w="82010" h="21600">
                <a:moveTo>
                  <a:pt x="82010" y="0"/>
                </a:moveTo>
                <a:lnTo>
                  <a:pt x="82010" y="21600"/>
                </a:lnTo>
                <a:lnTo>
                  <a:pt x="80610" y="20200"/>
                </a:lnTo>
                <a:lnTo>
                  <a:pt x="80610" y="1400"/>
                </a:lnTo>
                <a:close/>
              </a:path>
              <a:path fill="darkenLess" w="82010" h="21600">
                <a:moveTo>
                  <a:pt x="82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10" y="20200"/>
                </a:lnTo>
                <a:close/>
              </a:path>
              <a:path fill="lighten" w="82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276720" y="5815080"/>
            <a:ext cx="2590560" cy="738000"/>
          </a:xfrm>
          <a:custGeom>
            <a:avLst/>
            <a:gdLst>
              <a:gd name="textAreaLeft" fmla="*/ 47520 w 2590560"/>
              <a:gd name="textAreaRight" fmla="*/ 2543040 w 259056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75795" h="21600">
                <a:moveTo>
                  <a:pt x="0" y="0"/>
                </a:moveTo>
                <a:lnTo>
                  <a:pt x="75795" y="0"/>
                </a:lnTo>
                <a:lnTo>
                  <a:pt x="75795" y="21600"/>
                </a:lnTo>
                <a:lnTo>
                  <a:pt x="0" y="21600"/>
                </a:lnTo>
                <a:close/>
              </a:path>
              <a:path fill="lightenLess" w="75795" h="21600">
                <a:moveTo>
                  <a:pt x="0" y="0"/>
                </a:moveTo>
                <a:lnTo>
                  <a:pt x="75795" y="0"/>
                </a:lnTo>
                <a:lnTo>
                  <a:pt x="74395" y="1400"/>
                </a:lnTo>
                <a:lnTo>
                  <a:pt x="1400" y="1400"/>
                </a:lnTo>
                <a:close/>
              </a:path>
              <a:path fill="darken" w="75795" h="21600">
                <a:moveTo>
                  <a:pt x="75795" y="0"/>
                </a:moveTo>
                <a:lnTo>
                  <a:pt x="75795" y="21600"/>
                </a:lnTo>
                <a:lnTo>
                  <a:pt x="74395" y="20200"/>
                </a:lnTo>
                <a:lnTo>
                  <a:pt x="74395" y="1400"/>
                </a:lnTo>
                <a:close/>
              </a:path>
              <a:path fill="darkenLess" w="75795" h="21600">
                <a:moveTo>
                  <a:pt x="75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95" y="20200"/>
                </a:lnTo>
                <a:close/>
              </a:path>
              <a:path fill="lighten" w="75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52480" y="12193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教学方法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8195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四能一体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7543800" y="5181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64A-73F8-450A-A70B-1C27B6F797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14600" y="762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导入新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16765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二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听一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3581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四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666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5720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五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7620120" y="365760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16765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2819520" y="990720"/>
            <a:ext cx="3429000" cy="609480"/>
          </a:xfrm>
          <a:custGeom>
            <a:avLst/>
            <a:gdLst>
              <a:gd name="textAreaLeft" fmla="*/ 39240 w 3429000"/>
              <a:gd name="textAreaRight" fmla="*/ 3389760 w 3429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1465" h="21600">
                <a:moveTo>
                  <a:pt x="0" y="0"/>
                </a:moveTo>
                <a:lnTo>
                  <a:pt x="121465" y="0"/>
                </a:lnTo>
                <a:lnTo>
                  <a:pt x="121465" y="21600"/>
                </a:lnTo>
                <a:lnTo>
                  <a:pt x="0" y="21600"/>
                </a:lnTo>
                <a:close/>
              </a:path>
              <a:path fill="lightenLess" w="121465" h="21600">
                <a:moveTo>
                  <a:pt x="0" y="0"/>
                </a:moveTo>
                <a:lnTo>
                  <a:pt x="121465" y="0"/>
                </a:lnTo>
                <a:lnTo>
                  <a:pt x="120065" y="1400"/>
                </a:lnTo>
                <a:lnTo>
                  <a:pt x="1400" y="1400"/>
                </a:lnTo>
                <a:close/>
              </a:path>
              <a:path fill="darken" w="121465" h="21600">
                <a:moveTo>
                  <a:pt x="121465" y="0"/>
                </a:moveTo>
                <a:lnTo>
                  <a:pt x="121465" y="21600"/>
                </a:lnTo>
                <a:lnTo>
                  <a:pt x="120065" y="20200"/>
                </a:lnTo>
                <a:lnTo>
                  <a:pt x="120065" y="1400"/>
                </a:lnTo>
                <a:close/>
              </a:path>
              <a:path fill="darkenLess" w="121465" h="21600">
                <a:moveTo>
                  <a:pt x="121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65" y="20200"/>
                </a:lnTo>
                <a:close/>
              </a:path>
              <a:path fill="lighten" w="121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2590920" y="1981080"/>
            <a:ext cx="3047760" cy="457200"/>
          </a:xfrm>
          <a:custGeom>
            <a:avLst/>
            <a:gdLst>
              <a:gd name="textAreaLeft" fmla="*/ 29520 w 3047760"/>
              <a:gd name="textAreaRight" fmla="*/ 3018240 w 3047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892" h="21600">
                <a:moveTo>
                  <a:pt x="0" y="0"/>
                </a:moveTo>
                <a:lnTo>
                  <a:pt x="143892" y="0"/>
                </a:lnTo>
                <a:lnTo>
                  <a:pt x="143892" y="21600"/>
                </a:lnTo>
                <a:lnTo>
                  <a:pt x="0" y="21600"/>
                </a:lnTo>
                <a:close/>
              </a:path>
              <a:path fill="lightenLess" w="143892" h="21600">
                <a:moveTo>
                  <a:pt x="0" y="0"/>
                </a:moveTo>
                <a:lnTo>
                  <a:pt x="143892" y="0"/>
                </a:lnTo>
                <a:lnTo>
                  <a:pt x="142492" y="1400"/>
                </a:lnTo>
                <a:lnTo>
                  <a:pt x="1400" y="1400"/>
                </a:lnTo>
                <a:close/>
              </a:path>
              <a:path fill="darken" w="143892" h="21600">
                <a:moveTo>
                  <a:pt x="143892" y="0"/>
                </a:moveTo>
                <a:lnTo>
                  <a:pt x="143892" y="21600"/>
                </a:lnTo>
                <a:lnTo>
                  <a:pt x="142492" y="20200"/>
                </a:lnTo>
                <a:lnTo>
                  <a:pt x="142492" y="1400"/>
                </a:lnTo>
                <a:close/>
              </a:path>
              <a:path fill="darkenLess" w="143892" h="21600">
                <a:moveTo>
                  <a:pt x="14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92" y="20200"/>
                </a:lnTo>
                <a:close/>
              </a:path>
              <a:path fill="lighten" w="14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2514600" y="2895480"/>
            <a:ext cx="3124080" cy="533520"/>
          </a:xfrm>
          <a:custGeom>
            <a:avLst/>
            <a:gdLst>
              <a:gd name="textAreaLeft" fmla="*/ 34560 w 3124080"/>
              <a:gd name="textAreaRight" fmla="*/ 3089520 w 3124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6410" h="21600">
                <a:moveTo>
                  <a:pt x="0" y="0"/>
                </a:moveTo>
                <a:lnTo>
                  <a:pt x="126410" y="0"/>
                </a:lnTo>
                <a:lnTo>
                  <a:pt x="126410" y="21600"/>
                </a:lnTo>
                <a:lnTo>
                  <a:pt x="0" y="21600"/>
                </a:lnTo>
                <a:close/>
              </a:path>
              <a:path fill="lightenLess" w="126410" h="21600">
                <a:moveTo>
                  <a:pt x="0" y="0"/>
                </a:moveTo>
                <a:lnTo>
                  <a:pt x="126410" y="0"/>
                </a:lnTo>
                <a:lnTo>
                  <a:pt x="125010" y="1400"/>
                </a:lnTo>
                <a:lnTo>
                  <a:pt x="1400" y="1400"/>
                </a:lnTo>
                <a:close/>
              </a:path>
              <a:path fill="darken" w="126410" h="21600">
                <a:moveTo>
                  <a:pt x="126410" y="0"/>
                </a:moveTo>
                <a:lnTo>
                  <a:pt x="126410" y="21600"/>
                </a:lnTo>
                <a:lnTo>
                  <a:pt x="125010" y="20200"/>
                </a:lnTo>
                <a:lnTo>
                  <a:pt x="125010" y="1400"/>
                </a:lnTo>
                <a:close/>
              </a:path>
              <a:path fill="darkenLess" w="126410" h="21600">
                <a:moveTo>
                  <a:pt x="126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010" y="20200"/>
                </a:lnTo>
                <a:close/>
              </a:path>
              <a:path fill="lighten" w="126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733920"/>
            <a:ext cx="2819520" cy="609480"/>
          </a:xfrm>
          <a:custGeom>
            <a:avLst/>
            <a:gdLst>
              <a:gd name="textAreaLeft" fmla="*/ 39240 w 2819520"/>
              <a:gd name="textAreaRight" fmla="*/ 2780280 w 2819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9878" h="21600">
                <a:moveTo>
                  <a:pt x="0" y="0"/>
                </a:moveTo>
                <a:lnTo>
                  <a:pt x="99878" y="0"/>
                </a:lnTo>
                <a:lnTo>
                  <a:pt x="99878" y="21600"/>
                </a:lnTo>
                <a:lnTo>
                  <a:pt x="0" y="21600"/>
                </a:lnTo>
                <a:close/>
              </a:path>
              <a:path fill="lightenLess" w="99878" h="21600">
                <a:moveTo>
                  <a:pt x="0" y="0"/>
                </a:moveTo>
                <a:lnTo>
                  <a:pt x="99878" y="0"/>
                </a:lnTo>
                <a:lnTo>
                  <a:pt x="98478" y="1400"/>
                </a:lnTo>
                <a:lnTo>
                  <a:pt x="1400" y="1400"/>
                </a:lnTo>
                <a:close/>
              </a:path>
              <a:path fill="darken" w="99878" h="21600">
                <a:moveTo>
                  <a:pt x="99878" y="0"/>
                </a:moveTo>
                <a:lnTo>
                  <a:pt x="99878" y="21600"/>
                </a:lnTo>
                <a:lnTo>
                  <a:pt x="98478" y="20200"/>
                </a:lnTo>
                <a:lnTo>
                  <a:pt x="98478" y="1400"/>
                </a:lnTo>
                <a:close/>
              </a:path>
              <a:path fill="darkenLess" w="99878" h="21600">
                <a:moveTo>
                  <a:pt x="99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78" y="20200"/>
                </a:lnTo>
                <a:close/>
              </a:path>
              <a:path fill="lighten" w="99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2743200" y="47242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13E-04A1-47D0-BF69-F731F20285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2362320"/>
            <a:ext cx="77724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写    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细笔细描的方法抓住景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特征写一篇短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题目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&lt;&lt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&gt;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1981440" cy="126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772400" y="5334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ECE-F911-4BB1-82D9-77B8901AE1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819520" y="1676520"/>
            <a:ext cx="5486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朗读课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描绘了大地春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生机勃发的动人景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赞美春的活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要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口齿清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感情真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自然流畅的朗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133720" cy="3352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924680" y="54864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6EC-6E31-4ADE-A2E2-8BDA95CFD0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6000" y="27432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5000" y="27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0" y="28195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2400" y="28195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581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5000" y="3505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9760" y="3505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8880" y="3505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3080" y="41911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7238880" y="99072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752480"/>
            <a:ext cx="731520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听录音，给加点字注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蓑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)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水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酝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)(        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薄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)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黄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) 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捉迷藏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5105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590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suō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zhǎn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  yùn        n¡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352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o                  yùn                   yìn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h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zypyyb"/>
                <a:ea typeface="zypyyb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C97-6F77-499F-8212-4EF990D250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5A2-DFB0-4FA1-9AC3-78579A1E843E}" type="slidenum">
              <a:rPr b="0" lang="zh-CN" sz="14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1295280"/>
            <a:ext cx="7162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教学目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感受春天景色的美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培养热爱大自然的情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领会课文语言的准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生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学习抓住景物特征细致描写的方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熟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朗诵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培养口头描述的能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541008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571500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 flipH="1">
            <a:off x="7391520" y="55627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C7D5-B5E6-45F9-B826-6DDF5ABD85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2971800"/>
            <a:ext cx="2438280" cy="92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00cc"/>
                </a:solidFill>
                <a:uFillTx/>
                <a:latin typeface="Times New Roman"/>
                <a:ea typeface="隶书"/>
                <a:hlinkClick r:id="rId3" action="ppaction://hlinksldjump"/>
              </a:rPr>
              <a:t>朱自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3880" y="1600200"/>
            <a:ext cx="2133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春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3124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写景散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7467480" y="4724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盼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124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绘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3434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赞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228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读一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议一议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762120"/>
            <a:ext cx="5791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36560" y="10666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可分为几个部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3880"/>
            <a:ext cx="1752480" cy="1828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057400"/>
            <a:ext cx="129564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057400"/>
            <a:ext cx="1523880" cy="1676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209680"/>
            <a:ext cx="1295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1295280" y="20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2362320" y="22860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352680"/>
            <a:ext cx="1600200" cy="60984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6657" h="21600">
                <a:moveTo>
                  <a:pt x="0" y="0"/>
                </a:moveTo>
                <a:lnTo>
                  <a:pt x="56657" y="0"/>
                </a:lnTo>
                <a:lnTo>
                  <a:pt x="56657" y="21600"/>
                </a:lnTo>
                <a:lnTo>
                  <a:pt x="0" y="21600"/>
                </a:lnTo>
                <a:close/>
              </a:path>
              <a:path fill="lightenLess" w="56657" h="21600">
                <a:moveTo>
                  <a:pt x="0" y="0"/>
                </a:moveTo>
                <a:lnTo>
                  <a:pt x="56657" y="0"/>
                </a:lnTo>
                <a:lnTo>
                  <a:pt x="55257" y="1400"/>
                </a:lnTo>
                <a:lnTo>
                  <a:pt x="1400" y="1400"/>
                </a:lnTo>
                <a:close/>
              </a:path>
              <a:path fill="darken" w="56657" h="21600">
                <a:moveTo>
                  <a:pt x="56657" y="0"/>
                </a:moveTo>
                <a:lnTo>
                  <a:pt x="56657" y="21600"/>
                </a:lnTo>
                <a:lnTo>
                  <a:pt x="55257" y="20200"/>
                </a:lnTo>
                <a:lnTo>
                  <a:pt x="55257" y="1400"/>
                </a:lnTo>
                <a:close/>
              </a:path>
              <a:path fill="darkenLess" w="56657" h="21600">
                <a:moveTo>
                  <a:pt x="56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7" y="20200"/>
                </a:lnTo>
                <a:close/>
              </a:path>
              <a:path fill="lighten" w="56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C1F-C20C-46FE-8AC4-D4B2B21F38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春草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057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春花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春风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春雨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800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迎春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29528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220968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5029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4C8-3B16-46A0-AB1A-4690E9A73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1371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盼望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”（两个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1219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向往春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97180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近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895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拟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1828800" cy="1444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038480" y="4343400"/>
            <a:ext cx="419112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964-E1F1-49B4-8264-DB84C3E311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3809880"/>
            <a:ext cx="7010280" cy="198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380880"/>
            <a:ext cx="2666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思考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99072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从第三段找出相对应的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旺盛的生命力—（     ）色彩—（       ）质感—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覆盖面—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隶书"/>
              </a:rPr>
              <a:t>作用：这样细笔描绘，具体形象，使人有亲目所睹和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隶书"/>
              </a:rPr>
              <a:t>历其境之感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7B5-F696-492B-AEED-591CE94672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Dcp0073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71600" y="48006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3880" y="990720"/>
            <a:ext cx="685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先写树上的（               ），次写树中的（       ），再写树下遍地的（       ）；写眼前的花儿争春，又写树上（               ）；写花的（             ），又写花的（     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这样（         ）结合，（           ）结合，（          ）结合的描写，就绘出一幅色彩鲜艳的春花图，使人信佛置身于春花烂漫的美景之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natur12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2880" y="4724280"/>
            <a:ext cx="3048120" cy="1752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457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思考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021-FA85-48B9-A742-FC591BA004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09:29:06Z</dcterms:created>
  <dc:creator>wutao</dc:creator>
  <dc:description/>
  <dc:language>en-US</dc:language>
  <cp:lastModifiedBy>周璟</cp:lastModifiedBy>
  <cp:lastPrinted>1999-09-16T08:45:19Z</cp:lastPrinted>
  <dcterms:modified xsi:type="dcterms:W3CDTF">2004-10-29T07:30:51Z</dcterms:modified>
  <cp:revision>100</cp:revision>
  <dc:subject/>
  <dc:title>没有幻灯片标题</dc:title>
</cp:coreProperties>
</file>